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F64-C2C7-47D9-9546-3691D4F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A96-34B6-4090-A1B2-BD460511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8FA-3FF0-4EFA-91B2-236FB409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76F-97EB-41B3-895C-E0DFEC43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FFF-3C52-42C4-A9F6-9BA2020A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5CB7-0C37-4D27-9FF2-C000DB87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1242-61E1-446E-A421-59CCF83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4AB9-6C4D-4FE7-9C10-FB49073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7B26-B0E9-4B43-87EE-F4E3160D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9130-9930-47E2-A6CD-959BAE4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B8D7-F404-4EA2-A7FC-C6CB757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1FB-86D6-41C1-A921-D29C44D3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DAA8-968A-4AC7-8058-2B744F3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386C-2869-498C-9402-6A612A31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B8EB-4982-46BA-A478-B45D5FFD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5D7D-2052-4B76-80B7-3562F99C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C625-645A-4863-95A2-E99B3B5C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032-8C81-4639-A4F4-3C2DD480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EFD-E1A8-4765-847B-61BECF6C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8C2-E125-4A82-9E60-255B2DA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962-A0B4-4EC0-984C-D561959A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BEA-FDE9-4851-86FC-6DCD97C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AF4-B3AB-486B-97F5-F18A044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53E-819C-43D1-87A6-243C195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zigzag2" descr=""/>
          <p:cNvPicPr/>
          <p:nvPr/>
        </p:nvPicPr>
        <p:blipFill>
          <a:blip r:embed="rId2"/>
          <a:stretch/>
        </p:blipFill>
        <p:spPr>
          <a:xfrm>
            <a:off x="55440" y="228600"/>
            <a:ext cx="1616040" cy="640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48640" y="6579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177-7D8A-4A86-A3C6-5A3FE823C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es-logo4" descr=""/>
          <p:cNvPicPr/>
          <p:nvPr/>
        </p:nvPicPr>
        <p:blipFill>
          <a:blip r:embed="rId3"/>
          <a:stretch/>
        </p:blipFill>
        <p:spPr>
          <a:xfrm>
            <a:off x="8077320" y="6445080"/>
            <a:ext cx="861840" cy="277920"/>
          </a:xfrm>
          <a:prstGeom prst="rect">
            <a:avLst/>
          </a:prstGeom>
          <a:ln w="0">
            <a:noFill/>
          </a:ln>
        </p:spPr>
      </p:pic>
      <p:pic>
        <p:nvPicPr>
          <p:cNvPr id="7" name="ILO70_BU" descr=""/>
          <p:cNvPicPr/>
          <p:nvPr/>
        </p:nvPicPr>
        <p:blipFill>
          <a:blip r:embed="rId4"/>
          <a:stretch/>
        </p:blipFill>
        <p:spPr>
          <a:xfrm>
            <a:off x="7593120" y="6427800"/>
            <a:ext cx="380880" cy="33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zigzag2" descr=""/>
          <p:cNvPicPr/>
          <p:nvPr/>
        </p:nvPicPr>
        <p:blipFill>
          <a:blip r:embed="rId2"/>
          <a:stretch/>
        </p:blipFill>
        <p:spPr>
          <a:xfrm>
            <a:off x="55440" y="228600"/>
            <a:ext cx="16160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534160" y="65624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64DE-4D3D-49BE-9B3A-BE7E80521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es-logo4" descr=""/>
          <p:cNvPicPr/>
          <p:nvPr/>
        </p:nvPicPr>
        <p:blipFill>
          <a:blip r:embed="rId3"/>
          <a:stretch/>
        </p:blipFill>
        <p:spPr>
          <a:xfrm>
            <a:off x="7372440" y="6218280"/>
            <a:ext cx="156672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ILO70_BU" descr=""/>
          <p:cNvPicPr/>
          <p:nvPr/>
        </p:nvPicPr>
        <p:blipFill>
          <a:blip r:embed="rId4"/>
          <a:stretch/>
        </p:blipFill>
        <p:spPr>
          <a:xfrm>
            <a:off x="6477120" y="6188040"/>
            <a:ext cx="685800" cy="60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pturing Flexibility and Insecurity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rough Statistic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far Khan, ILO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cio-Economic Security Program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cc"/>
                </a:solidFill>
                <a:latin typeface="Times New Roman"/>
              </a:rPr>
              <a:t>Labour Market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 work activity (by time spe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tat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for w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34596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r/casual emplo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 labou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wn account work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or secondary activ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480" y="152388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F5D-A120-4E1B-9258-FA22922EAC95}" type="slidenum">
              <a:t>10</a:t>
            </a:fld>
          </a:p>
        </p:txBody>
      </p:sp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easuring Social Income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Times New Roman"/>
              </a:rPr>
              <a:t>SI = W + EB + SB + PB + C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money wage and/or money income received from different types of econo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otal value of benefits provided by the enterprise as non-wage benefits and insurance type sup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otal value of benefits provided by the state, which are taken to include citizenship benefits, insurance based income transfers and discretionary ‘means-tested’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P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tal value of benefits accruing from private income, either through investments, ownership of assets and privately contracted social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benefits accruing through a reliance on traditional communal and family suppo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A81-05A1-4D43-8415-D0A7B452172B}" type="slidenum">
              <a:t>11</a:t>
            </a:fld>
          </a:p>
        </p:txBody>
      </p:sp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ge Flexibility Loop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9880" y="1523880"/>
            <a:ext cx="2818080" cy="520920"/>
            <a:chOff x="299880" y="1523880"/>
            <a:chExt cx="2818080" cy="520920"/>
          </a:xfrm>
        </p:grpSpPr>
        <p:sp>
          <p:nvSpPr>
            <p:cNvPr id="292" name=""/>
            <p:cNvSpPr/>
            <p:nvPr/>
          </p:nvSpPr>
          <p:spPr>
            <a:xfrm>
              <a:off x="299880" y="1523880"/>
              <a:ext cx="28180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u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440" y="156528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708560" y="2044440"/>
            <a:ext cx="3161880" cy="762120"/>
            <a:chOff x="1708560" y="2044440"/>
            <a:chExt cx="3161880" cy="762120"/>
          </a:xfrm>
        </p:grpSpPr>
        <p:sp>
          <p:nvSpPr>
            <p:cNvPr id="295" name=""/>
            <p:cNvSpPr/>
            <p:nvPr/>
          </p:nvSpPr>
          <p:spPr>
            <a:xfrm>
              <a:off x="2185920" y="232740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708560" y="2044440"/>
              <a:ext cx="3161880" cy="762120"/>
              <a:chOff x="1708560" y="2044440"/>
              <a:chExt cx="3161880" cy="762120"/>
            </a:xfrm>
          </p:grpSpPr>
          <p:sp>
            <p:nvSpPr>
              <p:cNvPr id="297" name=""/>
              <p:cNvSpPr/>
              <p:nvPr/>
            </p:nvSpPr>
            <p:spPr>
              <a:xfrm>
                <a:off x="2052720" y="22860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-kind p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8" name=""/>
              <p:cNvCxnSpPr>
                <a:stCxn id="292" idx="2"/>
                <a:endCxn id="297" idx="1"/>
              </p:cNvCxnSpPr>
              <p:nvPr/>
            </p:nvCxnSpPr>
            <p:spPr>
              <a:xfrm flipH="1" rot="16200000">
                <a:off x="1629720" y="2123280"/>
                <a:ext cx="501840" cy="343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99" name=""/>
          <p:cNvGrpSpPr/>
          <p:nvPr/>
        </p:nvGrpSpPr>
        <p:grpSpPr>
          <a:xfrm>
            <a:off x="1708560" y="2044440"/>
            <a:ext cx="3161880" cy="1829160"/>
            <a:chOff x="1708560" y="2044440"/>
            <a:chExt cx="3161880" cy="1829160"/>
          </a:xfrm>
        </p:grpSpPr>
        <p:sp>
          <p:nvSpPr>
            <p:cNvPr id="300" name=""/>
            <p:cNvSpPr/>
            <p:nvPr/>
          </p:nvSpPr>
          <p:spPr>
            <a:xfrm>
              <a:off x="2185920" y="339408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708560" y="2044440"/>
              <a:ext cx="3161880" cy="1829160"/>
              <a:chOff x="1708560" y="2044440"/>
              <a:chExt cx="3161880" cy="1829160"/>
            </a:xfrm>
          </p:grpSpPr>
          <p:sp>
            <p:nvSpPr>
              <p:cNvPr id="302" name=""/>
              <p:cNvSpPr/>
              <p:nvPr/>
            </p:nvSpPr>
            <p:spPr>
              <a:xfrm>
                <a:off x="2052720" y="3352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xed w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3" name=""/>
              <p:cNvCxnSpPr>
                <a:stCxn id="292" idx="2"/>
                <a:endCxn id="302" idx="1"/>
              </p:cNvCxnSpPr>
              <p:nvPr/>
            </p:nvCxnSpPr>
            <p:spPr>
              <a:xfrm flipH="1" rot="16200000">
                <a:off x="1095840" y="2657160"/>
                <a:ext cx="1569240" cy="343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04" name=""/>
          <p:cNvGrpSpPr/>
          <p:nvPr/>
        </p:nvGrpSpPr>
        <p:grpSpPr>
          <a:xfrm>
            <a:off x="1708560" y="2044800"/>
            <a:ext cx="3161880" cy="2971800"/>
            <a:chOff x="1708560" y="2044800"/>
            <a:chExt cx="3161880" cy="2971800"/>
          </a:xfrm>
        </p:grpSpPr>
        <p:sp>
          <p:nvSpPr>
            <p:cNvPr id="305" name=""/>
            <p:cNvSpPr/>
            <p:nvPr/>
          </p:nvSpPr>
          <p:spPr>
            <a:xfrm>
              <a:off x="2185920" y="453708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708560" y="2044800"/>
              <a:ext cx="3161880" cy="2971800"/>
              <a:chOff x="1708560" y="2044800"/>
              <a:chExt cx="3161880" cy="2971800"/>
            </a:xfrm>
          </p:grpSpPr>
          <p:sp>
            <p:nvSpPr>
              <p:cNvPr id="307" name=""/>
              <p:cNvSpPr/>
              <p:nvPr/>
            </p:nvSpPr>
            <p:spPr>
              <a:xfrm>
                <a:off x="2052720" y="4495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onu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8" name=""/>
              <p:cNvCxnSpPr>
                <a:stCxn id="292" idx="2"/>
                <a:endCxn id="307" idx="1"/>
              </p:cNvCxnSpPr>
              <p:nvPr/>
            </p:nvCxnSpPr>
            <p:spPr>
              <a:xfrm flipH="1" rot="16200000">
                <a:off x="524520" y="3228840"/>
                <a:ext cx="2712240" cy="343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09" name=""/>
          <p:cNvGrpSpPr/>
          <p:nvPr/>
        </p:nvGrpSpPr>
        <p:grpSpPr>
          <a:xfrm>
            <a:off x="4870440" y="2895480"/>
            <a:ext cx="3124080" cy="717840"/>
            <a:chOff x="4870440" y="2895480"/>
            <a:chExt cx="3124080" cy="717840"/>
          </a:xfrm>
        </p:grpSpPr>
        <p:grpSp>
          <p:nvGrpSpPr>
            <p:cNvPr id="310" name=""/>
            <p:cNvGrpSpPr/>
            <p:nvPr/>
          </p:nvGrpSpPr>
          <p:grpSpPr>
            <a:xfrm>
              <a:off x="5405400" y="2895480"/>
              <a:ext cx="2589120" cy="520560"/>
              <a:chOff x="5405400" y="2895480"/>
              <a:chExt cx="2589120" cy="520560"/>
            </a:xfrm>
          </p:grpSpPr>
          <p:sp>
            <p:nvSpPr>
              <p:cNvPr id="311" name=""/>
              <p:cNvSpPr/>
              <p:nvPr/>
            </p:nvSpPr>
            <p:spPr>
              <a:xfrm>
                <a:off x="5405400" y="2895480"/>
                <a:ext cx="25891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rif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27800" y="2936520"/>
                <a:ext cx="238572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3" name=""/>
            <p:cNvCxnSpPr>
              <a:stCxn id="302" idx="3"/>
              <a:endCxn id="311" idx="1"/>
            </p:cNvCxnSpPr>
            <p:nvPr/>
          </p:nvCxnSpPr>
          <p:spPr>
            <a:xfrm flipV="1">
              <a:off x="4870440" y="3155760"/>
              <a:ext cx="535680" cy="45792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"/>
          <p:cNvGrpSpPr/>
          <p:nvPr/>
        </p:nvGrpSpPr>
        <p:grpSpPr>
          <a:xfrm>
            <a:off x="4870440" y="3612960"/>
            <a:ext cx="3124080" cy="793800"/>
            <a:chOff x="4870440" y="3612960"/>
            <a:chExt cx="3124080" cy="793800"/>
          </a:xfrm>
        </p:grpSpPr>
        <p:grpSp>
          <p:nvGrpSpPr>
            <p:cNvPr id="315" name=""/>
            <p:cNvGrpSpPr/>
            <p:nvPr/>
          </p:nvGrpSpPr>
          <p:grpSpPr>
            <a:xfrm>
              <a:off x="5405400" y="3886200"/>
              <a:ext cx="2589120" cy="520560"/>
              <a:chOff x="5405400" y="3886200"/>
              <a:chExt cx="2589120" cy="520560"/>
            </a:xfrm>
          </p:grpSpPr>
          <p:sp>
            <p:nvSpPr>
              <p:cNvPr id="316" name=""/>
              <p:cNvSpPr/>
              <p:nvPr/>
            </p:nvSpPr>
            <p:spPr>
              <a:xfrm>
                <a:off x="5405400" y="3886200"/>
                <a:ext cx="25891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llective barga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27800" y="3927240"/>
                <a:ext cx="2387520" cy="45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02" idx="3"/>
              <a:endCxn id="316" idx="1"/>
            </p:cNvCxnSpPr>
            <p:nvPr/>
          </p:nvCxnSpPr>
          <p:spPr>
            <a:xfrm>
              <a:off x="4870440" y="3612960"/>
              <a:ext cx="535680" cy="53388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9" name=""/>
          <p:cNvGrpSpPr/>
          <p:nvPr/>
        </p:nvGrpSpPr>
        <p:grpSpPr>
          <a:xfrm>
            <a:off x="376200" y="2044800"/>
            <a:ext cx="5186880" cy="4280040"/>
            <a:chOff x="376200" y="2044800"/>
            <a:chExt cx="5186880" cy="4280040"/>
          </a:xfrm>
        </p:grpSpPr>
        <p:grpSp>
          <p:nvGrpSpPr>
            <p:cNvPr id="320" name=""/>
            <p:cNvGrpSpPr/>
            <p:nvPr/>
          </p:nvGrpSpPr>
          <p:grpSpPr>
            <a:xfrm>
              <a:off x="376200" y="2044800"/>
              <a:ext cx="4646520" cy="3885840"/>
              <a:chOff x="376200" y="2044800"/>
              <a:chExt cx="4646520" cy="38858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76200" y="5410080"/>
                <a:ext cx="4646520" cy="520560"/>
                <a:chOff x="376200" y="5410080"/>
                <a:chExt cx="4646520" cy="5205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76200" y="5410080"/>
                  <a:ext cx="4646520" cy="520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Incentives, Profit share, Benefits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0120" y="5451120"/>
                  <a:ext cx="4275000" cy="457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24" name=""/>
              <p:cNvCxnSpPr>
                <a:stCxn id="292" idx="2"/>
              </p:cNvCxnSpPr>
              <p:nvPr/>
            </p:nvCxnSpPr>
            <p:spPr>
              <a:xfrm flipV="1" rot="10800000">
                <a:off x="1708920" y="2044440"/>
                <a:ext cx="1080" cy="337104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25" name=""/>
            <p:cNvCxnSpPr>
              <a:stCxn id="322" idx="3"/>
            </p:cNvCxnSpPr>
            <p:nvPr/>
          </p:nvCxnSpPr>
          <p:spPr>
            <a:xfrm>
              <a:off x="5022720" y="5670720"/>
              <a:ext cx="540720" cy="6544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6" name=""/>
          <p:cNvGrpSpPr/>
          <p:nvPr/>
        </p:nvGrpSpPr>
        <p:grpSpPr>
          <a:xfrm>
            <a:off x="7232760" y="3156120"/>
            <a:ext cx="1600200" cy="2393640"/>
            <a:chOff x="7232760" y="3156120"/>
            <a:chExt cx="1600200" cy="2393640"/>
          </a:xfrm>
        </p:grpSpPr>
        <p:sp>
          <p:nvSpPr>
            <p:cNvPr id="327" name=""/>
            <p:cNvSpPr/>
            <p:nvPr/>
          </p:nvSpPr>
          <p:spPr>
            <a:xfrm>
              <a:off x="7307280" y="5070600"/>
              <a:ext cx="147780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232760" y="3156120"/>
              <a:ext cx="1600200" cy="2393640"/>
              <a:chOff x="7232760" y="3156120"/>
              <a:chExt cx="1600200" cy="2393640"/>
            </a:xfrm>
          </p:grpSpPr>
          <p:sp>
            <p:nvSpPr>
              <p:cNvPr id="329" name=""/>
              <p:cNvSpPr/>
              <p:nvPr/>
            </p:nvSpPr>
            <p:spPr>
              <a:xfrm>
                <a:off x="7232760" y="5030640"/>
                <a:ext cx="1600200" cy="51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rea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/>
              <p:nvPr/>
            </p:nvCxnSpPr>
            <p:spPr>
              <a:xfrm>
                <a:off x="7994160" y="3156120"/>
                <a:ext cx="350280" cy="188496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31" name=""/>
              <p:cNvCxnSpPr/>
              <p:nvPr/>
            </p:nvCxnSpPr>
            <p:spPr>
              <a:xfrm>
                <a:off x="7994160" y="4146120"/>
                <a:ext cx="361080" cy="25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90A-F663-4474-A6B6-786811FAE3C6}" type="slidenum">
              <a:t>12</a:t>
            </a:fld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ge Flexibility Loop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8600" y="1447920"/>
            <a:ext cx="3122640" cy="520560"/>
            <a:chOff x="228600" y="1447920"/>
            <a:chExt cx="3122640" cy="520560"/>
          </a:xfrm>
        </p:grpSpPr>
        <p:sp>
          <p:nvSpPr>
            <p:cNvPr id="334" name=""/>
            <p:cNvSpPr/>
            <p:nvPr/>
          </p:nvSpPr>
          <p:spPr>
            <a:xfrm>
              <a:off x="228600" y="1447920"/>
              <a:ext cx="312264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uneration (cont’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6560" y="1488960"/>
              <a:ext cx="28778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790640" y="1968120"/>
            <a:ext cx="3079800" cy="838440"/>
            <a:chOff x="1790640" y="1968120"/>
            <a:chExt cx="3079800" cy="838440"/>
          </a:xfrm>
        </p:grpSpPr>
        <p:grpSp>
          <p:nvGrpSpPr>
            <p:cNvPr id="337" name=""/>
            <p:cNvGrpSpPr/>
            <p:nvPr/>
          </p:nvGrpSpPr>
          <p:grpSpPr>
            <a:xfrm>
              <a:off x="2052720" y="2286000"/>
              <a:ext cx="2817720" cy="520560"/>
              <a:chOff x="2052720" y="2286000"/>
              <a:chExt cx="2817720" cy="520560"/>
            </a:xfrm>
          </p:grpSpPr>
          <p:sp>
            <p:nvSpPr>
              <p:cNvPr id="338" name=""/>
              <p:cNvSpPr/>
              <p:nvPr/>
            </p:nvSpPr>
            <p:spPr>
              <a:xfrm>
                <a:off x="2052720" y="22860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centiv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85920" y="23274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0" name=""/>
            <p:cNvCxnSpPr>
              <a:stCxn id="334" idx="2"/>
              <a:endCxn id="338" idx="1"/>
            </p:cNvCxnSpPr>
            <p:nvPr/>
          </p:nvCxnSpPr>
          <p:spPr>
            <a:xfrm flipH="1" rot="16200000">
              <a:off x="1632600" y="2125800"/>
              <a:ext cx="578520" cy="262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41" name=""/>
          <p:cNvGrpSpPr/>
          <p:nvPr/>
        </p:nvGrpSpPr>
        <p:grpSpPr>
          <a:xfrm>
            <a:off x="1790640" y="1968120"/>
            <a:ext cx="3079800" cy="1905480"/>
            <a:chOff x="1790640" y="1968120"/>
            <a:chExt cx="3079800" cy="1905480"/>
          </a:xfrm>
        </p:grpSpPr>
        <p:grpSp>
          <p:nvGrpSpPr>
            <p:cNvPr id="342" name=""/>
            <p:cNvGrpSpPr/>
            <p:nvPr/>
          </p:nvGrpSpPr>
          <p:grpSpPr>
            <a:xfrm>
              <a:off x="2052720" y="3352680"/>
              <a:ext cx="2817720" cy="520920"/>
              <a:chOff x="2052720" y="3352680"/>
              <a:chExt cx="2817720" cy="520920"/>
            </a:xfrm>
          </p:grpSpPr>
          <p:sp>
            <p:nvSpPr>
              <p:cNvPr id="343" name=""/>
              <p:cNvSpPr/>
              <p:nvPr/>
            </p:nvSpPr>
            <p:spPr>
              <a:xfrm>
                <a:off x="2052720" y="3352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fit sh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185920" y="339408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5" name=""/>
            <p:cNvCxnSpPr>
              <a:stCxn id="334" idx="2"/>
              <a:endCxn id="343" idx="1"/>
            </p:cNvCxnSpPr>
            <p:nvPr/>
          </p:nvCxnSpPr>
          <p:spPr>
            <a:xfrm flipH="1" rot="16200000">
              <a:off x="1099080" y="2659320"/>
              <a:ext cx="1645560" cy="262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46" name=""/>
          <p:cNvGrpSpPr/>
          <p:nvPr/>
        </p:nvGrpSpPr>
        <p:grpSpPr>
          <a:xfrm>
            <a:off x="1790640" y="1968480"/>
            <a:ext cx="3079800" cy="3048120"/>
            <a:chOff x="1790640" y="1968480"/>
            <a:chExt cx="3079800" cy="3048120"/>
          </a:xfrm>
        </p:grpSpPr>
        <p:grpSp>
          <p:nvGrpSpPr>
            <p:cNvPr id="347" name=""/>
            <p:cNvGrpSpPr/>
            <p:nvPr/>
          </p:nvGrpSpPr>
          <p:grpSpPr>
            <a:xfrm>
              <a:off x="2052720" y="4495680"/>
              <a:ext cx="2817720" cy="520920"/>
              <a:chOff x="2052720" y="4495680"/>
              <a:chExt cx="2817720" cy="520920"/>
            </a:xfrm>
          </p:grpSpPr>
          <p:sp>
            <p:nvSpPr>
              <p:cNvPr id="348" name=""/>
              <p:cNvSpPr/>
              <p:nvPr/>
            </p:nvSpPr>
            <p:spPr>
              <a:xfrm>
                <a:off x="2052720" y="4495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nefi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85920" y="453708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0" name=""/>
            <p:cNvCxnSpPr>
              <a:stCxn id="334" idx="2"/>
              <a:endCxn id="348" idx="1"/>
            </p:cNvCxnSpPr>
            <p:nvPr/>
          </p:nvCxnSpPr>
          <p:spPr>
            <a:xfrm flipH="1" rot="16200000">
              <a:off x="527760" y="3231000"/>
              <a:ext cx="2788560" cy="262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51" name=""/>
          <p:cNvGrpSpPr/>
          <p:nvPr/>
        </p:nvGrpSpPr>
        <p:grpSpPr>
          <a:xfrm>
            <a:off x="2052720" y="5016240"/>
            <a:ext cx="2817720" cy="990720"/>
            <a:chOff x="2052720" y="5016240"/>
            <a:chExt cx="2817720" cy="990720"/>
          </a:xfrm>
        </p:grpSpPr>
        <p:sp>
          <p:nvSpPr>
            <p:cNvPr id="352" name=""/>
            <p:cNvSpPr/>
            <p:nvPr/>
          </p:nvSpPr>
          <p:spPr>
            <a:xfrm>
              <a:off x="2185920" y="552780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052720" y="5016240"/>
              <a:ext cx="2817720" cy="990720"/>
              <a:chOff x="2052720" y="5016240"/>
              <a:chExt cx="2817720" cy="990720"/>
            </a:xfrm>
          </p:grpSpPr>
          <p:sp>
            <p:nvSpPr>
              <p:cNvPr id="354" name=""/>
              <p:cNvSpPr/>
              <p:nvPr/>
            </p:nvSpPr>
            <p:spPr>
              <a:xfrm>
                <a:off x="2052720" y="54864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8" idx="2"/>
                <a:endCxn id="354" idx="0"/>
              </p:cNvCxnSpPr>
              <p:nvPr/>
            </p:nvCxnSpPr>
            <p:spPr>
              <a:xfrm>
                <a:off x="3462120" y="5016240"/>
                <a:ext cx="1080" cy="4705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5405400" y="3873600"/>
            <a:ext cx="2817720" cy="838080"/>
            <a:chOff x="5405400" y="3873600"/>
            <a:chExt cx="2817720" cy="838080"/>
          </a:xfrm>
        </p:grpSpPr>
        <p:grpSp>
          <p:nvGrpSpPr>
            <p:cNvPr id="357" name=""/>
            <p:cNvGrpSpPr/>
            <p:nvPr/>
          </p:nvGrpSpPr>
          <p:grpSpPr>
            <a:xfrm>
              <a:off x="5405400" y="4191120"/>
              <a:ext cx="2817720" cy="520560"/>
              <a:chOff x="5405400" y="4191120"/>
              <a:chExt cx="2817720" cy="520560"/>
            </a:xfrm>
          </p:grpSpPr>
          <p:sp>
            <p:nvSpPr>
              <p:cNvPr id="358" name=""/>
              <p:cNvSpPr/>
              <p:nvPr/>
            </p:nvSpPr>
            <p:spPr>
              <a:xfrm>
                <a:off x="5405400" y="419112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ntitle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38960" y="423216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0" name=""/>
            <p:cNvCxnSpPr>
              <a:stCxn id="361" idx="2"/>
              <a:endCxn id="358" idx="0"/>
            </p:cNvCxnSpPr>
            <p:nvPr/>
          </p:nvCxnSpPr>
          <p:spPr>
            <a:xfrm>
              <a:off x="6814800" y="3873600"/>
              <a:ext cx="1080" cy="317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2" name=""/>
          <p:cNvGrpSpPr/>
          <p:nvPr/>
        </p:nvGrpSpPr>
        <p:grpSpPr>
          <a:xfrm>
            <a:off x="4870440" y="3352680"/>
            <a:ext cx="3352680" cy="520920"/>
            <a:chOff x="4870440" y="3352680"/>
            <a:chExt cx="3352680" cy="520920"/>
          </a:xfrm>
        </p:grpSpPr>
        <p:grpSp>
          <p:nvGrpSpPr>
            <p:cNvPr id="363" name=""/>
            <p:cNvGrpSpPr/>
            <p:nvPr/>
          </p:nvGrpSpPr>
          <p:grpSpPr>
            <a:xfrm>
              <a:off x="5405400" y="3352680"/>
              <a:ext cx="2817720" cy="520920"/>
              <a:chOff x="5405400" y="3352680"/>
              <a:chExt cx="2817720" cy="520920"/>
            </a:xfrm>
          </p:grpSpPr>
          <p:sp>
            <p:nvSpPr>
              <p:cNvPr id="361" name=""/>
              <p:cNvSpPr/>
              <p:nvPr/>
            </p:nvSpPr>
            <p:spPr>
              <a:xfrm>
                <a:off x="5405400" y="3352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ype, chan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38960" y="339408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5" name=""/>
            <p:cNvCxnSpPr>
              <a:stCxn id="343" idx="3"/>
              <a:endCxn id="361" idx="1"/>
            </p:cNvCxnSpPr>
            <p:nvPr/>
          </p:nvCxnSpPr>
          <p:spPr>
            <a:xfrm>
              <a:off x="4870440" y="3612960"/>
              <a:ext cx="535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6" name=""/>
          <p:cNvGrpSpPr/>
          <p:nvPr/>
        </p:nvGrpSpPr>
        <p:grpSpPr>
          <a:xfrm>
            <a:off x="4870440" y="1600200"/>
            <a:ext cx="3352680" cy="945720"/>
            <a:chOff x="4870440" y="1600200"/>
            <a:chExt cx="3352680" cy="945720"/>
          </a:xfrm>
        </p:grpSpPr>
        <p:grpSp>
          <p:nvGrpSpPr>
            <p:cNvPr id="367" name=""/>
            <p:cNvGrpSpPr/>
            <p:nvPr/>
          </p:nvGrpSpPr>
          <p:grpSpPr>
            <a:xfrm>
              <a:off x="5405400" y="1600200"/>
              <a:ext cx="2817720" cy="520560"/>
              <a:chOff x="5405400" y="1600200"/>
              <a:chExt cx="2817720" cy="520560"/>
            </a:xfrm>
          </p:grpSpPr>
          <p:sp>
            <p:nvSpPr>
              <p:cNvPr id="368" name=""/>
              <p:cNvSpPr/>
              <p:nvPr/>
            </p:nvSpPr>
            <p:spPr>
              <a:xfrm>
                <a:off x="5405400" y="16002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net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38960" y="16416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0" name=""/>
            <p:cNvCxnSpPr>
              <a:stCxn id="338" idx="3"/>
              <a:endCxn id="368" idx="1"/>
            </p:cNvCxnSpPr>
            <p:nvPr/>
          </p:nvCxnSpPr>
          <p:spPr>
            <a:xfrm flipV="1">
              <a:off x="4870440" y="1859760"/>
              <a:ext cx="535680" cy="68652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1" name=""/>
          <p:cNvGrpSpPr/>
          <p:nvPr/>
        </p:nvGrpSpPr>
        <p:grpSpPr>
          <a:xfrm>
            <a:off x="4870440" y="2514600"/>
            <a:ext cx="3352680" cy="520560"/>
            <a:chOff x="4870440" y="2514600"/>
            <a:chExt cx="3352680" cy="520560"/>
          </a:xfrm>
        </p:grpSpPr>
        <p:grpSp>
          <p:nvGrpSpPr>
            <p:cNvPr id="372" name=""/>
            <p:cNvGrpSpPr/>
            <p:nvPr/>
          </p:nvGrpSpPr>
          <p:grpSpPr>
            <a:xfrm>
              <a:off x="5405400" y="2514600"/>
              <a:ext cx="2817720" cy="520560"/>
              <a:chOff x="5405400" y="2514600"/>
              <a:chExt cx="2817720" cy="520560"/>
            </a:xfrm>
          </p:grpSpPr>
          <p:sp>
            <p:nvSpPr>
              <p:cNvPr id="373" name=""/>
              <p:cNvSpPr/>
              <p:nvPr/>
            </p:nvSpPr>
            <p:spPr>
              <a:xfrm>
                <a:off x="5405400" y="25146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n-monet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38960" y="25560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5" name=""/>
            <p:cNvCxnSpPr>
              <a:stCxn id="338" idx="3"/>
              <a:endCxn id="373" idx="1"/>
            </p:cNvCxnSpPr>
            <p:nvPr/>
          </p:nvCxnSpPr>
          <p:spPr>
            <a:xfrm>
              <a:off x="4870440" y="2545920"/>
              <a:ext cx="535680" cy="22932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6" name=""/>
          <p:cNvGrpSpPr/>
          <p:nvPr/>
        </p:nvGrpSpPr>
        <p:grpSpPr>
          <a:xfrm>
            <a:off x="4870440" y="5486400"/>
            <a:ext cx="3352680" cy="520560"/>
            <a:chOff x="4870440" y="5486400"/>
            <a:chExt cx="3352680" cy="520560"/>
          </a:xfrm>
        </p:grpSpPr>
        <p:grpSp>
          <p:nvGrpSpPr>
            <p:cNvPr id="377" name=""/>
            <p:cNvGrpSpPr/>
            <p:nvPr/>
          </p:nvGrpSpPr>
          <p:grpSpPr>
            <a:xfrm>
              <a:off x="5405400" y="5486400"/>
              <a:ext cx="2817720" cy="520560"/>
              <a:chOff x="5405400" y="5486400"/>
              <a:chExt cx="2817720" cy="520560"/>
            </a:xfrm>
          </p:grpSpPr>
          <p:sp>
            <p:nvSpPr>
              <p:cNvPr id="378" name=""/>
              <p:cNvSpPr/>
              <p:nvPr/>
            </p:nvSpPr>
            <p:spPr>
              <a:xfrm>
                <a:off x="5405400" y="54864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% of p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38960" y="55278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54" idx="3"/>
              <a:endCxn id="378" idx="1"/>
            </p:cNvCxnSpPr>
            <p:nvPr/>
          </p:nvCxnSpPr>
          <p:spPr>
            <a:xfrm>
              <a:off x="4870440" y="5746320"/>
              <a:ext cx="535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362-5DDD-4B18-A5A2-E240A9FD2AD8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come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ity of inco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 of remun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 of payment (wage based, piece rate, job based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s (health care, maternity benefits, redundancy payments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ion entitlements, disability benefits, subsidies for schoo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480" y="152388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9EF-D22F-4930-B331-D2FC5222551D}" type="slidenum">
              <a:t>14</a:t>
            </a:fld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mployment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turn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employment structure (regular v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regula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840" y="11430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 of unem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termin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nce p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n o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ther entit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480" y="342900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5F9-0E7D-40E0-A697-3C55AD77C7B5}" type="slidenum">
              <a:t>15</a:t>
            </a:fld>
          </a:p>
        </p:txBody>
      </p:sp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-related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orking time lost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/departmen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tect work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840" y="130968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H condi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orkplace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480" y="4191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B91-A272-4A92-ADFD-E495D42950D1}" type="slidenum">
              <a:t>16</a:t>
            </a:fld>
          </a:p>
        </p:txBody>
      </p:sp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kill Reproduction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itial training, retraining, training to upgra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of trai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dizing training institu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2840" y="130968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724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raining for regular and non-regular workers (especially for informal wor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2480" y="4191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64D-F396-40AE-A041-65D2D5F82CD8}" type="slidenum">
              <a:t>17</a:t>
            </a:fld>
          </a:p>
        </p:txBody>
      </p:sp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ELFS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nd PSS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Carried Ou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67464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914400" y="1371600"/>
            <a:ext cx="7315200" cy="4946760"/>
          </a:xfrm>
          <a:prstGeom prst="roundRect">
            <a:avLst>
              <a:gd name="adj" fmla="val 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9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2C8-A652-4467-BB54-0E041D252CDE}" type="slidenum">
              <a:t>18</a:t>
            </a:fld>
          </a:p>
        </p:txBody>
      </p:sp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cerned Result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Labour Market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s grown almost globally, with much higher unemployment, slower rates of employment growth and higher labour slack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Employment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high and rising, with growing proportions of those in the labour force having insecure employment statuses and with more workers lacking employment prot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B34-3342-48A6-9917-3D71E4A24FF4}" type="slidenum">
              <a:t>19</a:t>
            </a:fld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strument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prise Labour Flexibility and Security Surveys 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stablishment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9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Security Surveys 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Individu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613-1EAC-4484-8B05-49957422EBC0}" type="slidenum">
              <a:t>2</a:t>
            </a:fld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cerned Result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Work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s become greater, due to more people being in work statuses without coverage by protective institutions and regulation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3200400"/>
            <a:ext cx="838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Job Insecurit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 worsened, with more workers having to switch jobs and learn new tricks of work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Skill Reproduction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onsiderable with flexibility, in part because skills become obsolescent more quickly and because few workers are receiving career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A1A-BD38-4560-8F0B-DDC4E9754C72}" type="slidenum">
              <a:t>20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576600" y="2541600"/>
            <a:ext cx="5040360" cy="3346560"/>
            <a:chOff x="3576600" y="2541600"/>
            <a:chExt cx="5040360" cy="3346560"/>
          </a:xfrm>
        </p:grpSpPr>
        <p:grpSp>
          <p:nvGrpSpPr>
            <p:cNvPr id="94" name=""/>
            <p:cNvGrpSpPr/>
            <p:nvPr/>
          </p:nvGrpSpPr>
          <p:grpSpPr>
            <a:xfrm>
              <a:off x="3576600" y="2541600"/>
              <a:ext cx="5040360" cy="3346560"/>
              <a:chOff x="3576600" y="2541600"/>
              <a:chExt cx="5040360" cy="3346560"/>
            </a:xfrm>
          </p:grpSpPr>
          <p:sp>
            <p:nvSpPr>
              <p:cNvPr id="95" name=""/>
              <p:cNvSpPr/>
              <p:nvPr/>
            </p:nvSpPr>
            <p:spPr>
              <a:xfrm>
                <a:off x="4572000" y="3157560"/>
                <a:ext cx="0" cy="219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576600" y="2541600"/>
                <a:ext cx="5040360" cy="3346560"/>
                <a:chOff x="3576600" y="2541600"/>
                <a:chExt cx="5040360" cy="33465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8610480" y="2548080"/>
                  <a:ext cx="0" cy="2577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8299440" y="254160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8299440" y="315108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8299440" y="391320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8299440" y="467532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4412880" y="3151080"/>
                  <a:ext cx="165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4412880" y="3913200"/>
                  <a:ext cx="165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4565520" y="5132520"/>
                  <a:ext cx="4051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576600" y="5367240"/>
                  <a:ext cx="2817720" cy="520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63504" dir="3183908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3657600" y="5410080"/>
              <a:ext cx="2603520" cy="4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fferential 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lexibility and Security Structure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2062080"/>
            <a:ext cx="3117960" cy="701640"/>
            <a:chOff x="1295280" y="2062080"/>
            <a:chExt cx="3117960" cy="701640"/>
          </a:xfrm>
        </p:grpSpPr>
        <p:grpSp>
          <p:nvGrpSpPr>
            <p:cNvPr id="109" name=""/>
            <p:cNvGrpSpPr/>
            <p:nvPr/>
          </p:nvGrpSpPr>
          <p:grpSpPr>
            <a:xfrm>
              <a:off x="1595520" y="2243160"/>
              <a:ext cx="2817720" cy="520560"/>
              <a:chOff x="1595520" y="2243160"/>
              <a:chExt cx="281772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595520" y="2243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51120" y="2286000"/>
                <a:ext cx="23526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gular Full-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2" name=""/>
            <p:cNvCxnSpPr>
              <a:endCxn id="110" idx="1"/>
            </p:cNvCxnSpPr>
            <p:nvPr/>
          </p:nvCxnSpPr>
          <p:spPr>
            <a:xfrm flipH="1" rot="16200000">
              <a:off x="1224720" y="2132640"/>
              <a:ext cx="442080" cy="300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757080" y="1557360"/>
            <a:ext cx="2818080" cy="520560"/>
            <a:chOff x="757080" y="1557360"/>
            <a:chExt cx="2818080" cy="520560"/>
          </a:xfrm>
        </p:grpSpPr>
        <p:sp>
          <p:nvSpPr>
            <p:cNvPr id="114" name=""/>
            <p:cNvSpPr/>
            <p:nvPr/>
          </p:nvSpPr>
          <p:spPr>
            <a:xfrm>
              <a:off x="757080" y="1557360"/>
              <a:ext cx="28180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0640" y="1600200"/>
              <a:ext cx="25984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2289240"/>
            <a:ext cx="3117960" cy="1160280"/>
            <a:chOff x="1295280" y="2289240"/>
            <a:chExt cx="3117960" cy="1160280"/>
          </a:xfrm>
        </p:grpSpPr>
        <p:grpSp>
          <p:nvGrpSpPr>
            <p:cNvPr id="117" name=""/>
            <p:cNvGrpSpPr/>
            <p:nvPr/>
          </p:nvGrpSpPr>
          <p:grpSpPr>
            <a:xfrm>
              <a:off x="1595520" y="2928960"/>
              <a:ext cx="2817720" cy="520560"/>
              <a:chOff x="1595520" y="2928960"/>
              <a:chExt cx="2817720" cy="520560"/>
            </a:xfrm>
          </p:grpSpPr>
          <p:sp>
            <p:nvSpPr>
              <p:cNvPr id="118" name=""/>
              <p:cNvSpPr/>
              <p:nvPr/>
            </p:nvSpPr>
            <p:spPr>
              <a:xfrm>
                <a:off x="1595520" y="29289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51120" y="2971800"/>
                <a:ext cx="23526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gular Part-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0" name=""/>
            <p:cNvCxnSpPr>
              <a:endCxn id="118" idx="1"/>
            </p:cNvCxnSpPr>
            <p:nvPr/>
          </p:nvCxnSpPr>
          <p:spPr>
            <a:xfrm flipH="1" rot="16200000">
              <a:off x="995400" y="2589120"/>
              <a:ext cx="900720" cy="300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1" name=""/>
          <p:cNvGrpSpPr/>
          <p:nvPr/>
        </p:nvGrpSpPr>
        <p:grpSpPr>
          <a:xfrm>
            <a:off x="1295280" y="2987280"/>
            <a:ext cx="3117960" cy="1224360"/>
            <a:chOff x="1295280" y="2987280"/>
            <a:chExt cx="3117960" cy="1224360"/>
          </a:xfrm>
        </p:grpSpPr>
        <p:grpSp>
          <p:nvGrpSpPr>
            <p:cNvPr id="122" name=""/>
            <p:cNvGrpSpPr/>
            <p:nvPr/>
          </p:nvGrpSpPr>
          <p:grpSpPr>
            <a:xfrm>
              <a:off x="1595520" y="3691080"/>
              <a:ext cx="2817720" cy="520560"/>
              <a:chOff x="1595520" y="3691080"/>
              <a:chExt cx="2817720" cy="520560"/>
            </a:xfrm>
          </p:grpSpPr>
          <p:sp>
            <p:nvSpPr>
              <p:cNvPr id="123" name=""/>
              <p:cNvSpPr/>
              <p:nvPr/>
            </p:nvSpPr>
            <p:spPr>
              <a:xfrm>
                <a:off x="1595520" y="369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51000" y="3733920"/>
                <a:ext cx="1754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bation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5" name=""/>
            <p:cNvCxnSpPr>
              <a:endCxn id="123" idx="1"/>
            </p:cNvCxnSpPr>
            <p:nvPr/>
          </p:nvCxnSpPr>
          <p:spPr>
            <a:xfrm flipH="1" rot="16200000">
              <a:off x="963360" y="3319200"/>
              <a:ext cx="964440" cy="300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5028120" y="1905120"/>
            <a:ext cx="3271320" cy="858600"/>
            <a:chOff x="5028120" y="1905120"/>
            <a:chExt cx="3271320" cy="858600"/>
          </a:xfrm>
        </p:grpSpPr>
        <p:grpSp>
          <p:nvGrpSpPr>
            <p:cNvPr id="127" name=""/>
            <p:cNvGrpSpPr/>
            <p:nvPr/>
          </p:nvGrpSpPr>
          <p:grpSpPr>
            <a:xfrm>
              <a:off x="5481720" y="2243160"/>
              <a:ext cx="2817720" cy="520560"/>
              <a:chOff x="5481720" y="2243160"/>
              <a:chExt cx="2817720" cy="52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5481720" y="2243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4480" y="2286000"/>
                <a:ext cx="2438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sual Tempor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0" name=""/>
            <p:cNvCxnSpPr>
              <a:endCxn id="128" idx="1"/>
            </p:cNvCxnSpPr>
            <p:nvPr/>
          </p:nvCxnSpPr>
          <p:spPr>
            <a:xfrm flipH="1" rot="16200000">
              <a:off x="4955400" y="1977840"/>
              <a:ext cx="59868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1" name=""/>
          <p:cNvGrpSpPr/>
          <p:nvPr/>
        </p:nvGrpSpPr>
        <p:grpSpPr>
          <a:xfrm>
            <a:off x="4186080" y="1557360"/>
            <a:ext cx="2818080" cy="520560"/>
            <a:chOff x="4186080" y="1557360"/>
            <a:chExt cx="2818080" cy="520560"/>
          </a:xfrm>
        </p:grpSpPr>
        <p:sp>
          <p:nvSpPr>
            <p:cNvPr id="132" name=""/>
            <p:cNvSpPr/>
            <p:nvPr/>
          </p:nvSpPr>
          <p:spPr>
            <a:xfrm>
              <a:off x="4186080" y="1557360"/>
              <a:ext cx="28180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02000" y="1600200"/>
              <a:ext cx="263232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irect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28120" y="2290680"/>
            <a:ext cx="3271320" cy="1158840"/>
            <a:chOff x="5028120" y="2290680"/>
            <a:chExt cx="3271320" cy="1158840"/>
          </a:xfrm>
        </p:grpSpPr>
        <p:grpSp>
          <p:nvGrpSpPr>
            <p:cNvPr id="135" name=""/>
            <p:cNvGrpSpPr/>
            <p:nvPr/>
          </p:nvGrpSpPr>
          <p:grpSpPr>
            <a:xfrm>
              <a:off x="5481720" y="2928960"/>
              <a:ext cx="2817720" cy="520560"/>
              <a:chOff x="5481720" y="2928960"/>
              <a:chExt cx="2817720" cy="520560"/>
            </a:xfrm>
          </p:grpSpPr>
          <p:sp>
            <p:nvSpPr>
              <p:cNvPr id="136" name=""/>
              <p:cNvSpPr/>
              <p:nvPr/>
            </p:nvSpPr>
            <p:spPr>
              <a:xfrm>
                <a:off x="5481720" y="29289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21200" y="2971800"/>
                <a:ext cx="21844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tract Lab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8" name=""/>
            <p:cNvCxnSpPr>
              <a:endCxn id="136" idx="1"/>
            </p:cNvCxnSpPr>
            <p:nvPr/>
          </p:nvCxnSpPr>
          <p:spPr>
            <a:xfrm flipH="1" rot="16200000">
              <a:off x="4805280" y="2513520"/>
              <a:ext cx="89928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028120" y="3047760"/>
            <a:ext cx="3271320" cy="1163880"/>
            <a:chOff x="5028120" y="3047760"/>
            <a:chExt cx="3271320" cy="1163880"/>
          </a:xfrm>
        </p:grpSpPr>
        <p:grpSp>
          <p:nvGrpSpPr>
            <p:cNvPr id="140" name=""/>
            <p:cNvGrpSpPr/>
            <p:nvPr/>
          </p:nvGrpSpPr>
          <p:grpSpPr>
            <a:xfrm>
              <a:off x="5481720" y="3691080"/>
              <a:ext cx="2817720" cy="520560"/>
              <a:chOff x="5481720" y="3691080"/>
              <a:chExt cx="2817720" cy="520560"/>
            </a:xfrm>
          </p:grpSpPr>
          <p:sp>
            <p:nvSpPr>
              <p:cNvPr id="141" name=""/>
              <p:cNvSpPr/>
              <p:nvPr/>
            </p:nvSpPr>
            <p:spPr>
              <a:xfrm>
                <a:off x="5481720" y="369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15080" y="3733920"/>
                <a:ext cx="219384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-contrac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3" name=""/>
            <p:cNvCxnSpPr>
              <a:endCxn id="141" idx="1"/>
            </p:cNvCxnSpPr>
            <p:nvPr/>
          </p:nvCxnSpPr>
          <p:spPr>
            <a:xfrm flipH="1" rot="16200000">
              <a:off x="4802760" y="3273120"/>
              <a:ext cx="90396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5028120" y="3809520"/>
            <a:ext cx="3271320" cy="1164240"/>
            <a:chOff x="5028120" y="3809520"/>
            <a:chExt cx="3271320" cy="1164240"/>
          </a:xfrm>
        </p:grpSpPr>
        <p:grpSp>
          <p:nvGrpSpPr>
            <p:cNvPr id="145" name=""/>
            <p:cNvGrpSpPr/>
            <p:nvPr/>
          </p:nvGrpSpPr>
          <p:grpSpPr>
            <a:xfrm>
              <a:off x="5481720" y="4452840"/>
              <a:ext cx="2817720" cy="520920"/>
              <a:chOff x="5481720" y="4452840"/>
              <a:chExt cx="2817720" cy="520920"/>
            </a:xfrm>
          </p:grpSpPr>
          <p:sp>
            <p:nvSpPr>
              <p:cNvPr id="146" name=""/>
              <p:cNvSpPr/>
              <p:nvPr/>
            </p:nvSpPr>
            <p:spPr>
              <a:xfrm>
                <a:off x="5481720" y="445284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88160" y="4495680"/>
                <a:ext cx="2050920" cy="45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 Work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8" name=""/>
            <p:cNvCxnSpPr>
              <a:endCxn id="146" idx="1"/>
            </p:cNvCxnSpPr>
            <p:nvPr/>
          </p:nvCxnSpPr>
          <p:spPr>
            <a:xfrm flipH="1" rot="16200000">
              <a:off x="4802760" y="4034880"/>
              <a:ext cx="90396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9FD-1993-4B5F-8E0E-CB1FF22DB199}" type="slidenum">
              <a:t>3</a:t>
            </a:fld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lexibility and Security Structure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162240" y="1523880"/>
            <a:ext cx="2817720" cy="520560"/>
            <a:chOff x="3162240" y="1523880"/>
            <a:chExt cx="2817720" cy="520560"/>
          </a:xfrm>
        </p:grpSpPr>
        <p:sp>
          <p:nvSpPr>
            <p:cNvPr id="151" name=""/>
            <p:cNvSpPr/>
            <p:nvPr/>
          </p:nvSpPr>
          <p:spPr>
            <a:xfrm>
              <a:off x="3162240" y="1523880"/>
              <a:ext cx="281772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87520" y="1593720"/>
              <a:ext cx="265284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fferential 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2000" y="2044440"/>
            <a:ext cx="3422520" cy="692280"/>
            <a:chOff x="4572000" y="2044440"/>
            <a:chExt cx="3422520" cy="692280"/>
          </a:xfrm>
        </p:grpSpPr>
        <p:grpSp>
          <p:nvGrpSpPr>
            <p:cNvPr id="154" name=""/>
            <p:cNvGrpSpPr/>
            <p:nvPr/>
          </p:nvGrpSpPr>
          <p:grpSpPr>
            <a:xfrm>
              <a:off x="5176800" y="2216160"/>
              <a:ext cx="2817720" cy="520560"/>
              <a:chOff x="5176800" y="2216160"/>
              <a:chExt cx="2817720" cy="520560"/>
            </a:xfrm>
          </p:grpSpPr>
          <p:sp>
            <p:nvSpPr>
              <p:cNvPr id="155" name=""/>
              <p:cNvSpPr/>
              <p:nvPr/>
            </p:nvSpPr>
            <p:spPr>
              <a:xfrm>
                <a:off x="5176800" y="2216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59280" y="2259000"/>
                <a:ext cx="16956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7" name=""/>
            <p:cNvCxnSpPr>
              <a:stCxn id="151" idx="2"/>
              <a:endCxn id="155" idx="1"/>
            </p:cNvCxnSpPr>
            <p:nvPr/>
          </p:nvCxnSpPr>
          <p:spPr>
            <a:xfrm flipH="1" rot="16200000">
              <a:off x="4658400" y="1957680"/>
              <a:ext cx="43236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8" name=""/>
          <p:cNvGrpSpPr/>
          <p:nvPr/>
        </p:nvGrpSpPr>
        <p:grpSpPr>
          <a:xfrm>
            <a:off x="833400" y="2044440"/>
            <a:ext cx="3738600" cy="768600"/>
            <a:chOff x="833400" y="2044440"/>
            <a:chExt cx="3738600" cy="768600"/>
          </a:xfrm>
        </p:grpSpPr>
        <p:grpSp>
          <p:nvGrpSpPr>
            <p:cNvPr id="159" name=""/>
            <p:cNvGrpSpPr/>
            <p:nvPr/>
          </p:nvGrpSpPr>
          <p:grpSpPr>
            <a:xfrm>
              <a:off x="833400" y="2292480"/>
              <a:ext cx="2817720" cy="520560"/>
              <a:chOff x="833400" y="2292480"/>
              <a:chExt cx="2817720" cy="520560"/>
            </a:xfrm>
          </p:grpSpPr>
          <p:sp>
            <p:nvSpPr>
              <p:cNvPr id="160" name=""/>
              <p:cNvSpPr/>
              <p:nvPr/>
            </p:nvSpPr>
            <p:spPr>
              <a:xfrm>
                <a:off x="833400" y="22924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60400" y="2335320"/>
                <a:ext cx="10098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ag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2" name=""/>
            <p:cNvCxnSpPr>
              <a:stCxn id="151" idx="2"/>
              <a:endCxn id="160" idx="3"/>
            </p:cNvCxnSpPr>
            <p:nvPr/>
          </p:nvCxnSpPr>
          <p:spPr>
            <a:xfrm rot="5400000">
              <a:off x="3857040" y="1838160"/>
              <a:ext cx="50868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3" name=""/>
          <p:cNvGrpSpPr/>
          <p:nvPr/>
        </p:nvGrpSpPr>
        <p:grpSpPr>
          <a:xfrm>
            <a:off x="833400" y="2044800"/>
            <a:ext cx="3738600" cy="1530360"/>
            <a:chOff x="833400" y="2044800"/>
            <a:chExt cx="3738600" cy="1530360"/>
          </a:xfrm>
        </p:grpSpPr>
        <p:grpSp>
          <p:nvGrpSpPr>
            <p:cNvPr id="164" name=""/>
            <p:cNvGrpSpPr/>
            <p:nvPr/>
          </p:nvGrpSpPr>
          <p:grpSpPr>
            <a:xfrm>
              <a:off x="833400" y="3054240"/>
              <a:ext cx="2817720" cy="520920"/>
              <a:chOff x="833400" y="3054240"/>
              <a:chExt cx="2817720" cy="520920"/>
            </a:xfrm>
          </p:grpSpPr>
          <p:sp>
            <p:nvSpPr>
              <p:cNvPr id="165" name=""/>
              <p:cNvSpPr/>
              <p:nvPr/>
            </p:nvSpPr>
            <p:spPr>
              <a:xfrm>
                <a:off x="833400" y="305424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68600" y="3097080"/>
                <a:ext cx="1195200" cy="45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nefi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7" name=""/>
            <p:cNvCxnSpPr>
              <a:stCxn id="151" idx="2"/>
              <a:endCxn id="165" idx="3"/>
            </p:cNvCxnSpPr>
            <p:nvPr/>
          </p:nvCxnSpPr>
          <p:spPr>
            <a:xfrm rot="5400000">
              <a:off x="3475800" y="2219400"/>
              <a:ext cx="127080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833400" y="2044800"/>
            <a:ext cx="3738600" cy="2292120"/>
            <a:chOff x="833400" y="2044800"/>
            <a:chExt cx="3738600" cy="2292120"/>
          </a:xfrm>
        </p:grpSpPr>
        <p:grpSp>
          <p:nvGrpSpPr>
            <p:cNvPr id="169" name=""/>
            <p:cNvGrpSpPr/>
            <p:nvPr/>
          </p:nvGrpSpPr>
          <p:grpSpPr>
            <a:xfrm>
              <a:off x="833400" y="3816360"/>
              <a:ext cx="2817720" cy="520560"/>
              <a:chOff x="833400" y="3816360"/>
              <a:chExt cx="2817720" cy="520560"/>
            </a:xfrm>
          </p:grpSpPr>
          <p:sp>
            <p:nvSpPr>
              <p:cNvPr id="170" name=""/>
              <p:cNvSpPr/>
              <p:nvPr/>
            </p:nvSpPr>
            <p:spPr>
              <a:xfrm>
                <a:off x="833400" y="38163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73240" y="3859200"/>
                <a:ext cx="21844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come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2" name=""/>
            <p:cNvCxnSpPr>
              <a:stCxn id="151" idx="2"/>
              <a:endCxn id="170" idx="3"/>
            </p:cNvCxnSpPr>
            <p:nvPr/>
          </p:nvCxnSpPr>
          <p:spPr>
            <a:xfrm rot="5400000">
              <a:off x="3095280" y="2600280"/>
              <a:ext cx="203220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833400" y="2044440"/>
            <a:ext cx="3738600" cy="3130920"/>
            <a:chOff x="833400" y="2044440"/>
            <a:chExt cx="3738600" cy="3130920"/>
          </a:xfrm>
        </p:grpSpPr>
        <p:grpSp>
          <p:nvGrpSpPr>
            <p:cNvPr id="174" name=""/>
            <p:cNvGrpSpPr/>
            <p:nvPr/>
          </p:nvGrpSpPr>
          <p:grpSpPr>
            <a:xfrm>
              <a:off x="833400" y="4654440"/>
              <a:ext cx="2817720" cy="520920"/>
              <a:chOff x="833400" y="4654440"/>
              <a:chExt cx="281772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833400" y="465444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14400" y="4724280"/>
                <a:ext cx="26668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mployment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7" name=""/>
            <p:cNvCxnSpPr>
              <a:stCxn id="151" idx="2"/>
              <a:endCxn id="175" idx="3"/>
            </p:cNvCxnSpPr>
            <p:nvPr/>
          </p:nvCxnSpPr>
          <p:spPr>
            <a:xfrm rot="5400000">
              <a:off x="2675880" y="3018960"/>
              <a:ext cx="287064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"/>
          <p:cNvGrpSpPr/>
          <p:nvPr/>
        </p:nvGrpSpPr>
        <p:grpSpPr>
          <a:xfrm>
            <a:off x="4572000" y="2044440"/>
            <a:ext cx="3422520" cy="1835280"/>
            <a:chOff x="4572000" y="2044440"/>
            <a:chExt cx="3422520" cy="1835280"/>
          </a:xfrm>
        </p:grpSpPr>
        <p:grpSp>
          <p:nvGrpSpPr>
            <p:cNvPr id="179" name=""/>
            <p:cNvGrpSpPr/>
            <p:nvPr/>
          </p:nvGrpSpPr>
          <p:grpSpPr>
            <a:xfrm>
              <a:off x="5176800" y="2978280"/>
              <a:ext cx="2817720" cy="901440"/>
              <a:chOff x="5176800" y="2978280"/>
              <a:chExt cx="2817720" cy="901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176800" y="2978280"/>
                <a:ext cx="2817720" cy="90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27640" y="3021120"/>
                <a:ext cx="2565360" cy="81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kill Reproduction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2" name=""/>
            <p:cNvCxnSpPr>
              <a:stCxn id="151" idx="2"/>
              <a:endCxn id="180" idx="1"/>
            </p:cNvCxnSpPr>
            <p:nvPr/>
          </p:nvCxnSpPr>
          <p:spPr>
            <a:xfrm flipH="1" rot="16200000">
              <a:off x="4182120" y="2433960"/>
              <a:ext cx="138492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4572000" y="2044800"/>
            <a:ext cx="3422520" cy="2977920"/>
            <a:chOff x="4572000" y="2044800"/>
            <a:chExt cx="3422520" cy="2977920"/>
          </a:xfrm>
        </p:grpSpPr>
        <p:grpSp>
          <p:nvGrpSpPr>
            <p:cNvPr id="184" name=""/>
            <p:cNvGrpSpPr/>
            <p:nvPr/>
          </p:nvGrpSpPr>
          <p:grpSpPr>
            <a:xfrm>
              <a:off x="5176800" y="4121280"/>
              <a:ext cx="2817720" cy="901440"/>
              <a:chOff x="5176800" y="4121280"/>
              <a:chExt cx="2817720" cy="901440"/>
            </a:xfrm>
          </p:grpSpPr>
          <p:sp>
            <p:nvSpPr>
              <p:cNvPr id="185" name=""/>
              <p:cNvSpPr/>
              <p:nvPr/>
            </p:nvSpPr>
            <p:spPr>
              <a:xfrm>
                <a:off x="5176800" y="4121280"/>
                <a:ext cx="2817720" cy="90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7400" y="4164120"/>
                <a:ext cx="2082600" cy="81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presentation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7" name=""/>
            <p:cNvCxnSpPr>
              <a:stCxn id="151" idx="2"/>
              <a:endCxn id="185" idx="1"/>
            </p:cNvCxnSpPr>
            <p:nvPr/>
          </p:nvCxnSpPr>
          <p:spPr>
            <a:xfrm flipH="1" rot="16200000">
              <a:off x="3610800" y="3005640"/>
              <a:ext cx="252792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4572000" y="2044800"/>
            <a:ext cx="3422520" cy="3740040"/>
            <a:chOff x="4572000" y="2044800"/>
            <a:chExt cx="3422520" cy="3740040"/>
          </a:xfrm>
        </p:grpSpPr>
        <p:grpSp>
          <p:nvGrpSpPr>
            <p:cNvPr id="189" name=""/>
            <p:cNvGrpSpPr/>
            <p:nvPr/>
          </p:nvGrpSpPr>
          <p:grpSpPr>
            <a:xfrm>
              <a:off x="5176800" y="5264280"/>
              <a:ext cx="2817720" cy="520560"/>
              <a:chOff x="5176800" y="5264280"/>
              <a:chExt cx="2817720" cy="520560"/>
            </a:xfrm>
          </p:grpSpPr>
          <p:sp>
            <p:nvSpPr>
              <p:cNvPr id="190" name=""/>
              <p:cNvSpPr/>
              <p:nvPr/>
            </p:nvSpPr>
            <p:spPr>
              <a:xfrm>
                <a:off x="5176800" y="52642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24640" y="5307120"/>
                <a:ext cx="196524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ork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stCxn id="151" idx="2"/>
              <a:endCxn id="190" idx="1"/>
            </p:cNvCxnSpPr>
            <p:nvPr/>
          </p:nvCxnSpPr>
          <p:spPr>
            <a:xfrm flipH="1" rot="16200000">
              <a:off x="3134520" y="3481920"/>
              <a:ext cx="348048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C29-D308-4669-AB15-1A186C526C96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stitutional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reorientation of regulatory system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er emphasis on individual freedom and less on collective action or prot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2004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Times New Roman"/>
              </a:rPr>
              <a:t>Technological chan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celerating changes in product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king multi-site production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king decentralization and out-sourcing more feasible and profi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re op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bour arrangements, payment system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6EA-6CAC-49AF-AC5A-56377B15E0DB}" type="slidenum">
              <a:t>5</a:t>
            </a:fld>
          </a:p>
        </p:txBody>
      </p: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erceived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3300"/>
                </a:solidFill>
                <a:latin typeface="Times New Roman"/>
              </a:rPr>
              <a:t>Global informaliz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economic activity, involving a spread of forms of labour and work not covered by protective regulatory and social protection system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3300"/>
                </a:solidFill>
                <a:latin typeface="Times New Roman"/>
              </a:rPr>
              <a:t>Global growth of flexible production and labour marke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linked in part to the technological change and globalization, and involving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35D-E4F8-4170-B676-630DA7AC5900}" type="slidenum">
              <a:t>6</a:t>
            </a:fld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erceived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-528120"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Organizational flexi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turnover of firms, more use of sub-contracting and production chains, and a tendency to contract the employment functio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35268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Numerical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use of external labour, such as contract workers, outworkers, homeworkers, agency labour, temporary workers, and telework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Functional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eater change in work tasks, job rotation, and ski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4B2-597F-4C5B-BC91-2B5BC04E46B7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erceived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Working time flexi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continuous working, flexible hours, etc.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Wage system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shift from fixed to flexible wages, monetization of remuneration, greater use of bonuses, etc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Labour forc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s attachment to sectors, companies or occupational groups, erosion of collective labour, and greater tendency for workers to move in and out of the labour market and labour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65C-CBFB-41D9-85BF-C5C52A023E02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Enterprise Labour Marke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57080" y="1371600"/>
            <a:ext cx="3814560" cy="984240"/>
            <a:chOff x="757080" y="1371600"/>
            <a:chExt cx="3814560" cy="984240"/>
          </a:xfrm>
        </p:grpSpPr>
        <p:grpSp>
          <p:nvGrpSpPr>
            <p:cNvPr id="207" name=""/>
            <p:cNvGrpSpPr/>
            <p:nvPr/>
          </p:nvGrpSpPr>
          <p:grpSpPr>
            <a:xfrm>
              <a:off x="757080" y="1835280"/>
              <a:ext cx="2818080" cy="520560"/>
              <a:chOff x="757080" y="1835280"/>
              <a:chExt cx="2818080" cy="520560"/>
            </a:xfrm>
          </p:grpSpPr>
          <p:sp>
            <p:nvSpPr>
              <p:cNvPr id="208" name=""/>
              <p:cNvSpPr/>
              <p:nvPr/>
            </p:nvSpPr>
            <p:spPr>
              <a:xfrm>
                <a:off x="757080" y="1835280"/>
                <a:ext cx="28180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0640" y="1878120"/>
                <a:ext cx="25984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rect Employ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05" idx="2"/>
              <a:endCxn id="208" idx="0"/>
            </p:cNvCxnSpPr>
            <p:nvPr/>
          </p:nvCxnSpPr>
          <p:spPr>
            <a:xfrm rot="5400000">
              <a:off x="3136680" y="400680"/>
              <a:ext cx="464400" cy="2405880"/>
            </a:xfrm>
            <a:prstGeom prst="bentConnector3">
              <a:avLst>
                <a:gd name="adj1" fmla="val 4926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2433600" y="1371240"/>
            <a:ext cx="2817720" cy="1670400"/>
            <a:chOff x="2433600" y="1371240"/>
            <a:chExt cx="2817720" cy="1670400"/>
          </a:xfrm>
        </p:grpSpPr>
        <p:grpSp>
          <p:nvGrpSpPr>
            <p:cNvPr id="212" name=""/>
            <p:cNvGrpSpPr/>
            <p:nvPr/>
          </p:nvGrpSpPr>
          <p:grpSpPr>
            <a:xfrm>
              <a:off x="2433600" y="2521080"/>
              <a:ext cx="2817720" cy="520560"/>
              <a:chOff x="2433600" y="2521080"/>
              <a:chExt cx="2817720" cy="520560"/>
            </a:xfrm>
          </p:grpSpPr>
          <p:sp>
            <p:nvSpPr>
              <p:cNvPr id="213" name=""/>
              <p:cNvSpPr/>
              <p:nvPr/>
            </p:nvSpPr>
            <p:spPr>
              <a:xfrm>
                <a:off x="2433600" y="252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0560" y="2563920"/>
                <a:ext cx="219024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tract Lab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5" name=""/>
            <p:cNvCxnSpPr>
              <a:stCxn id="205" idx="2"/>
              <a:endCxn id="213" idx="0"/>
            </p:cNvCxnSpPr>
            <p:nvPr/>
          </p:nvCxnSpPr>
          <p:spPr>
            <a:xfrm rot="5400000">
              <a:off x="3632400" y="1581840"/>
              <a:ext cx="1150200" cy="729360"/>
            </a:xfrm>
            <a:prstGeom prst="bentConnector3">
              <a:avLst>
                <a:gd name="adj1" fmla="val 2000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" name=""/>
          <p:cNvGrpSpPr/>
          <p:nvPr/>
        </p:nvGrpSpPr>
        <p:grpSpPr>
          <a:xfrm>
            <a:off x="4414680" y="1371600"/>
            <a:ext cx="2818080" cy="984240"/>
            <a:chOff x="4414680" y="1371600"/>
            <a:chExt cx="2818080" cy="984240"/>
          </a:xfrm>
        </p:grpSpPr>
        <p:grpSp>
          <p:nvGrpSpPr>
            <p:cNvPr id="217" name=""/>
            <p:cNvGrpSpPr/>
            <p:nvPr/>
          </p:nvGrpSpPr>
          <p:grpSpPr>
            <a:xfrm>
              <a:off x="4414680" y="1835280"/>
              <a:ext cx="2818080" cy="520560"/>
              <a:chOff x="4414680" y="1835280"/>
              <a:chExt cx="2818080" cy="520560"/>
            </a:xfrm>
          </p:grpSpPr>
          <p:sp>
            <p:nvSpPr>
              <p:cNvPr id="218" name=""/>
              <p:cNvSpPr/>
              <p:nvPr/>
            </p:nvSpPr>
            <p:spPr>
              <a:xfrm>
                <a:off x="4414680" y="1835280"/>
                <a:ext cx="28180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79720" y="1878120"/>
                <a:ext cx="21322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-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ntrac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0" name=""/>
            <p:cNvCxnSpPr>
              <a:stCxn id="205" idx="2"/>
              <a:endCxn id="218" idx="0"/>
            </p:cNvCxnSpPr>
            <p:nvPr/>
          </p:nvCxnSpPr>
          <p:spPr>
            <a:xfrm flipH="1" rot="16200000">
              <a:off x="4965480" y="977040"/>
              <a:ext cx="464400" cy="1253160"/>
            </a:xfrm>
            <a:prstGeom prst="bentConnector3">
              <a:avLst>
                <a:gd name="adj1" fmla="val 4996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1" name=""/>
          <p:cNvGrpSpPr/>
          <p:nvPr/>
        </p:nvGrpSpPr>
        <p:grpSpPr>
          <a:xfrm>
            <a:off x="4572000" y="1371240"/>
            <a:ext cx="4265640" cy="1670400"/>
            <a:chOff x="4572000" y="1371240"/>
            <a:chExt cx="4265640" cy="1670400"/>
          </a:xfrm>
        </p:grpSpPr>
        <p:grpSp>
          <p:nvGrpSpPr>
            <p:cNvPr id="222" name=""/>
            <p:cNvGrpSpPr/>
            <p:nvPr/>
          </p:nvGrpSpPr>
          <p:grpSpPr>
            <a:xfrm>
              <a:off x="6019920" y="2521080"/>
              <a:ext cx="2817720" cy="520560"/>
              <a:chOff x="6019920" y="2521080"/>
              <a:chExt cx="2817720" cy="520560"/>
            </a:xfrm>
          </p:grpSpPr>
          <p:sp>
            <p:nvSpPr>
              <p:cNvPr id="223" name=""/>
              <p:cNvSpPr/>
              <p:nvPr/>
            </p:nvSpPr>
            <p:spPr>
              <a:xfrm>
                <a:off x="6019920" y="252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67400" y="2563920"/>
                <a:ext cx="196920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sual Lab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5" name=""/>
            <p:cNvCxnSpPr>
              <a:stCxn id="205" idx="2"/>
              <a:endCxn id="223" idx="0"/>
            </p:cNvCxnSpPr>
            <p:nvPr/>
          </p:nvCxnSpPr>
          <p:spPr>
            <a:xfrm flipH="1" rot="16200000">
              <a:off x="5425920" y="516960"/>
              <a:ext cx="1150200" cy="2858400"/>
            </a:xfrm>
            <a:prstGeom prst="bentConnector3">
              <a:avLst>
                <a:gd name="adj1" fmla="val 2000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6" name=""/>
          <p:cNvGrpSpPr/>
          <p:nvPr/>
        </p:nvGrpSpPr>
        <p:grpSpPr>
          <a:xfrm>
            <a:off x="2165760" y="2355480"/>
            <a:ext cx="2018880" cy="1600560"/>
            <a:chOff x="2165760" y="2355480"/>
            <a:chExt cx="2018880" cy="1600560"/>
          </a:xfrm>
        </p:grpSpPr>
        <p:grpSp>
          <p:nvGrpSpPr>
            <p:cNvPr id="227" name=""/>
            <p:cNvGrpSpPr/>
            <p:nvPr/>
          </p:nvGrpSpPr>
          <p:grpSpPr>
            <a:xfrm>
              <a:off x="2216160" y="3435480"/>
              <a:ext cx="1968480" cy="520560"/>
              <a:chOff x="2216160" y="3435480"/>
              <a:chExt cx="1968480" cy="520560"/>
            </a:xfrm>
          </p:grpSpPr>
          <p:sp>
            <p:nvSpPr>
              <p:cNvPr id="228" name=""/>
              <p:cNvSpPr/>
              <p:nvPr/>
            </p:nvSpPr>
            <p:spPr>
              <a:xfrm>
                <a:off x="2216160" y="3435480"/>
                <a:ext cx="19684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52240" y="3478320"/>
                <a:ext cx="169164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crui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0" name=""/>
            <p:cNvCxnSpPr>
              <a:stCxn id="208" idx="2"/>
              <a:endCxn id="228" idx="0"/>
            </p:cNvCxnSpPr>
            <p:nvPr/>
          </p:nvCxnSpPr>
          <p:spPr>
            <a:xfrm flipH="1" rot="16200000">
              <a:off x="2142360" y="2378520"/>
              <a:ext cx="1080360" cy="1033920"/>
            </a:xfrm>
            <a:prstGeom prst="bentConnector3">
              <a:avLst>
                <a:gd name="adj1" fmla="val 788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1" name=""/>
          <p:cNvGrpSpPr/>
          <p:nvPr/>
        </p:nvGrpSpPr>
        <p:grpSpPr>
          <a:xfrm>
            <a:off x="2216160" y="3956040"/>
            <a:ext cx="1968480" cy="762120"/>
            <a:chOff x="2216160" y="3956040"/>
            <a:chExt cx="1968480" cy="762120"/>
          </a:xfrm>
        </p:grpSpPr>
        <p:grpSp>
          <p:nvGrpSpPr>
            <p:cNvPr id="232" name=""/>
            <p:cNvGrpSpPr/>
            <p:nvPr/>
          </p:nvGrpSpPr>
          <p:grpSpPr>
            <a:xfrm>
              <a:off x="2216160" y="4197240"/>
              <a:ext cx="1968480" cy="520920"/>
              <a:chOff x="2216160" y="4197240"/>
              <a:chExt cx="1968480" cy="520920"/>
            </a:xfrm>
          </p:grpSpPr>
          <p:sp>
            <p:nvSpPr>
              <p:cNvPr id="233" name=""/>
              <p:cNvSpPr/>
              <p:nvPr/>
            </p:nvSpPr>
            <p:spPr>
              <a:xfrm>
                <a:off x="2216160" y="4197240"/>
                <a:ext cx="196848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12800" y="4240080"/>
                <a:ext cx="136872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b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8" idx="2"/>
              <a:endCxn id="233" idx="0"/>
            </p:cNvCxnSpPr>
            <p:nvPr/>
          </p:nvCxnSpPr>
          <p:spPr>
            <a:xfrm>
              <a:off x="3200040" y="3956040"/>
              <a:ext cx="1080" cy="24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"/>
          <p:cNvGrpSpPr/>
          <p:nvPr/>
        </p:nvGrpSpPr>
        <p:grpSpPr>
          <a:xfrm>
            <a:off x="2216160" y="4718160"/>
            <a:ext cx="1968480" cy="761760"/>
            <a:chOff x="2216160" y="4718160"/>
            <a:chExt cx="1968480" cy="761760"/>
          </a:xfrm>
        </p:grpSpPr>
        <p:grpSp>
          <p:nvGrpSpPr>
            <p:cNvPr id="237" name=""/>
            <p:cNvGrpSpPr/>
            <p:nvPr/>
          </p:nvGrpSpPr>
          <p:grpSpPr>
            <a:xfrm>
              <a:off x="2216160" y="4959360"/>
              <a:ext cx="1968480" cy="520560"/>
              <a:chOff x="2216160" y="4959360"/>
              <a:chExt cx="1968480" cy="520560"/>
            </a:xfrm>
          </p:grpSpPr>
          <p:sp>
            <p:nvSpPr>
              <p:cNvPr id="238" name=""/>
              <p:cNvSpPr/>
              <p:nvPr/>
            </p:nvSpPr>
            <p:spPr>
              <a:xfrm>
                <a:off x="2216160" y="4959360"/>
                <a:ext cx="19684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82280" y="5002200"/>
                <a:ext cx="123300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in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2"/>
              <a:endCxn id="238" idx="0"/>
            </p:cNvCxnSpPr>
            <p:nvPr/>
          </p:nvCxnSpPr>
          <p:spPr>
            <a:xfrm>
              <a:off x="3200040" y="4718160"/>
              <a:ext cx="1080" cy="24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1" name=""/>
          <p:cNvGrpSpPr/>
          <p:nvPr/>
        </p:nvGrpSpPr>
        <p:grpSpPr>
          <a:xfrm>
            <a:off x="2216160" y="5479560"/>
            <a:ext cx="1968480" cy="762480"/>
            <a:chOff x="2216160" y="5479560"/>
            <a:chExt cx="1968480" cy="762480"/>
          </a:xfrm>
        </p:grpSpPr>
        <p:grpSp>
          <p:nvGrpSpPr>
            <p:cNvPr id="242" name=""/>
            <p:cNvGrpSpPr/>
            <p:nvPr/>
          </p:nvGrpSpPr>
          <p:grpSpPr>
            <a:xfrm>
              <a:off x="2216160" y="5721480"/>
              <a:ext cx="1968480" cy="520560"/>
              <a:chOff x="2216160" y="5721480"/>
              <a:chExt cx="1968480" cy="520560"/>
            </a:xfrm>
          </p:grpSpPr>
          <p:sp>
            <p:nvSpPr>
              <p:cNvPr id="243" name=""/>
              <p:cNvSpPr/>
              <p:nvPr/>
            </p:nvSpPr>
            <p:spPr>
              <a:xfrm>
                <a:off x="2216160" y="5721480"/>
                <a:ext cx="19684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40520" y="5764320"/>
                <a:ext cx="13168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urn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5" name=""/>
            <p:cNvCxnSpPr>
              <a:stCxn id="238" idx="2"/>
              <a:endCxn id="243" idx="0"/>
            </p:cNvCxnSpPr>
            <p:nvPr/>
          </p:nvCxnSpPr>
          <p:spPr>
            <a:xfrm>
              <a:off x="3200040" y="5479560"/>
              <a:ext cx="1080" cy="242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6" name=""/>
          <p:cNvGrpSpPr/>
          <p:nvPr/>
        </p:nvGrpSpPr>
        <p:grpSpPr>
          <a:xfrm>
            <a:off x="4184280" y="4121280"/>
            <a:ext cx="2057760" cy="1098360"/>
            <a:chOff x="4184280" y="4121280"/>
            <a:chExt cx="2057760" cy="1098360"/>
          </a:xfrm>
        </p:grpSpPr>
        <p:grpSp>
          <p:nvGrpSpPr>
            <p:cNvPr id="247" name=""/>
            <p:cNvGrpSpPr/>
            <p:nvPr/>
          </p:nvGrpSpPr>
          <p:grpSpPr>
            <a:xfrm>
              <a:off x="4654440" y="4121280"/>
              <a:ext cx="1587600" cy="520560"/>
              <a:chOff x="4654440" y="4121280"/>
              <a:chExt cx="1587600" cy="520560"/>
            </a:xfrm>
          </p:grpSpPr>
          <p:sp>
            <p:nvSpPr>
              <p:cNvPr id="248" name=""/>
              <p:cNvSpPr/>
              <p:nvPr/>
            </p:nvSpPr>
            <p:spPr>
              <a:xfrm>
                <a:off x="4654440" y="4121280"/>
                <a:ext cx="158760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78200" y="4210200"/>
                <a:ext cx="1548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itial train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0" name=""/>
            <p:cNvCxnSpPr>
              <a:stCxn id="238" idx="3"/>
              <a:endCxn id="248" idx="1"/>
            </p:cNvCxnSpPr>
            <p:nvPr/>
          </p:nvCxnSpPr>
          <p:spPr>
            <a:xfrm flipV="1">
              <a:off x="4184280" y="4381200"/>
              <a:ext cx="470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1" name=""/>
          <p:cNvGrpSpPr/>
          <p:nvPr/>
        </p:nvGrpSpPr>
        <p:grpSpPr>
          <a:xfrm>
            <a:off x="4654440" y="4641840"/>
            <a:ext cx="1587600" cy="762120"/>
            <a:chOff x="4654440" y="4641840"/>
            <a:chExt cx="1587600" cy="762120"/>
          </a:xfrm>
        </p:grpSpPr>
        <p:grpSp>
          <p:nvGrpSpPr>
            <p:cNvPr id="252" name=""/>
            <p:cNvGrpSpPr/>
            <p:nvPr/>
          </p:nvGrpSpPr>
          <p:grpSpPr>
            <a:xfrm>
              <a:off x="4654440" y="4883040"/>
              <a:ext cx="1587600" cy="520920"/>
              <a:chOff x="4654440" y="4883040"/>
              <a:chExt cx="1587600" cy="520920"/>
            </a:xfrm>
          </p:grpSpPr>
          <p:sp>
            <p:nvSpPr>
              <p:cNvPr id="253" name=""/>
              <p:cNvSpPr/>
              <p:nvPr/>
            </p:nvSpPr>
            <p:spPr>
              <a:xfrm>
                <a:off x="4654440" y="4883040"/>
                <a:ext cx="158760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18600" y="4971960"/>
                <a:ext cx="1256040" cy="39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in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5" name=""/>
            <p:cNvCxnSpPr>
              <a:stCxn id="248" idx="2"/>
              <a:endCxn id="253" idx="0"/>
            </p:cNvCxnSpPr>
            <p:nvPr/>
          </p:nvCxnSpPr>
          <p:spPr>
            <a:xfrm>
              <a:off x="5447880" y="4641840"/>
              <a:ext cx="1080" cy="24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6" name=""/>
          <p:cNvGrpSpPr/>
          <p:nvPr/>
        </p:nvGrpSpPr>
        <p:grpSpPr>
          <a:xfrm>
            <a:off x="4183920" y="5218920"/>
            <a:ext cx="2058120" cy="946800"/>
            <a:chOff x="4183920" y="5218920"/>
            <a:chExt cx="2058120" cy="946800"/>
          </a:xfrm>
        </p:grpSpPr>
        <p:cxnSp>
          <p:nvCxnSpPr>
            <p:cNvPr id="257" name=""/>
            <p:cNvCxnSpPr>
              <a:stCxn id="258" idx="1"/>
              <a:endCxn id="238" idx="3"/>
            </p:cNvCxnSpPr>
            <p:nvPr/>
          </p:nvCxnSpPr>
          <p:spPr>
            <a:xfrm flipH="1" flipV="1">
              <a:off x="4183920" y="5218920"/>
              <a:ext cx="4705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59" name=""/>
            <p:cNvGrpSpPr/>
            <p:nvPr/>
          </p:nvGrpSpPr>
          <p:grpSpPr>
            <a:xfrm>
              <a:off x="4654440" y="5403960"/>
              <a:ext cx="1587600" cy="761760"/>
              <a:chOff x="4654440" y="5403960"/>
              <a:chExt cx="1587600" cy="76176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654440" y="5645160"/>
                <a:ext cx="1587600" cy="520560"/>
                <a:chOff x="4654440" y="5645160"/>
                <a:chExt cx="1587600" cy="520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654440" y="5645160"/>
                  <a:ext cx="1587600" cy="520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809600" y="5734080"/>
                  <a:ext cx="1274040" cy="393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pgrad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62" name=""/>
              <p:cNvCxnSpPr>
                <a:stCxn id="253" idx="2"/>
                <a:endCxn id="258" idx="0"/>
              </p:cNvCxnSpPr>
              <p:nvPr/>
            </p:nvCxnSpPr>
            <p:spPr>
              <a:xfrm>
                <a:off x="5447880" y="5403960"/>
                <a:ext cx="1080" cy="241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63" name=""/>
          <p:cNvGrpSpPr/>
          <p:nvPr/>
        </p:nvGrpSpPr>
        <p:grpSpPr>
          <a:xfrm>
            <a:off x="6241320" y="4380840"/>
            <a:ext cx="2439000" cy="1524960"/>
            <a:chOff x="6241320" y="4380840"/>
            <a:chExt cx="2439000" cy="1524960"/>
          </a:xfrm>
        </p:grpSpPr>
        <p:grpSp>
          <p:nvGrpSpPr>
            <p:cNvPr id="264" name=""/>
            <p:cNvGrpSpPr/>
            <p:nvPr/>
          </p:nvGrpSpPr>
          <p:grpSpPr>
            <a:xfrm>
              <a:off x="6711840" y="4883040"/>
              <a:ext cx="1968480" cy="520920"/>
              <a:chOff x="6711840" y="4883040"/>
              <a:chExt cx="1968480" cy="520920"/>
            </a:xfrm>
          </p:grpSpPr>
          <p:sp>
            <p:nvSpPr>
              <p:cNvPr id="265" name=""/>
              <p:cNvSpPr/>
              <p:nvPr/>
            </p:nvSpPr>
            <p:spPr>
              <a:xfrm>
                <a:off x="6711840" y="4883040"/>
                <a:ext cx="196848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95360" y="4925880"/>
                <a:ext cx="1801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 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7" name=""/>
            <p:cNvCxnSpPr>
              <a:stCxn id="265" idx="1"/>
              <a:endCxn id="248" idx="3"/>
            </p:cNvCxnSpPr>
            <p:nvPr/>
          </p:nvCxnSpPr>
          <p:spPr>
            <a:xfrm flipH="1" flipV="1">
              <a:off x="6241320" y="4380840"/>
              <a:ext cx="4705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5" idx="1"/>
              <a:endCxn id="253" idx="3"/>
            </p:cNvCxnSpPr>
            <p:nvPr/>
          </p:nvCxnSpPr>
          <p:spPr>
            <a:xfrm flipH="1">
              <a:off x="6241320" y="5143320"/>
              <a:ext cx="470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65" idx="1"/>
              <a:endCxn id="258" idx="3"/>
            </p:cNvCxnSpPr>
            <p:nvPr/>
          </p:nvCxnSpPr>
          <p:spPr>
            <a:xfrm flipH="1">
              <a:off x="6241320" y="5143680"/>
              <a:ext cx="47052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6019920" y="3041640"/>
            <a:ext cx="2817720" cy="838080"/>
            <a:chOff x="6019920" y="3041640"/>
            <a:chExt cx="2817720" cy="838080"/>
          </a:xfrm>
        </p:grpSpPr>
        <p:grpSp>
          <p:nvGrpSpPr>
            <p:cNvPr id="271" name=""/>
            <p:cNvGrpSpPr/>
            <p:nvPr/>
          </p:nvGrpSpPr>
          <p:grpSpPr>
            <a:xfrm>
              <a:off x="6019920" y="3359160"/>
              <a:ext cx="2817720" cy="520560"/>
              <a:chOff x="6019920" y="3359160"/>
              <a:chExt cx="2817720" cy="520560"/>
            </a:xfrm>
          </p:grpSpPr>
          <p:sp>
            <p:nvSpPr>
              <p:cNvPr id="272" name=""/>
              <p:cNvSpPr/>
              <p:nvPr/>
            </p:nvSpPr>
            <p:spPr>
              <a:xfrm>
                <a:off x="6019920" y="3359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24560" y="3402000"/>
                <a:ext cx="205452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 Work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4" name=""/>
            <p:cNvCxnSpPr>
              <a:stCxn id="223" idx="2"/>
              <a:endCxn id="272" idx="0"/>
            </p:cNvCxnSpPr>
            <p:nvPr/>
          </p:nvCxnSpPr>
          <p:spPr>
            <a:xfrm>
              <a:off x="7429320" y="3041640"/>
              <a:ext cx="1080" cy="317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380880" y="2504160"/>
            <a:ext cx="1836720" cy="3477600"/>
            <a:chOff x="380880" y="2504160"/>
            <a:chExt cx="1836720" cy="3477600"/>
          </a:xfrm>
        </p:grpSpPr>
        <p:grpSp>
          <p:nvGrpSpPr>
            <p:cNvPr id="276" name=""/>
            <p:cNvGrpSpPr/>
            <p:nvPr/>
          </p:nvGrpSpPr>
          <p:grpSpPr>
            <a:xfrm>
              <a:off x="380880" y="2743200"/>
              <a:ext cx="1054080" cy="2921040"/>
              <a:chOff x="380880" y="2743200"/>
              <a:chExt cx="1054080" cy="2921040"/>
            </a:xfrm>
          </p:grpSpPr>
          <p:sp>
            <p:nvSpPr>
              <p:cNvPr id="277" name=""/>
              <p:cNvSpPr/>
              <p:nvPr/>
            </p:nvSpPr>
            <p:spPr>
              <a:xfrm>
                <a:off x="380880" y="2743200"/>
                <a:ext cx="1054080" cy="292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200000">
                <a:off x="10440" y="3879000"/>
                <a:ext cx="183492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mployment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rot="16200000">
              <a:off x="1075680" y="2909160"/>
              <a:ext cx="117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1367640" y="4115520"/>
              <a:ext cx="1123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canc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/>
            <p:nvPr/>
          </p:nvCxnSpPr>
          <p:spPr>
            <a:xfrm>
              <a:off x="1409400" y="3585960"/>
              <a:ext cx="802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"/>
            <p:cNvCxnSpPr/>
            <p:nvPr/>
          </p:nvCxnSpPr>
          <p:spPr>
            <a:xfrm flipH="1">
              <a:off x="1426680" y="3731760"/>
              <a:ext cx="79128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43" idx="1"/>
              <a:endCxn id="277" idx="4"/>
            </p:cNvCxnSpPr>
            <p:nvPr/>
          </p:nvCxnSpPr>
          <p:spPr>
            <a:xfrm rot="10800000">
              <a:off x="907200" y="5664240"/>
              <a:ext cx="1308960" cy="3178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0DE-2767-43FD-AB6C-A40E93D0638B}" type="slidenum">
              <a:t>9</a:t>
            </a:fld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8:40:41Z</dcterms:created>
  <dc:creator>Laci</dc:creator>
  <dc:description/>
  <dc:language>en-US</dc:language>
  <cp:lastModifiedBy>Laci</cp:lastModifiedBy>
  <dcterms:modified xsi:type="dcterms:W3CDTF">2005-05-11T21:59:51Z</dcterms:modified>
  <cp:revision>27</cp:revision>
  <dc:subject/>
  <dc:title>Changes in Social Income: Wages and Benefits at the Workplace, 1994-2004</dc:title>
</cp:coreProperties>
</file>