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8DEE7-ED52-4AA8-8C2F-85DF7AC915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19B49-BF7F-47D7-A5F0-A573FF795D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C44E3-5DC3-4AF4-8194-9F6DF38FD5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899CB-989F-4B11-BCE4-8C1DD5BB77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69A0C-D653-4A41-8E43-CEFB7C10D6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B9CF7-2387-442A-95AE-07E45A94CD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00F90-C07D-4115-B738-B61CEC7D76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CABB5-D7B3-43B3-823B-1F9038AC3E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7F881-C6F8-44EA-A1D8-D112F6883D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729D4-A82A-4F7F-98AC-FBB69ECAD5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77C41-0395-4839-A27B-92A0CDB7E4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BDF62-2C7E-408C-89B8-35246FC307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0"/>
            <a:ext cx="16002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974880" y="6324480"/>
            <a:ext cx="6873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99cc"/>
                </a:solidFill>
                <a:latin typeface="Arial Black"/>
              </a:rPr>
              <a:t>Statistics Netherlan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CD12-BD5E-4D57-A50C-29431D1AD6E4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79640" y="1699920"/>
            <a:ext cx="6400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cc"/>
                </a:solidFill>
                <a:latin typeface="Arial"/>
              </a:rPr>
              <a:t>Flexible Work and working hours in the Netherlands</a:t>
            </a:r>
            <a:br>
              <a:rPr sz="3600"/>
            </a:b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Johan van der Valk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7AA31-443D-4CF8-BC70-426B6CDAC19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Working overtime</a:t>
            </a:r>
            <a:br>
              <a:rPr sz="3600"/>
            </a:b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by age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619280" y="1413000"/>
          <a:ext cx="7273800" cy="460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413000"/>
                    <a:ext cx="727380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A9C7B-8A6F-4E4D-9E7F-93CC503F931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Working overtime</a:t>
            </a:r>
            <a:br>
              <a:rPr sz="3600"/>
            </a:b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by sex and age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332000" y="1484280"/>
          <a:ext cx="7561080" cy="446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484280"/>
                    <a:ext cx="7561080" cy="44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D77B2-4F97-4305-AC2D-2410257C82E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Working overtime</a:t>
            </a:r>
            <a:br>
              <a:rPr sz="3600"/>
            </a:b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by sex and position in household (30-49 yr)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476360" y="1700280"/>
          <a:ext cx="7343640" cy="41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00280"/>
                    <a:ext cx="734364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E4807-DD20-4B8C-988A-5EA3D78FFF1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Working overtime</a:t>
            </a:r>
            <a:br>
              <a:rPr sz="3600"/>
            </a:b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by educational attainment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476360" y="1628640"/>
          <a:ext cx="7272360" cy="404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628640"/>
                    <a:ext cx="7272360" cy="40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CE7D5-B06D-4555-9587-9354EADEDC3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18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Summary</a:t>
            </a:r>
            <a:br>
              <a:rPr sz="3600"/>
            </a:b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Flexible work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979640" y="2491920"/>
            <a:ext cx="6192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Low incidence: 13 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Fixed term contract: 9 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Flexible hours: 8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Both: 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Young persons (stude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Women with child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Immigr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Part-time work and flexible contract combin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704EB-FF96-4360-B0CD-A8DBB551544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18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Summary</a:t>
            </a:r>
            <a:br>
              <a:rPr sz="3600"/>
            </a:b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Working overtime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979640" y="2491920"/>
            <a:ext cx="6192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High incidence: 31 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Compensation in money: 12 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Compensation in time: 1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No compensation: 1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High educated employe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en more than wo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en 30-49 year (part of coup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Share overtime work without compensation increases with 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208DB-202D-4D8A-8E41-4B40A7D012A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79640" y="1699920"/>
            <a:ext cx="6400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cc"/>
                </a:solidFill>
                <a:latin typeface="Arial"/>
              </a:rPr>
              <a:t>Flexible Work and working hours in the Netherlands</a:t>
            </a:r>
            <a:br>
              <a:rPr sz="3600"/>
            </a:b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Thank you for listening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886BF-7B43-462D-8331-EB7CB711FFDB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Content</a:t>
            </a:r>
            <a:endParaRPr b="1" lang="en-US" sz="36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33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Flexible contr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ype of contr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haracteristics flexwo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vertime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ci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haracteristics overtime wo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922D6-7E9A-45DA-9B85-FE06DEDD138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55640" y="260280"/>
            <a:ext cx="3538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Flexible work</a:t>
            </a:r>
            <a:endParaRPr b="1" lang="en-US" sz="36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35280" y="1557360"/>
            <a:ext cx="530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Table 1, Flexible work, employees 15-64 years, NL LFS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60720" y="1916280"/>
            <a:ext cx="1546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fixed hour contr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08360" y="213372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587280" y="2133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80360" y="2133720"/>
            <a:ext cx="43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To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23000" y="272556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16720" y="3271680"/>
            <a:ext cx="172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Times New Roman"/>
              </a:rPr>
              <a:t>Fixed term contr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98720" y="3271680"/>
            <a:ext cx="25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Times New Roman"/>
              </a:rPr>
              <a:t>4.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04920" y="3271680"/>
            <a:ext cx="25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Times New Roman"/>
              </a:rPr>
              <a:t>4.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11480" y="3271680"/>
            <a:ext cx="25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Times New Roman"/>
              </a:rPr>
              <a:t>9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60000" y="3546360"/>
            <a:ext cx="86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3 month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93680" y="3546360"/>
            <a:ext cx="25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0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00240" y="3546360"/>
            <a:ext cx="25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0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06800" y="3546360"/>
            <a:ext cx="25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0.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57840" y="3822840"/>
            <a:ext cx="92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3-6 month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93680" y="3822840"/>
            <a:ext cx="25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0.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00240" y="3822840"/>
            <a:ext cx="25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0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06800" y="3822840"/>
            <a:ext cx="25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1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60720" y="4097160"/>
            <a:ext cx="102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6-12 month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93680" y="4097160"/>
            <a:ext cx="25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1.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600240" y="4097160"/>
            <a:ext cx="25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3.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06800" y="4097160"/>
            <a:ext cx="25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5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05360" y="4371840"/>
            <a:ext cx="247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Contract of duration &gt;= 1 ye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93680" y="4371840"/>
            <a:ext cx="25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1.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00240" y="4371840"/>
            <a:ext cx="25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0.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06800" y="4371840"/>
            <a:ext cx="25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2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44800" y="4643280"/>
            <a:ext cx="2687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Times New Roman"/>
              </a:rPr>
              <a:t>Contract of unlimited du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99720" y="4643280"/>
            <a:ext cx="357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Times New Roman"/>
              </a:rPr>
              <a:t>87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04920" y="4643280"/>
            <a:ext cx="25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Times New Roman"/>
              </a:rPr>
              <a:t>3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12840" y="4643280"/>
            <a:ext cx="357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Times New Roman"/>
              </a:rPr>
              <a:t>90.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83240" y="5194440"/>
            <a:ext cx="42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To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93600" y="5194440"/>
            <a:ext cx="357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91.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600240" y="5194440"/>
            <a:ext cx="25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8.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402320" y="5194440"/>
            <a:ext cx="459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100.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49320" y="1878120"/>
            <a:ext cx="59691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49320" y="1878120"/>
            <a:ext cx="5969160" cy="1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99160" y="2152800"/>
            <a:ext cx="201276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99160" y="2152800"/>
            <a:ext cx="201276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49320" y="2425680"/>
            <a:ext cx="596916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49320" y="2425680"/>
            <a:ext cx="5969160" cy="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49320" y="5443560"/>
            <a:ext cx="59691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49320" y="5443560"/>
            <a:ext cx="5969160" cy="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6DE4F-1CFA-4B51-AB84-BAEF89EB4A5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Flexible work</a:t>
            </a:r>
            <a:br>
              <a:rPr sz="3600"/>
            </a:b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by age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619280" y="1484280"/>
          <a:ext cx="7200720" cy="43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484280"/>
                    <a:ext cx="720072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C4558-E473-4D2B-BA79-836FBA81DC0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Flexible work</a:t>
            </a:r>
            <a:br>
              <a:rPr sz="3600"/>
            </a:b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by sex and age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619280" y="1484280"/>
          <a:ext cx="7273800" cy="439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484280"/>
                    <a:ext cx="72738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239D0-D179-4DA3-AB48-D22D2B62EB3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Flexible work</a:t>
            </a:r>
            <a:br>
              <a:rPr sz="3600"/>
            </a:b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by sex and position in household (30-49 yr)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95280" y="1557360"/>
          <a:ext cx="8229600" cy="410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557360"/>
                    <a:ext cx="82296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3CBFB-9C13-4F2A-8908-5B58FA564D2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Flexible work</a:t>
            </a:r>
            <a:br>
              <a:rPr sz="3600"/>
            </a:b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by etnic background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619280" y="1700280"/>
          <a:ext cx="6985080" cy="439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700280"/>
                    <a:ext cx="698508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204E3-3EB4-4BA3-822D-A1BACD10794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Flexible work</a:t>
            </a:r>
            <a:br>
              <a:rPr sz="3600"/>
            </a:b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by working time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476360" y="1628640"/>
          <a:ext cx="727236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628640"/>
                    <a:ext cx="72723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F3ABB-D6A6-4D2E-8DA2-6AAB517C5EE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Working Overtime</a:t>
            </a:r>
            <a:endParaRPr b="1" lang="en-US" sz="36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40000" y="1125360"/>
            <a:ext cx="568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Table 2, Regularly working overtime, employees 15-64 years, NL LFS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70120" y="1628640"/>
            <a:ext cx="245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overtime compensated in ti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00360" y="1916280"/>
            <a:ext cx="262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ye</a:t>
            </a: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08000" y="19162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812360" y="1844640"/>
            <a:ext cx="42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To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76760" y="253512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53120" y="3284640"/>
            <a:ext cx="90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no overti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8360" y="3240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6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94960" y="32338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6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53840" y="3573360"/>
            <a:ext cx="675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overti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09000" y="35924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01080" y="35924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094960" y="35863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10600" y="4365720"/>
            <a:ext cx="1652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compensated in mone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96840" y="42940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87480" y="42940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91720" y="42940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09160" y="4653000"/>
            <a:ext cx="192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not compensated in mone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96840" y="46465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01080" y="46465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91720" y="46465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15760" y="5351400"/>
            <a:ext cx="37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Tot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18360" y="53514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6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09000" y="53514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01080" y="53514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05680" y="5351400"/>
            <a:ext cx="27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37000" y="1447920"/>
            <a:ext cx="559908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37000" y="1447920"/>
            <a:ext cx="559908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364000" y="1843920"/>
            <a:ext cx="243216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37000" y="2152800"/>
            <a:ext cx="559908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37000" y="2152800"/>
            <a:ext cx="559908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37000" y="5673600"/>
            <a:ext cx="55990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37000" y="5673600"/>
            <a:ext cx="559908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F7BA3-9A59-45C7-B95C-A97080BC7EB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5T13:53:10Z</dcterms:created>
  <dc:creator>W.J. Keller</dc:creator>
  <dc:description/>
  <dc:language>en-US</dc:language>
  <cp:lastModifiedBy>jvlk</cp:lastModifiedBy>
  <cp:lastPrinted>2002-01-04T14:48:15Z</cp:lastPrinted>
  <dcterms:modified xsi:type="dcterms:W3CDTF">2005-04-28T13:26:56Z</dcterms:modified>
  <cp:revision>164</cp:revision>
  <dc:subject/>
  <dc:title>Reorganisatie CBS 2000-200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72736376</vt:r8>
  </property>
  <property fmtid="{D5CDD505-2E9C-101B-9397-08002B2CF9AE}" pid="3" name="_AuthorEmail">
    <vt:lpwstr>JVLK@CBS.nl</vt:lpwstr>
  </property>
  <property fmtid="{D5CDD505-2E9C-101B-9397-08002B2CF9AE}" pid="4" name="_AuthorEmailDisplayName">
    <vt:lpwstr>Valk, drs J. van der</vt:lpwstr>
  </property>
  <property fmtid="{D5CDD505-2E9C-101B-9397-08002B2CF9AE}" pid="5" name="_EmailSubject">
    <vt:lpwstr>UNECE/Eurostat/ILO Seminar on Quality of Work Statistics, 11-13 May Geneva - request for full version of paper</vt:lpwstr>
  </property>
</Properties>
</file>