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7FDD0-2315-4F00-9A51-CF371FC322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90A8D-A9BC-42BD-B3CD-74511D2D2D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C1DAE-BBA9-4838-96D3-4BF67B6925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2EE36-CBB3-41E1-A53D-272A84F93A7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B0275-FA2C-40D3-BEBA-7742083B880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B9FC7-D03E-43DF-83AE-F209DEA61B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3B0E7-4824-4728-9CCB-B4C11AC533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AAB5C-28B4-4752-98B6-5657D4281C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30F1B-337A-4DBD-BBF8-89274D5F48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9604D-DFEF-48D0-9ECA-63AED55163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31CCB-382D-4668-BF74-A2BC6FA26D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52600-ACE7-4CB6-AAF1-6DAA42BDD0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0"/>
            <a:ext cx="1600200" cy="6856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326880" y="5715000"/>
            <a:ext cx="517680" cy="8683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974880" y="6324480"/>
            <a:ext cx="687384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99cc"/>
                </a:solidFill>
                <a:latin typeface="Arial Black"/>
              </a:rPr>
              <a:t>Statistics Netherland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8423F-AFCB-4363-B0EB-B9EB6C8F9C32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979640" y="1699920"/>
            <a:ext cx="640080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99cc"/>
                </a:solidFill>
                <a:latin typeface="Arial"/>
              </a:rPr>
              <a:t>Flexible Work and working hours in the Netherlands</a:t>
            </a:r>
            <a:br>
              <a:rPr sz="3600"/>
            </a:br>
            <a:br>
              <a:rPr sz="4800"/>
            </a:br>
            <a:br>
              <a:rPr sz="48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Johan van der Valk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200"/>
            </a:br>
            <a:endParaRPr b="1" lang="en-US" sz="32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563BA-B762-4B3D-81BC-74FA4051AD31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00"/>
                </a:solidFill>
                <a:latin typeface="Arial"/>
              </a:rPr>
              <a:t>Working overtime</a:t>
            </a:r>
            <a:br>
              <a:rPr sz="3600"/>
            </a:br>
            <a:r>
              <a:rPr b="1" lang="nl-NL" sz="2800" spc="-1" strike="noStrike">
                <a:solidFill>
                  <a:srgbClr val="ffff00"/>
                </a:solidFill>
                <a:latin typeface="Arial"/>
              </a:rPr>
              <a:t>by age</a:t>
            </a: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1619280" y="1413000"/>
          <a:ext cx="7273800" cy="4608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1413000"/>
                    <a:ext cx="7273800" cy="46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2328B-3637-44CF-BF38-59F48121602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00"/>
                </a:solidFill>
                <a:latin typeface="Arial"/>
              </a:rPr>
              <a:t>Working overtime</a:t>
            </a:r>
            <a:br>
              <a:rPr sz="3600"/>
            </a:br>
            <a:r>
              <a:rPr b="1" lang="nl-NL" sz="2800" spc="-1" strike="noStrike">
                <a:solidFill>
                  <a:srgbClr val="ffff00"/>
                </a:solidFill>
                <a:latin typeface="Arial"/>
              </a:rPr>
              <a:t>by sex and age</a:t>
            </a: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332000" y="1484280"/>
          <a:ext cx="7561080" cy="4465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1484280"/>
                    <a:ext cx="7561080" cy="446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78554-1DD2-4D5A-8C5D-8562D2D41A0A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00"/>
                </a:solidFill>
                <a:latin typeface="Arial"/>
              </a:rPr>
              <a:t>Working overtime</a:t>
            </a:r>
            <a:br>
              <a:rPr sz="3600"/>
            </a:br>
            <a:r>
              <a:rPr b="1" lang="nl-NL" sz="2800" spc="-1" strike="noStrike">
                <a:solidFill>
                  <a:srgbClr val="ffff00"/>
                </a:solidFill>
                <a:latin typeface="Arial"/>
              </a:rPr>
              <a:t>by sex and position in household (30-49 yr)</a:t>
            </a: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1476360" y="1700280"/>
          <a:ext cx="7343640" cy="4176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00280"/>
                    <a:ext cx="7343640" cy="41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57EF6-FD86-4F33-9F35-0F1C1470415B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00"/>
                </a:solidFill>
                <a:latin typeface="Arial"/>
              </a:rPr>
              <a:t>Working overtime</a:t>
            </a:r>
            <a:br>
              <a:rPr sz="3600"/>
            </a:br>
            <a:r>
              <a:rPr b="1" lang="nl-NL" sz="2800" spc="-1" strike="noStrike">
                <a:solidFill>
                  <a:srgbClr val="ffff00"/>
                </a:solidFill>
                <a:latin typeface="Arial"/>
              </a:rPr>
              <a:t>by educational attainment</a:t>
            </a: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476360" y="1628640"/>
          <a:ext cx="7272360" cy="4046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628640"/>
                    <a:ext cx="7272360" cy="404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83D9B-D122-4721-93D3-B94C2A90EE23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752120" y="609120"/>
            <a:ext cx="4187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00"/>
                </a:solidFill>
                <a:latin typeface="Arial"/>
              </a:rPr>
              <a:t>Summary</a:t>
            </a:r>
            <a:br>
              <a:rPr sz="3600"/>
            </a:br>
            <a:r>
              <a:rPr b="1" lang="nl-NL" sz="2800" spc="-1" strike="noStrike">
                <a:solidFill>
                  <a:srgbClr val="ffff00"/>
                </a:solidFill>
                <a:latin typeface="Arial"/>
              </a:rPr>
              <a:t>Flexible work</a:t>
            </a: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979640" y="2491920"/>
            <a:ext cx="619272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Low incidence: 13 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Fixed term contract: 9 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Flexible hours: 8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Both: 5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Young persons (studen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Women with childr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Immigra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Part-time work and flexible contract combin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62F1C-6BD8-4901-ADE5-E7576060101C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52120" y="609120"/>
            <a:ext cx="4187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00"/>
                </a:solidFill>
                <a:latin typeface="Arial"/>
              </a:rPr>
              <a:t>Summary</a:t>
            </a:r>
            <a:br>
              <a:rPr sz="3600"/>
            </a:br>
            <a:r>
              <a:rPr b="1" lang="nl-NL" sz="2800" spc="-1" strike="noStrike">
                <a:solidFill>
                  <a:srgbClr val="ffff00"/>
                </a:solidFill>
                <a:latin typeface="Arial"/>
              </a:rPr>
              <a:t>Working overtime</a:t>
            </a: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979640" y="2491920"/>
            <a:ext cx="619272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High incidence: 31 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Compensation in money: 12 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Compensation in time: 13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No compensation: 12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High educated employe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Men more than wom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Men 30-49 year (part of coupl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Share overtime work without compensation increases with 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D30C3-1908-4E6B-BF3C-A9CD8B276E93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79640" y="1699920"/>
            <a:ext cx="640080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99cc"/>
                </a:solidFill>
                <a:latin typeface="Arial"/>
              </a:rPr>
              <a:t>Flexible Work and working hours in the Netherlands</a:t>
            </a:r>
            <a:br>
              <a:rPr sz="3600"/>
            </a:br>
            <a:br>
              <a:rPr sz="4800"/>
            </a:br>
            <a:br>
              <a:rPr sz="48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Thank you for listening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200"/>
            </a:br>
            <a:endParaRPr b="1" lang="en-US" sz="32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2191A-CB6E-4D4C-9B9B-05C28BB1894C}" type="slidenum">
              <a:t>1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52120" y="6091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00"/>
                </a:solidFill>
                <a:latin typeface="Arial"/>
              </a:rPr>
              <a:t>Content</a:t>
            </a:r>
            <a:endParaRPr b="1" lang="en-US" sz="36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6553080" cy="33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Flexible contra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Type of contra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Characteristics flexwork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Overtime 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Incid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Characteristics overtime work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72AFF-3BF7-4622-8EB5-A4A778EEBB73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55640" y="260280"/>
            <a:ext cx="3538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00"/>
                </a:solidFill>
                <a:latin typeface="Arial"/>
              </a:rPr>
              <a:t>Flexible work</a:t>
            </a:r>
            <a:endParaRPr b="1" lang="en-US" sz="36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835280" y="1557360"/>
            <a:ext cx="5300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Times New Roman"/>
              </a:rPr>
              <a:t>Table 1, Flexible work, employees 15-64 years, NL LFS 200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860720" y="1916280"/>
            <a:ext cx="1546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Times New Roman"/>
              </a:rPr>
              <a:t>fixed hour contrac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508360" y="2133720"/>
            <a:ext cx="272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Times New Roman"/>
              </a:rPr>
              <a:t>y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587280" y="21337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Times New Roman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380360" y="2133720"/>
            <a:ext cx="431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Times New Roman"/>
              </a:rPr>
              <a:t>Tot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923000" y="2725560"/>
            <a:ext cx="16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Times New Roman"/>
              </a:rPr>
              <a:t>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016720" y="3271680"/>
            <a:ext cx="172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ffff"/>
                </a:solidFill>
                <a:latin typeface="Times New Roman"/>
              </a:rPr>
              <a:t>Fixed term contrac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598720" y="3271680"/>
            <a:ext cx="255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ffff"/>
                </a:solidFill>
                <a:latin typeface="Times New Roman"/>
              </a:rPr>
              <a:t>4.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604920" y="3271680"/>
            <a:ext cx="255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ffff"/>
                </a:solidFill>
                <a:latin typeface="Times New Roman"/>
              </a:rPr>
              <a:t>4.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611480" y="3271680"/>
            <a:ext cx="255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ffff"/>
                </a:solidFill>
                <a:latin typeface="Times New Roman"/>
              </a:rPr>
              <a:t>9.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160000" y="3546360"/>
            <a:ext cx="866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Times New Roman"/>
              </a:rPr>
              <a:t>&lt;3 month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93680" y="3546360"/>
            <a:ext cx="255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Times New Roman"/>
              </a:rPr>
              <a:t>0.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600240" y="3546360"/>
            <a:ext cx="255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Times New Roman"/>
              </a:rPr>
              <a:t>0.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606800" y="3546360"/>
            <a:ext cx="255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Times New Roman"/>
              </a:rPr>
              <a:t>0.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57840" y="3822840"/>
            <a:ext cx="921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Times New Roman"/>
              </a:rPr>
              <a:t>3-6 month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593680" y="3822840"/>
            <a:ext cx="255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Times New Roman"/>
              </a:rPr>
              <a:t>0.7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600240" y="3822840"/>
            <a:ext cx="255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Times New Roman"/>
              </a:rPr>
              <a:t>0.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606800" y="3822840"/>
            <a:ext cx="255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Times New Roman"/>
              </a:rPr>
              <a:t>1.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160720" y="4097160"/>
            <a:ext cx="1023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Times New Roman"/>
              </a:rPr>
              <a:t>6-12 month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593680" y="4097160"/>
            <a:ext cx="255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Times New Roman"/>
              </a:rPr>
              <a:t>1.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600240" y="4097160"/>
            <a:ext cx="255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Times New Roman"/>
              </a:rPr>
              <a:t>3.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06800" y="4097160"/>
            <a:ext cx="255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Times New Roman"/>
              </a:rPr>
              <a:t>5.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05360" y="4371840"/>
            <a:ext cx="2478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Times New Roman"/>
              </a:rPr>
              <a:t>Contract of duration &gt;= 1 yea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593680" y="4371840"/>
            <a:ext cx="255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Times New Roman"/>
              </a:rPr>
              <a:t>1.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600240" y="4371840"/>
            <a:ext cx="255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Times New Roman"/>
              </a:rPr>
              <a:t>0.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606800" y="4371840"/>
            <a:ext cx="255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Times New Roman"/>
              </a:rPr>
              <a:t>2.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044800" y="4643280"/>
            <a:ext cx="2687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ffff"/>
                </a:solidFill>
                <a:latin typeface="Times New Roman"/>
              </a:rPr>
              <a:t>Contract of unlimited dur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499720" y="4643280"/>
            <a:ext cx="357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ffff"/>
                </a:solidFill>
                <a:latin typeface="Times New Roman"/>
              </a:rPr>
              <a:t>87.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604920" y="4643280"/>
            <a:ext cx="255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ffff"/>
                </a:solidFill>
                <a:latin typeface="Times New Roman"/>
              </a:rPr>
              <a:t>3.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512840" y="4643280"/>
            <a:ext cx="357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ffff"/>
                </a:solidFill>
                <a:latin typeface="Times New Roman"/>
              </a:rPr>
              <a:t>90.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983240" y="5194440"/>
            <a:ext cx="42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Times New Roman"/>
              </a:rPr>
              <a:t>Tot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493600" y="5194440"/>
            <a:ext cx="357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Times New Roman"/>
              </a:rPr>
              <a:t>91.7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600240" y="5194440"/>
            <a:ext cx="255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Times New Roman"/>
              </a:rPr>
              <a:t>8.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402320" y="5194440"/>
            <a:ext cx="459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Times New Roman"/>
              </a:rPr>
              <a:t>100.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849320" y="1878120"/>
            <a:ext cx="596916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849320" y="1878120"/>
            <a:ext cx="5969160" cy="1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799160" y="2152800"/>
            <a:ext cx="2012760" cy="2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799160" y="2152800"/>
            <a:ext cx="2012760" cy="20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849320" y="2425680"/>
            <a:ext cx="5969160" cy="3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849320" y="2425680"/>
            <a:ext cx="5969160" cy="2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849320" y="5443560"/>
            <a:ext cx="596916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849320" y="5443560"/>
            <a:ext cx="5969160" cy="2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4F95D-1CCD-4E4F-86FF-1E29BE1F0C6B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00"/>
                </a:solidFill>
                <a:latin typeface="Arial"/>
              </a:rPr>
              <a:t>Flexible work</a:t>
            </a:r>
            <a:br>
              <a:rPr sz="3600"/>
            </a:br>
            <a:r>
              <a:rPr b="1" lang="nl-NL" sz="2800" spc="-1" strike="noStrike">
                <a:solidFill>
                  <a:srgbClr val="ffff00"/>
                </a:solidFill>
                <a:latin typeface="Arial"/>
              </a:rPr>
              <a:t>by age</a:t>
            </a: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1619280" y="1484280"/>
          <a:ext cx="7200720" cy="4321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1484280"/>
                    <a:ext cx="7200720" cy="43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7DE96-2101-4BFD-8C84-41A9AEA1E33A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00"/>
                </a:solidFill>
                <a:latin typeface="Arial"/>
              </a:rPr>
              <a:t>Flexible work</a:t>
            </a:r>
            <a:br>
              <a:rPr sz="3600"/>
            </a:br>
            <a:r>
              <a:rPr b="1" lang="nl-NL" sz="2800" spc="-1" strike="noStrike">
                <a:solidFill>
                  <a:srgbClr val="ffff00"/>
                </a:solidFill>
                <a:latin typeface="Arial"/>
              </a:rPr>
              <a:t>by sex and age</a:t>
            </a: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1619280" y="1484280"/>
          <a:ext cx="7273800" cy="4392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1484280"/>
                    <a:ext cx="7273800" cy="439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F464D-FCB5-4CA1-90AF-75020317F59E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00"/>
                </a:solidFill>
                <a:latin typeface="Arial"/>
              </a:rPr>
              <a:t>Flexible work</a:t>
            </a:r>
            <a:br>
              <a:rPr sz="3600"/>
            </a:br>
            <a:r>
              <a:rPr b="1" lang="nl-NL" sz="2800" spc="-1" strike="noStrike">
                <a:solidFill>
                  <a:srgbClr val="ffff00"/>
                </a:solidFill>
                <a:latin typeface="Arial"/>
              </a:rPr>
              <a:t>by sex and position in household (30-49 yr)</a:t>
            </a: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395280" y="1557360"/>
          <a:ext cx="8229600" cy="4103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557360"/>
                    <a:ext cx="822960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74144-EF99-43E7-8C77-03043CA5536C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00"/>
                </a:solidFill>
                <a:latin typeface="Arial"/>
              </a:rPr>
              <a:t>Flexible work</a:t>
            </a:r>
            <a:br>
              <a:rPr sz="3600"/>
            </a:br>
            <a:r>
              <a:rPr b="1" lang="nl-NL" sz="2800" spc="-1" strike="noStrike">
                <a:solidFill>
                  <a:srgbClr val="ffff00"/>
                </a:solidFill>
                <a:latin typeface="Arial"/>
              </a:rPr>
              <a:t>by etnic background</a:t>
            </a: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619280" y="1700280"/>
          <a:ext cx="6985080" cy="4392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1700280"/>
                    <a:ext cx="6985080" cy="439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31CE1-8C52-495E-9EEA-91F457F0C2D4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00"/>
                </a:solidFill>
                <a:latin typeface="Arial"/>
              </a:rPr>
              <a:t>Flexible work</a:t>
            </a:r>
            <a:br>
              <a:rPr sz="3600"/>
            </a:br>
            <a:r>
              <a:rPr b="1" lang="nl-NL" sz="2800" spc="-1" strike="noStrike">
                <a:solidFill>
                  <a:srgbClr val="ffff00"/>
                </a:solidFill>
                <a:latin typeface="Arial"/>
              </a:rPr>
              <a:t>by working time</a:t>
            </a: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476360" y="1628640"/>
          <a:ext cx="7272360" cy="4608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628640"/>
                    <a:ext cx="7272360" cy="46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DE14F-34AB-4727-9868-2CB324C7E462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00"/>
                </a:solidFill>
                <a:latin typeface="Arial"/>
              </a:rPr>
              <a:t>Working Overtime</a:t>
            </a:r>
            <a:endParaRPr b="1" lang="en-US" sz="36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340000" y="1125360"/>
            <a:ext cx="5688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Table 2, Regularly working overtime, employees 15-64 years, NL LFS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70120" y="1628640"/>
            <a:ext cx="2451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Times New Roman"/>
              </a:rPr>
              <a:t>overtime compensated in tim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300360" y="1916280"/>
            <a:ext cx="262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Times New Roman"/>
              </a:rPr>
              <a:t>ye</a:t>
            </a: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308000" y="19162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Times New Roman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812360" y="1844640"/>
            <a:ext cx="42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Times New Roman"/>
              </a:rPr>
              <a:t>Tot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576760" y="2535120"/>
            <a:ext cx="16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Times New Roman"/>
              </a:rPr>
              <a:t>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553120" y="3284640"/>
            <a:ext cx="909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no overtim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418360" y="324000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69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094960" y="323388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69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53840" y="3573360"/>
            <a:ext cx="675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overtim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309000" y="359244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1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201080" y="359244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19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094960" y="358632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3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910600" y="4365720"/>
            <a:ext cx="1652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compensated in mone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396840" y="429408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87480" y="429408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091720" y="429408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1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909160" y="4653000"/>
            <a:ext cx="192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not compensated in mone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396840" y="464652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201080" y="464652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1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091720" y="464652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19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615760" y="5351400"/>
            <a:ext cx="37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Tot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418360" y="535140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69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309000" y="535140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1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01080" y="535140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19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005680" y="5351400"/>
            <a:ext cx="270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637000" y="1447920"/>
            <a:ext cx="5599080" cy="2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637000" y="1447920"/>
            <a:ext cx="5599080" cy="2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5364000" y="1843920"/>
            <a:ext cx="2432160" cy="2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637000" y="2152800"/>
            <a:ext cx="5599080" cy="2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637000" y="2152800"/>
            <a:ext cx="5599080" cy="2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637000" y="5673600"/>
            <a:ext cx="559908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637000" y="5673600"/>
            <a:ext cx="5599080" cy="2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42743-FC9A-48EC-9980-830F00307956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05T13:53:10Z</dcterms:created>
  <dc:creator>W.J. Keller</dc:creator>
  <dc:description/>
  <dc:language>en-US</dc:language>
  <cp:lastModifiedBy>jvlk</cp:lastModifiedBy>
  <cp:lastPrinted>2002-01-04T14:48:15Z</cp:lastPrinted>
  <dcterms:modified xsi:type="dcterms:W3CDTF">2005-04-28T13:26:56Z</dcterms:modified>
  <cp:revision>164</cp:revision>
  <dc:subject/>
  <dc:title>Reorganisatie CBS 2000-2003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972736376</vt:r8>
  </property>
  <property fmtid="{D5CDD505-2E9C-101B-9397-08002B2CF9AE}" pid="3" name="_AuthorEmail">
    <vt:lpwstr>JVLK@CBS.nl</vt:lpwstr>
  </property>
  <property fmtid="{D5CDD505-2E9C-101B-9397-08002B2CF9AE}" pid="4" name="_AuthorEmailDisplayName">
    <vt:lpwstr>Valk, drs J. van der</vt:lpwstr>
  </property>
  <property fmtid="{D5CDD505-2E9C-101B-9397-08002B2CF9AE}" pid="5" name="_EmailSubject">
    <vt:lpwstr>UNECE/Eurostat/ILO Seminar on Quality of Work Statistics, 11-13 May Geneva - request for full version of paper</vt:lpwstr>
  </property>
</Properties>
</file>