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9AF-CA03-4B81-80AD-67BC216E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C66-9027-4B59-8C98-D15A23F5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6DA-17EC-40C3-A7CD-1BF75782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DCE-BA1E-448F-B83F-3EE9A694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451-0D02-4B82-9A5B-ABDFC2C8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F3A-B40C-4245-B6DE-B63BA496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61D-DF42-4EBF-9C97-211994CE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672-ACC9-4672-B017-D247EF36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C77-C085-45F8-9DB6-124712D1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CC2-76F5-480D-96FF-7AC8AEAF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CBD-B605-4616-ACD8-6BD010CE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127-9847-4B0F-85A9-BD1D7A3D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5917-3C44-4D07-B5B5-FA16891CE2D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610080" cy="3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rena Svetin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atistical Office of the Republic of Sloven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280" y="2349000"/>
            <a:ext cx="7561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Type of contracts and Excessive Hours of Work in the Case of Sloven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Work contracts in Sloven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ork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pecific task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authorship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business-cooperation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Excessive hours of wor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irective on working time in EU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at least 11 hours of day r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ekly working hours: max. 4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yearly leave: min 4. wee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able 1: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Employees usually working more than 48 hours by sectors of activity and sex, Slovenia, 2004 </a:t>
            </a:r>
            <a:br>
              <a:rPr sz="2800"/>
            </a:b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source: LF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403280" y="2417760"/>
          <a:ext cx="6048360" cy="41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17760"/>
                    <a:ext cx="604836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able 2: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Employees usually working more than 48 hours by major groups of occupation and sex, Slovenia 2004</a:t>
            </a:r>
            <a:br>
              <a:rPr sz="2800"/>
            </a:b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source: LF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2247840"/>
          <a:ext cx="8642160" cy="398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47840"/>
                    <a:ext cx="864216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Table 3: Preferences for part-time work at persons employed for full-time, Slovenia, 1999 </a:t>
            </a:r>
            <a:br>
              <a:rPr sz="3000"/>
            </a:b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source: Survey on labour market flexi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187280" y="2174760"/>
          <a:ext cx="6842160" cy="468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174760"/>
                    <a:ext cx="684216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Table 4: The choice of employed persons between increase in pay and shorter working time, Slovenia, 1999</a:t>
            </a:r>
            <a:br>
              <a:rPr sz="3000"/>
            </a:b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source: Survey on labour market flexi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58920" y="2205000"/>
          <a:ext cx="691344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691344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flexible employment is a need and not only a pos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Jobs characteris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538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extrinsi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intrinsi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Extrinsic characteris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financial rewards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working time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Verdana"/>
              </a:rPr>
              <a:t>reconciliation between work and family life</a:t>
            </a: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Verdana"/>
              </a:rPr>
              <a:t>job security</a:t>
            </a: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o</a:t>
            </a:r>
            <a:r>
              <a:rPr b="0" lang="en-GB" sz="3600" spc="-1" strike="noStrike">
                <a:solidFill>
                  <a:srgbClr val="000099"/>
                </a:solidFill>
                <a:latin typeface="Verdana"/>
              </a:rPr>
              <a:t>pportunities for</a:t>
            </a: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 a</a:t>
            </a:r>
            <a:r>
              <a:rPr b="0" lang="en-GB" sz="3600" spc="-1" strike="noStrike">
                <a:solidFill>
                  <a:srgbClr val="000099"/>
                </a:solidFill>
                <a:latin typeface="Verdana"/>
              </a:rPr>
              <a:t>dvanc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Verdana"/>
              </a:rPr>
              <a:t>Intrinsic characteristic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job content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job intensity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r</a:t>
            </a:r>
            <a:r>
              <a:rPr b="0" lang="en-GB" sz="3600" spc="-1" strike="noStrike">
                <a:solidFill>
                  <a:srgbClr val="000099"/>
                </a:solidFill>
                <a:latin typeface="Verdana"/>
              </a:rPr>
              <a:t>isk</a:t>
            </a: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 of illness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6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99"/>
                </a:solidFill>
                <a:latin typeface="Verdana"/>
              </a:rPr>
              <a:t>relationship with the oth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High quality job impli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better policie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fair remuneratio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a work organisation adapted to the 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need of both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businesses and individuals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a balance between working and personal life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,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guarantee of fundamental and social righ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facilitating occupational and geographical mo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based on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high skills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fair labour standards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decent levels of occupational health and 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safety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a high level of social protection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real opportunities for all</a:t>
            </a: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Verdana"/>
              </a:rPr>
              <a:t>guarantee of fundamental and social righ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820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The Slovenian labour market tren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50488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ajor changes during last two deca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ble, secure and safe employment during socialis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in the beginning of 1990’s changes in the employment menta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Flexible employm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unctional flex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inancial flex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orking mo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lexibility in models and work organis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Types of contrac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art-time wor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n-permanent emplo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hift work and work during asocial ho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ff lea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08:20:37Z</dcterms:created>
  <dc:creator>Demografske in socialne statistike</dc:creator>
  <dc:description/>
  <dc:language>en-US</dc:language>
  <cp:lastModifiedBy>Demografske in socialne statistike</cp:lastModifiedBy>
  <dcterms:modified xsi:type="dcterms:W3CDTF">2005-05-04T08:10:47Z</dcterms:modified>
  <cp:revision>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57614738</vt:r8>
  </property>
  <property fmtid="{D5CDD505-2E9C-101B-9397-08002B2CF9AE}" pid="3" name="_AuthorEmail">
    <vt:lpwstr>Irena.Svetin@stat.esgov.gov.si</vt:lpwstr>
  </property>
  <property fmtid="{D5CDD505-2E9C-101B-9397-08002B2CF9AE}" pid="4" name="_AuthorEmailDisplayName">
    <vt:lpwstr>Irena Svetin</vt:lpwstr>
  </property>
  <property fmtid="{D5CDD505-2E9C-101B-9397-08002B2CF9AE}" pid="5" name="_EmailSubject">
    <vt:lpwstr>UNECE/Eurostat/ILO Seminar on Quality of Work Statistics, 11-		13 May Geneva - request for full version of paper</vt:lpwstr>
  </property>
</Properties>
</file>