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71F-4060-44CE-9A19-001D3660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2FF-DB56-432B-B3E1-B6AD6D82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47A-6F91-4135-836F-5ADD379D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D87-D4B0-405B-B60A-0080F1BC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7CE-846A-4569-BF57-99B22407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676-5FD2-494A-96A9-1F565708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044-CA1F-4DDC-9DAF-37130F60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7B6-B627-4AA0-AC23-ED53407E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D29-20FC-4C32-881C-59C82ECA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44A-3039-471E-9F38-55AAD41D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84A-46E8-44B3-B41E-6CAB515B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E69-3454-4A52-9B37-4C1C7525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286E-C4C5-4AF6-B56B-45AFCE093B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61008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rena Svetin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atistical Office of the Republic of Sloven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2349000"/>
            <a:ext cx="7561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Type of contracts and Excessive Hours of Work in the Case of Sloven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Work contracts in Sloven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ork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pecific task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authorship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business-cooperation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Excessive hours of wor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irective on working time in EU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at least 11 hours of day r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ekly working hours: max. 4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yearly leave: min 4.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able 1: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Employees usually working more than 48 hours by sectors of activity and sex, Slovenia, 2004 </a:t>
            </a:r>
            <a:br>
              <a:rPr sz="2800"/>
            </a:b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source: LF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403280" y="2417760"/>
          <a:ext cx="6048360" cy="41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17760"/>
                    <a:ext cx="604836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able 2: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Employees usually working more than 48 hours by major groups of occupation and sex, Slovenia 2004</a:t>
            </a:r>
            <a:br>
              <a:rPr sz="2800"/>
            </a:b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source: LF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2247840"/>
          <a:ext cx="8642160" cy="398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47840"/>
                    <a:ext cx="864216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Table 3: Preferences for part-time work at persons employed for full-time, Slovenia, 1999 </a:t>
            </a:r>
            <a:br>
              <a:rPr sz="3000"/>
            </a:b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source: Survey on labour market flexi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87280" y="2174760"/>
          <a:ext cx="6842160" cy="46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74760"/>
                    <a:ext cx="684216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Table 4: The choice of employed persons between increase in pay and shorter working time, Slovenia, 1999</a:t>
            </a:r>
            <a:br>
              <a:rPr sz="3000"/>
            </a:b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source: Survey on labour market flexi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58920" y="2205000"/>
          <a:ext cx="691344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691344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flexible employment is a need and not only a pos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Jobs character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538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extrinsi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intrinsi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Extrinsic character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financial reward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working time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reconciliation between work and family life</a:t>
            </a: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job security</a:t>
            </a: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o</a:t>
            </a: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pportunities for</a:t>
            </a: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 a</a:t>
            </a: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dvanc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Verdana"/>
              </a:rPr>
              <a:t>Intrinsic characteristic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job content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job intensity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r</a:t>
            </a: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isk</a:t>
            </a: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 of illnes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relationship with the oth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High quality job impli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better policie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fair remunerati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a work organisation adapted to the 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need of both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businesses and individuals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a balance between working and personal life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,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guarantee of fundamental and social righ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facilitating occupational and geographical mo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based on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high skills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fair labour standards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decent levels of occupational health and 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safety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a high level of social protection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real opportunities for all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guarantee of fundamental and social righ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820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The Slovenian labour market tren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0488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ajor changes during last two deca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ble, secure and safe employment during social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in the beginning of 1990’s changes in the employment menta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Flexible employm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unctional flex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nancial flex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orking mo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lexibility in models and work organis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Types of contrac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art-time wor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n-permanent em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hift work and work during asocial ho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ff lea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8:20:37Z</dcterms:created>
  <dc:creator>Demografske in socialne statistike</dc:creator>
  <dc:description/>
  <dc:language>en-US</dc:language>
  <cp:lastModifiedBy>Demografske in socialne statistike</cp:lastModifiedBy>
  <dcterms:modified xsi:type="dcterms:W3CDTF">2005-05-04T08:10:47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57614738</vt:r8>
  </property>
  <property fmtid="{D5CDD505-2E9C-101B-9397-08002B2CF9AE}" pid="3" name="_AuthorEmail">
    <vt:lpwstr>Irena.Svetin@stat.esgov.gov.si</vt:lpwstr>
  </property>
  <property fmtid="{D5CDD505-2E9C-101B-9397-08002B2CF9AE}" pid="4" name="_AuthorEmailDisplayName">
    <vt:lpwstr>Irena Svetin</vt:lpwstr>
  </property>
  <property fmtid="{D5CDD505-2E9C-101B-9397-08002B2CF9AE}" pid="5" name="_EmailSubject">
    <vt:lpwstr>UNECE/Eurostat/ILO Seminar on Quality of Work Statistics, 11-		13 May Geneva - request for full version of paper</vt:lpwstr>
  </property>
</Properties>
</file>