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0A5-027D-4352-A796-417518E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8DA-C0DE-4B64-977A-BC31FB3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8C1-C1EE-4FF1-8A1F-1F11C029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A13-8931-4507-8B85-863D4033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BAC-3082-44E0-8F85-5ED9E4B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B3A-8795-4F3C-B9D4-C354CD09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0DB8-7FAD-476F-9309-B9BE5B3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F8F6-C003-45F8-9B39-CCB44DED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7454-3CF1-4A07-8DAF-44B96E6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6A01-25EC-4F0B-B706-2E32F75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4D5-7E78-4645-8799-7B4B33FC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8FB-AC4C-4816-BF9B-1DB5861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B026-B910-42FD-BEA2-6AECD8D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EA93-9C55-406A-9988-353F5F2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E25-787F-438D-AAAC-272501A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5FA7-28EF-41CF-B7CE-51025116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216E-E012-4FA8-92E0-A3A4C7CD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AAE-750E-4B52-9FAF-2D811FE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E7F-31FA-46AF-819C-91C1FCBF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A28-B3FB-491F-AC6A-42BC4432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AF2-2995-48A7-8E06-66045905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8E5-FC76-4C6C-888E-77B70F6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5C4-E626-437A-9577-B70D7668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4E0-5489-4CD6-87E9-B60076F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9C3-AB71-46C8-A294-02BA373BB9CE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C08-AFA3-443D-8A77-DB6BE60C8B5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3B9-552B-4A97-8DE8-63699CA0DE27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1448-E485-494D-BCAE-EF406CED005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E9D8-3BFF-4266-8946-70DF57610AF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B75-7A76-4A55-AC96-DB0055FEB29F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еформальная занятость в Росси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05120" y="4876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Управление статистики труда, образования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науки и культуры  Федеральной службы государственной статистик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Российская Федераци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нятость в неформальном секторе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В неформальном секторе в 2004г. было занято 11,5 млн. человек (17% численности занятого населения), из них 9,6 млн. человек (83%) имели в неформальном секторе основную работу, 1,9 млн. человек (17%) – дополнительную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Большинство занятых в неформальном секторе (83%) не имели работы вне рамок этого сектора, а среди занятых в промышленности, строительстве, на транспорте, в торговле и общественном питании 92% -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8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1F8-4C6E-418F-B517-59E8C79876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4B7B7-0C47-4177-ACD9-199DA09D9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Динамика занятости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221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За последние 4 года число занятых в неформальном секторе увеличилось на 2,3 млн. человек или на 25%. Увеличение обеспечено расширением рабочих мест основной работы, как среди городского, так и сельского населения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67057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617-9D94-4B59-BD3C-DD39DFA551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84711-3682-4AB4-9E5C-5067EDEFB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насе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819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хват занятостью в неформальном секторе: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городского населения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– в среднем -13%, в течени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года -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14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ельских жителей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в среднем –31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 в течение года о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% до 3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% численности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Доля работающих в НФС среди занятых мужчин в зависимости от времени года колеблется от 17% до 20%, среди женщин – от 16% до 18%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594360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1D8-AD0A-4BFC-A221-7A11AF102D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CA9CC-09F6-4107-ACAF-90A6B8A681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населения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0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хват занятостью в неформальном секторе лиц в возрасте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5-19 ле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–35%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арше 60 лет -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24%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начительно меньше охва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ым сектором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занятого населения в остальных возрастных группах - от 11% до 18%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767-5622-4ABF-B54F-D84EEA1088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2CF85-E6CA-4160-8119-E9DBC67F7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городского  сельского населения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19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Охват неформальным сектором занятого сельского населения по сравнению с городским существенно выше, особенно среди молодежи до 20 лет и лиц в возрасте старше 60 лет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За последние 4 года, как среди городских, так и сельских жителей доля занятых в неформальном секторе в численности занятого населения моложе 60 лет повысилась, старше 60 лет - уменьшилась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19520" y="1143000"/>
            <a:ext cx="586728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3E3-3B7C-44FF-9F61-937EC2FAAF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A6A3F-3D12-4879-9785-2FA28C4130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ельскохозяйственная и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несельскохозяйственная деятельность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Среди занятых в неформальном секторе около 3,8 млн.человек (33%) занимались производством продукции сельского, лесного  хозяйства, охоты и рыболовства на условиях первичной или дополнительной  занятости.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основном – это самостоятельно занятые, работающие без привлечения наемных работников, с участием помогающих членов семьи или партнеров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сельскохозяйственной деятельностью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было занято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7,7 млн. человек (66%)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бщей численности занятых в неформальном сектор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772-09E2-4A2A-A54F-602B88E51B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D3142-51E1-49EA-9820-C4BC2AE86F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секторе по сферам деятельности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59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реди занятого в НФС сельского населения доля сельскохозяйственной деятельности составляет: на основной работе - 56%, на дополнительной - 92%; среди городского населения - 6% и 38%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За период с 2001г. численность занятых в неформальном секторе сельскохозяйственной деятельностью практически не изменилась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6095880" cy="489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095-FEA3-461E-8609-AD944E5F25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44444-03F8-4F1E-AB57-C89FACA8F3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траслевая структура несельскохозяйственной занятости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257800" cy="3657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41044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руктур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занятости несельскохозяйственной деятельностью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как среди городского, так и среди сельского населения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наибольший удельный вес занимает торговля на втором месте – промышленность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, далее – строительство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2001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г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по 2004г. численность занятых несельскохозяйственной деятельностью увеличилась на 2,3 млн. человек (на 43%), в том числе в торговле – на 963 тыс. человек (на 30%)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92E-8663-4A56-B5D6-ECED0C060A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5F1F5-30D9-4995-B9CD-22006154EC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Занятые в неформальном секторе по статус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36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реди занятых в неформальном секторе: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5,3 млн. человек (46%) – лица, работающие по найму у отдельных граждан, индивидуальных предпринимателей;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6,2 млн. человек (54%) - предприниматели и лица, работающие на индивидуальной основе,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из них 3,6 млн.человек занимались производством в ЛПХ продукции для реализации или ее переработкой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438280" y="849240"/>
            <a:ext cx="6553440" cy="527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18F-3941-4718-BC25-FB8B3ABF0F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98647-AD60-4F81-9AB9-D8B5DD6EF3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Большинство занятых в неформальном секторе (83%) не имели работы вне рамок этого сектора, а среди занятых в промышленности, строительстве, на транспорте, в торговле и общественном питании 92% -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8%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анятость в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формальном секторе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о многом носит неустойчивый или случайный характер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22A-8A00-4E65-BA6C-FB95CB99968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12432-4280-41F4-A910-C7AB169076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пределение неформального сектора экономики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Критерий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тсутствие государственной регистрации в качестве юридического лиц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Предприятия неформального сектора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 предприятия домашних хозяйств, которые осуществляют производство товаров и услуг для реализации на рынке и не имеют правового статуса юридического лиц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сключаются: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домашние и личные услуги, оказываемые членами домашних хозяйств бесплатно, услуги, оказываемые добровольно на общественных началах, а также производство продукции сельского, лесного хозяйства, охоты, рыболовства для собственного конечного потребления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Население, занятое в не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  лица, которые в течение обследуемого периода были заняты, в одной из единиц неформального сектора независимо от того, являлась ли данная работа для них основной или дополнительной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43F-96AA-4AF6-A52D-64A100AFC0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1CF13-A6C0-4BB0-A526-F2C4423505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ременная и случайная занятость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2743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удовой договор на неопределенный срок среди работающих по найму в НФС имели 35% работающих, 65% имели временную или случайную занятость, в корпоративном секторе – соответственно 93% и 7%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Особенно высока доля временной и случайной занятости среди работающих в возрасте до 19 лет (77%), а также в возрастных группах 60-64 года (74%) и 65-72 года (84%).</a:t>
            </a: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9E0-9BEF-48A7-9669-4DF6EFED93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7386D-C94A-455B-BD88-2DDF2B692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Занятые в неформальном секторе отличаются более высокой долей лиц крайних возрастных групп (молодежи и лиц пожилого возраста) и лиц с низким уровнем образования, для которых стабильная занятость часто недоступна или неприемлема по различным причинам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4E1-F8AD-439B-B7DF-AA448CFB939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EB06B-B07E-4376-99A2-77E007CD5F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возраст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286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Молодежь в возрасте от 15 до 19 лет составляет в численности занятых в неформальном секторе 4,6%, в возрасте свыше 60 лет – 6,2% (в формальном секторе – 1,7% и 3,9%)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508-B4FA-497B-8B61-295E7582C3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FA559-87B6-4254-90DF-C6F0755137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уровню образова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666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В неформальном секторе доля лиц, работающих по найму, с высшим или средним профессиональным образованием, составляет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 среди занятых сельскохозяйственной деятельностью 13%, несельскохозяйственной - около 34%, в формальном секторе – соответственно 26% и 57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Сравнительно высокий уровень образования отмечается только среди работодателей – среди них 62% имеют высшее или среднее профессиональное образование, однако и этот уровень ниже, чем среди работодателей в корпоративном секторе экономики (80%).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819520" y="914400"/>
            <a:ext cx="60958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F66-AFFE-42A1-B308-841361B0DA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C859B-0982-4495-A863-DA34F25CAE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секторе по профессиональным группам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Среди занятых в несельскохозяйственном неформальном секторе наиболее представительной профессиональной группой являются работники торговли и родственных видов деятельности. По уровню профессионального образования эта группа отличается большой разнородностью. Более 38% представителей этой группы занятий не имели никакой профессиональной подготовки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Наряду с этим в составе работников этой группы насчитывалось 300 тыс. человек (12%), имеющих высшее или среднее специальное образования в области педагогических наук, здравоохранения, математики и инженерных специальностей, т.е. лиц, не реализующих потенциал знаний и навыков, полученных в соответствующем учебном заведении.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046-F2A3-4639-A9B4-D230886632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3EA79-E189-4E86-B17F-A817C0F985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ительность рабочего времени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редняя фактическая продолжительность работы в неделю в неформальном секторе (с учетом времени, отработанного на основной и дополнительной работе) составила 34,1 часа, в том числе у мужчин – 35,3 часа, у женщин – 32,8 часа. Лица, имеющие в неформальном секторе основную или единственную работу, отработали в обследуемую неделю в 2004г. в среднем 37,7 часа. Средняя продолжительность рабочей недели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формальном секторе на дополнительной работе составила 16,1 час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спределение занятых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по отработанному времени существенно отличается от распределения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Оно отражает использование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ом секторе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как неполной, так и избыточной занятости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A14-3239-4AD5-AB0C-DB3AB5D570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4DDD4-D14B-49F6-94FE-15141C6ED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отработанному времен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2133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т 31 до 40 часов в неделю трудились 51%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занятых в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НФС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до 30 часов - 25%, перерабатывали по сравнению с нормальной продолжительностью рабочей недели (40 часов) 24% занятых, из них имели избыточную занятость (свыше 48 часов в неделю) - 15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ФС основная часть занятого населения (88%), имеющего одну работу, работала в обследуемую неделю 31-40 часов, а ниже и выше этих границ – примерно по 6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286000" y="10666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D9D-5F2B-47B3-B750-C195ED4A916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038F-A351-4AD7-B2BF-0939E23BC1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и формальном секторе в гендерном аспект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95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сельскохозяйственной деятельности в НФС женщины составляют 47%,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- 50%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роительстве, науке, финансовой деятельности, в культуре и на транспорте доля женщин среди работающих в НФС на 14-25 процентных пунктов ниже, чем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В жилищно-коммунальном хозяйстве и бытовом обслуживании отмечается обратное соотношение: доля женщин среди работающих в НФС на 27 процентных пунктов выше, чем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сельском хозяйстве женщины в НФС составляют 50% против 35% в численности занятых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048120" y="838080"/>
            <a:ext cx="59436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E0C-CDE5-48D8-87CC-8F698DBFB3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ADBDC-65BC-48BA-8F69-20F695CE4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Занятость населения производством в домашнем хозяйстве продукции для собственного потребл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 2004 г.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21,5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, или пятая часть населения в возраст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15-7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года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были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заняты в хозяйствах  населения производством продукции сельского, лесного хозяйства, охоты и рыболовства для собственного потребления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(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при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измерении экономической активности и занятости населения в России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эта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деятельность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не считается работой или доходным занятием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Около половины из них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городские жители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(56%) имели помимо этой деятельности имели доходное занятие, в соответствии  с которым классифицировались как занятые в экономик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9,4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были заняты только этой деятельностью, в том числе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1,5 млн. человек (7%) классифицировались как безработны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7,9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(37%) – как экономически неактивны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о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кварталах размеры занятости населения производством в домашнем хозяйстве продукции для собственного потребления в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3,8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раза выше, чем в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кварталах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00B-FE22-4D96-B50C-A7665B2E2C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FFB11-1B33-4C66-8C47-5C47744BA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по экономической активности населения, занятого в домашнем хозяйстве производством продукции для собственного потреб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C3A-6833-4CC0-8A38-963231D94F3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CA26D-9EDF-4FD4-8555-1A10BA47B4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пределение занятости в неформальной экономике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Понятие </a:t>
            </a:r>
            <a:r>
              <a:rPr b="1" i="1" lang="ru-RU" sz="2400" spc="-1" strike="noStrike">
                <a:solidFill>
                  <a:srgbClr val="545472"/>
                </a:solidFill>
                <a:latin typeface="Tahoma"/>
              </a:rPr>
              <a:t>занятости в неформальной экономике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545472"/>
                </a:solidFill>
                <a:latin typeface="Tahoma"/>
              </a:rPr>
              <a:t>неформальной занятости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 шире понятия занятости в неформальном секторе экономики и включает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занятых в неформальном секторе экономики, определенных в соответствии с установленными критериями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занятых на неформальных рабочих местах в формальном секторе экономики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0EA-C397-4ED4-A6B2-0B7EDC6226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0D359-80A3-40FA-83D3-80F0C269C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Категории рабочих мест неформальной занятости по данным ОРС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E02-7347-4CFA-ADD1-34AB73491F3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232FD-89CA-41DA-A2D1-5FD20C7141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сточники измерения занятости в неформальной экономике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196640"/>
            <a:ext cx="8153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змерение занятости в неформальном секторе экономики: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1г. - по результатам обследований населения по проблемам занятости (обследований рабочей силы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пециальные обследования индивидуальных предпринимателей в отдельных видах деятельности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административные источники (регистр предприятий и организаций, данные налоговых органов, данные органов регистрирующих лицензионную деятельность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г. - обобщающие расчеты на основе интеграции данных из различных источников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змерение занятости в неформальной экономик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 года по результатам обследований населения по проблемам занятости (обследований рабочей силы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г. - обобщающие расчеты на основе интеграции данных из различных источников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8F8-6470-4C8A-8B7D-BF52B4FEE6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BB139-C179-440F-BD44-0E1E93529B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Классификация респондентов по принадлежности к неформальной экономике по данным ОРС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1125360"/>
          <a:ext cx="8534160" cy="5085000"/>
        </p:xfrm>
        <a:graphic>
          <a:graphicData uri="http://schemas.openxmlformats.org/drawingml/2006/table">
            <a:tbl>
              <a:tblPr/>
              <a:tblGrid>
                <a:gridCol w="6354720"/>
                <a:gridCol w="649080"/>
                <a:gridCol w="863640"/>
                <a:gridCol w="666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 РМ в 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ФРМ в 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есто работы и статус занятости: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 предприятии, в организации, в фермерском хозяйстве: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владельц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юридического лица     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помогающего на предприятии родственник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юридического лица     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741-AA54-4801-97CB-2D557D32522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392E7-5AAE-4EB3-91B8-95F442A747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Классификация респондентов по принадлежности к неформальной экономике по данным ОРС </a:t>
            </a:r>
            <a:r>
              <a:rPr b="0" i="1" lang="ru-RU" sz="2000" spc="-1" strike="noStrike">
                <a:solidFill>
                  <a:srgbClr val="660066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413000"/>
          <a:ext cx="8534160" cy="4717800"/>
        </p:xfrm>
        <a:graphic>
          <a:graphicData uri="http://schemas.openxmlformats.org/drawingml/2006/table">
            <a:tbl>
              <a:tblPr/>
              <a:tblGrid>
                <a:gridCol w="6248160"/>
                <a:gridCol w="685800"/>
                <a:gridCol w="914400"/>
                <a:gridCol w="685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 РМ в 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ФРМ в 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наемного работник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письменному трудовому договору на неопределенный срок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письменному трудовому договору на определенный срок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договору подряда в письменной форме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 основе устной договоренност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редпринимательская деятельность без образования юридического лица, работа на индивидуальной основе: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, 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абота по найму у физических лиц, индивидуальных предпринимателей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абота в ЛПХ по производству продукции для реализ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70F-DBC3-4BA8-A289-C3B790A1366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233C4-B42E-4C73-B27B-E4C17CB066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Анализ неформальной занятости по данным ОРС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2004г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из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общ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го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числ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х мест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2,7 млн. (18%)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оставлял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рабочие места неформальной занятост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из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них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0,3 млн. (81%) - 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основной работы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,4 млн. (19%) –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ополнительной работы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 общего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числа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х мест неформальной занятости 94%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оставляют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е места производственных единиц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ФС и 6%- неформальные рабочие места ФС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16C-769E-48EC-8510-09C0FF682D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0C03A-E4DE-42A8-A207-D59E6D8CFE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97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Динамика неформальной занятост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271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 2001г. по 2004г. число рабочих мест  неформальной занятости увеличилось на 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7 млн. или на 27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что обеспечило общий прирост числа рабочих мест в экономике России при сокращении числа формальных рабочих мест на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0,8 млн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, или на 1,3%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6145200" cy="532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80C-3261-407D-AF55-C685F6F198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6BEBC-9D6E-4F20-A0A6-38C1ECC3A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05-06T06:17:23Z</dcterms:modified>
  <cp:revision>162</cp:revision>
  <dc:subject/>
  <dc:title>Презентация PowerPoint</dc:title>
</cp:coreProperties>
</file>