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F06-5F08-4076-A543-40D135E6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1AB-F649-4D1D-9375-C79D9D78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E7D-97EB-4E4B-A390-ED81FECA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E4B-33DB-48DF-BE5A-F8A3FC11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79ED-FFD9-46AE-82C0-3D922A74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5DF7-E4E4-428C-942B-2902B621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B59C-1999-498A-8731-ABB5140E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AF8E-98C3-4D5E-B912-D9AB799B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1558-7043-4A95-AE65-A7E76316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4C44-254E-47FE-99DD-0ADAAB1A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C6B8-EF1A-40EB-BAC4-0240FEB9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255-A4B8-472D-92CC-D2C2E573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57A4-3D73-4D5B-BD70-8AE8DFE8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B704-60F4-4E81-B82D-1B207C5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4AF5-6D29-4C32-BAA6-2EA87E1B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7FF6-D157-4B99-857F-0D40F260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EDA7-7DC7-4CEA-B2C7-5803C8B6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387-E473-4416-8763-E788AD1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FF1-0F29-4585-85AD-83B8CBCD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07F-E804-4B5A-B81F-D633733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A1C-6BA5-493F-B33D-06A99240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23F-1784-46DF-BCB8-0186E46E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038-8E77-4CBC-888B-50E4531C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6DD-D32D-4D6C-8052-EED3C496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E627-4135-49A6-BC81-7A4CDF357A48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4E81-6FAB-4F1E-977E-4C189FD91B44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644E-90CF-478E-B793-EF31B7CABD6C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DB03-7E63-4CF2-9E9E-39E01CEE3093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E1AA-4084-4077-B16E-AF18D5AF496E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0ABC-A69A-474A-AF54-BC0A2F5F29F8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Неформальная занятость в Росси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05120" y="4876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Управление статистики труда, образования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науки и культуры  Федеральной службы государственной статистик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Российская Федерация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Занятость в неформальном секторе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В неформальном секторе в 2004г. было занято 11,5 млн. человек (17% численности занятого населения), из них 9,6 млн. человек (83%) имели в неформальном секторе основную работу, 1,9 млн. человек (17%) – дополнительную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Большинство занятых в неформальном секторе (83%) не имели работы вне рамок этого сектора, а среди занятых в промышленности, строительстве, на транспорте, в торговле и общественном питании 92% -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8%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582-0FBB-41B7-B6C9-99323728C6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0F75E-B962-4B98-A8AA-2FAB8CC635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Динамика занятости в неформальном сектор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221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За последние 4 года число занятых в неформальном секторе увеличилось на 2,3 млн. человек или на 25%. Увеличение обеспечено расширением рабочих мест основной работы, как среди городского, так и сельского населения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0" y="914400"/>
            <a:ext cx="670572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027-13DB-4EE7-82F2-BD26A3AACFD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43E84-4B42-4756-A7DD-EAF8B2931B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оля занятых в неформальном секторе в численности занятого населения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2819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Охват занятостью в неформальном секторе: </a:t>
            </a:r>
            <a:r>
              <a:rPr b="0" i="1" lang="ru-RU" sz="2000" spc="-1" strike="noStrike">
                <a:solidFill>
                  <a:srgbClr val="545472"/>
                </a:solidFill>
                <a:latin typeface="Times New Roman"/>
              </a:rPr>
              <a:t>городского населения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– в среднем -13%, в течение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года -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-14%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; </a:t>
            </a:r>
            <a:r>
              <a:rPr b="0" i="1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сельских жителей</a:t>
            </a:r>
            <a:r>
              <a:rPr b="0" i="1" lang="ru-RU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в среднем –31%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, в течение года от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% до 3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% численности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Доля работающих в НФС среди занятых мужчин в зависимости от времени года колеблется от 17% до 20%, среди женщин – от 16% до 18%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048120" y="1295280"/>
            <a:ext cx="594360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2FF-1DB5-4325-96AF-9BB97017CE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7B04A-D695-4EB5-B04B-0343CDB81B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оля занятых в неформальном секторе в численности занятого населения по возрастным группам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20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Охват занятостью в неформальном секторе лиц в возрасте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5-19 лет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–35%,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старше 60 лет -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24%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Значительно меньше охват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неформальным сектором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занятого населения в остальных возрастных группах - от 11% до 18%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662940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A3F-87EB-4FBC-833D-29F428CC4C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42B3B-810D-4A3D-92FC-26FFC93C3E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оля занятых в неформальном секторе в численности занятого городского  сельского населения по возрастным группам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19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Охват неформальным сектором занятого сельского населения по сравнению с городским существенно выше, особенно среди молодежи до 20 лет и лиц в возрасте старше 60 лет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За последние 4 года, как среди городских, так и сельских жителей доля занятых в неформальном секторе в численности занятого населения моложе 60 лет повысилась, старше 60 лет - уменьшилась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819520" y="1143000"/>
            <a:ext cx="5867280" cy="437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8FE-68FD-4385-96D4-E53449179C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83998-E7E4-4CCB-845B-96B7FE92E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ельскохозяйственная и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несельскохозяйственная деятельность в неформальном сектор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Среди занятых в неформальном секторе около 3,8 млн.человек (33%) занимались производством продукции сельского, лесного  хозяйства, охоты и рыболовства на условиях первичной или дополнительной  занятости.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основном – это самостоятельно занятые, работающие без привлечения наемных работников, с участием помогающих членов семьи или партнеров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Н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есельскохозяйственной деятельностью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было занято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7,7 млн. человек (66%)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общей численности занятых в неформальном сектор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0F3-B800-4756-8C07-F1EF91D460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A7C96-6D24-41C3-96A6-143A5E467B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Состав занятых в неформальном секторе по сферам деятельности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590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Среди занятого в НФС сельского населения доля сельскохозяйственной деятельности составляет: на основной работе - 56%, на дополнительной - 92%; среди городского населения - 6% и 38%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За период с 2001г. численность занятых в неформальном секторе сельскохозяйственной деятельностью практически не изменилась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6095880" cy="489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8E8-5ED8-418A-A96B-99D579AD0B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52E0E-1156-49A7-8BFB-55BC58142D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Отраслевая структура несельскохозяйственной занятости в неформальном сектор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5257800" cy="3657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5410440" cy="3657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419112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структур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е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занятости несельскохозяйственной деятельностью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как среди городского, так и среди сельского населения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наибольший удельный вес занимает торговля на втором месте – промышленность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, далее – строительство.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2001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г.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по 2004г. численность занятых несельскохозяйственной деятельностью увеличилась на 2,3 млн. человек (на 43%), в том числе в торговле – на 963 тыс. человек (на 30%)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CCC-018B-4BB3-A369-2B73B770E8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4F5CD-BAB6-4457-B7A2-4383E62DB5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Занятые в неформальном секторе по статусу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362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Среди занятых в неформальном секторе: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5,3 млн. человек (46%) – лица, работающие по найму у отдельных граждан, индивидуальных предпринимателей;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6,2 млн. человек (54%) - предприниматели и лица, работающие на индивидуальной основе,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из них 3,6 млн.человек занимались производством в ЛПХ продукции для реализации или ее переработкой.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438280" y="849240"/>
            <a:ext cx="6553440" cy="527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473-7A02-4EFA-8414-58E988CB133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F5FF9-2644-4E9A-BBE2-81148E7BC7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Большинство занятых в неформальном секторе (83%) не имели работы вне рамок этого сектора, а среди занятых в промышленности, строительстве, на транспорте, в торговле и общественном питании 92% -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8%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Занятость в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еформальном секторе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о многом носит неустойчивый или случайный характер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7D6-52F2-4219-B3EE-E4259052B90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0870F-C64A-4A65-BB67-09BE2B2540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Определение неформального сектора экономики в Росси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Критерий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-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отсутствие государственной регистрации в качестве юридического лица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Предприятия неформального сектора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- предприятия домашних хозяйств, которые осуществляют производство товаров и услуг для реализации на рынке и не имеют правового статуса юридического лица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Исключаются: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домашние и личные услуги, оказываемые членами домашних хозяйств бесплатно, услуги, оказываемые добровольно на общественных началах, а также производство продукции сельского, лесного хозяйства, охоты, рыболовства для собственного конечного потребления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Население, занятое в неформальном сектор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-  лица, которые в течение обследуемого периода были заняты, в одной из единиц неформального сектора независимо от того, являлась ли данная работа для них основной или дополнительной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830-4755-4FA1-93CD-FE08AFAE33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E191A-0B68-4CB6-A854-9D95286D5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Временная и случайная занятость по возрастным группам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2743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Т</a:t>
            </a: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рудовой договор на неопределенный срок среди работающих по найму в НФС имели 35% работающих, 65% имели временную или случайную занятость, в корпоративном секторе – соответственно 93% и 7%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Особенно высока доля временной и случайной занятости среди работающих в возрасте до 19 лет (77%), а также в возрастных группах 60-64 года (74%) и 65-72 года (84%).</a:t>
            </a:r>
            <a:r>
              <a:rPr b="1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81952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7B8-658B-4BA0-8AB2-EA4CC4E51F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7C476-DD0F-4643-BD42-12088BC0AE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Занятые в неформальном секторе отличаются более высокой долей лиц крайних возрастных групп (молодежи и лиц пожилого возраста) и лиц с низким уровнем образования, для которых стабильная занятость часто недоступна или неприемлема по различным причинам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856-6905-4BC6-ABBC-20388C6FD91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B325F-E5FF-4912-9F7A-1E7787AE1B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остав занятых по возрасту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286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Молодежь в возрасте от 15 до 19 лет составляет в численности занятых в неформальном секторе 4,6%, в возрасте свыше 60 лет – 6,2% (в формальном секторе – 1,7% и 3,9%)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956-4028-4096-9DDF-E50F4163D30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33B23-5CDF-488A-83C7-29225DE18E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остав занятых по уровню образова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666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  <a:ea typeface="Times New Roman"/>
              </a:rPr>
              <a:t>В неформальном секторе доля лиц, работающих по найму, с высшим или средним профессиональным образованием, составляет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: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  <a:ea typeface="Times New Roman"/>
              </a:rPr>
              <a:t> среди занятых сельскохозяйственной деятельностью 13%, несельскохозяйственной - около 34%, в формальном секторе – соответственно 26% и 57%.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  <a:ea typeface="Times New Roman"/>
              </a:rPr>
              <a:t>Сравнительно высокий уровень образования отмечается только среди работодателей – среди них 62% имеют высшее или среднее профессиональное образование, однако и этот уровень ниже, чем среди работодателей в корпоративном секторе экономики (80%).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819520" y="914400"/>
            <a:ext cx="609588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C1D-374C-4F19-A24F-733E214608D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E17BF-B513-4547-A247-B16D0C4412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остав занятых в неформальном секторе по профессиональным группам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Среди занятых в несельскохозяйственном неформальном секторе наиболее представительной профессиональной группой являются работники торговли и родственных видов деятельности. По уровню профессионального образования эта группа отличается большой разнородностью. Более 38% представителей этой группы занятий не имели никакой профессиональной подготовки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Наряду с этим в составе работников этой группы насчитывалось 300 тыс. человек (12%), имеющих высшее или среднее специальное образования в области педагогических наук, здравоохранения, математики и инженерных специальностей, т.е. лиц, не реализующих потенциал знаний и навыков, полученных в соответствующем учебном заведении.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FE9-76F9-42FE-A720-6D0174F8ADA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C052F-2AE7-4E35-9D63-5CD8D0FD96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родолжительность рабочего времени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Средняя фактическая продолжительность работы в неделю в неформальном секторе (с учетом времени, отработанного на основной и дополнительной работе) составила 34,1 часа, в том числе у мужчин – 35,3 часа, у женщин – 32,8 часа. Лица, имеющие в неформальном секторе основную или единственную работу, отработали в обследуемую неделю в 2004г. в среднем 37,7 часа. Средняя продолжительность рабочей недели в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н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еформальном секторе на дополнительной работе составила 16,1 часа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Распределение занятых в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неформальном секторе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по отработанному времени существенно отличается от распределения в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формальном секторе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 Оно отражает использование в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неформальном секторе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как неполной, так и избыточной занятости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1A6-1EB3-4B1C-A91B-9111261190B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DC80E-07A8-40EE-A36B-1FC6B6258B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остав занятых по отработанному времени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2133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О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т 31 до 40 часов в неделю трудились 51%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 занятых в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НФС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до 30 часов - 25%, перерабатывали по сравнению с нормальной продолжительностью рабочей недели (40 часов) 24% занятых, из них имели избыточную занятость (свыше 48 часов в неделю) - 15%.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ФС основная часть занятого населения (88%), имеющего одну работу, работала в обследуемую неделю 31-40 часов, а ниже и выше этих границ – примерно по 6%.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286000" y="10666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462-AC03-4E78-9CB8-9DC16E7BB99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E2058-96D2-4FF2-A597-E125EDC98F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Состав занятых в неформальном и формальном секторе в гендерном аспекте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958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есельскохозяйственной деятельности в НФС женщины составляют 47%, в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Ф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- 50%.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строительстве, науке, финансовой деятельности, в культуре и на транспорте доля женщин среди работающих в НФС на 14-25 процентных пунктов ниже, чем в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Ф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 В жилищно-коммунальном хозяйстве и бытовом обслуживании отмечается обратное соотношение: доля женщин среди работающих в НФС на 27 процентных пунктов выше, чем в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Ф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сельском хозяйстве женщины в НФС составляют 50% против 35% в численности занятых в 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ФС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048120" y="838080"/>
            <a:ext cx="5943600" cy="53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3DB-06DD-439D-8E05-7DC25242949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D9495-9452-4F6B-95B4-82134A3AFF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Занятость населения производством в домашнем хозяйстве продукции для собственного потребл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 2004 г.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21,5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млн. человек, или пятая часть населения в возрасте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15-72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года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были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заняты в хозяйствах  населения производством продукции сельского, лесного хозяйства, охоты и рыболовства для собственного потребления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(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при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измерении экономической активности и занятости населения в России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эта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деятельность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не считается работой или доходным занятием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Около половины из них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городские жители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12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млн. человек (56%) имели помимо этой деятельности имели доходное занятие, в соответствии  с которым классифицировались как занятые в экономик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9,4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млн. человек были заняты только этой деятельностью, в том числе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1,5 млн. человек (7%) классифицировались как безработны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7,9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млн. человек (37%) – как экономически неактивные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о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и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кварталах размеры занятости населения производством в домашнем хозяйстве продукции для собственного потребления в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3,8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раза выше, чем в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и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кварталах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6A7-FDD0-4D39-818E-F8057583A83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1FE1A-3353-4802-B2BD-7793F5DDEB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534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Состав по экономической активности населения, занятого в домашнем хозяйстве производством продукции для собственного потребления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73C-98C0-4A5C-AD7F-2882C2E38B1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BAF0E-AADD-4860-B4D2-9598F838C9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Определение занятости в неформальной экономике в Росси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Понятие </a:t>
            </a:r>
            <a:r>
              <a:rPr b="1" i="1" lang="ru-RU" sz="2400" spc="-1" strike="noStrike">
                <a:solidFill>
                  <a:srgbClr val="545472"/>
                </a:solidFill>
                <a:latin typeface="Tahoma"/>
              </a:rPr>
              <a:t>занятости в неформальной экономике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или </a:t>
            </a:r>
            <a:r>
              <a:rPr b="1" i="1" lang="ru-RU" sz="2400" spc="-1" strike="noStrike">
                <a:solidFill>
                  <a:srgbClr val="545472"/>
                </a:solidFill>
                <a:latin typeface="Tahoma"/>
              </a:rPr>
              <a:t>неформальной занятости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 шире понятия занятости в неформальном секторе экономики и включает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занятых в неформальном секторе экономики, определенных в соответствии с установленными критериями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занятых на неформальных рабочих местах в формальном секторе экономики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8B4-0013-4B73-A1B5-80B656FA6B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24462-157D-4A2C-BCE5-95CD2FE947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Категории рабочих мест неформальной занятости по данным ОРС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4F7-C138-4491-951B-F9FF1321440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46BB9-9616-4ABA-849C-54951A6D42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сточники измерения занятости в неформальной экономике в Росси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196640"/>
            <a:ext cx="8153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Измерение занятости в неформальном секторе экономики: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 2001г. - по результатам обследований населения по проблемам занятости (обследований рабочей силы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пециальные обследования индивидуальных предпринимателей в отдельных видах деятельности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административные источники (регистр предприятий и организаций, данные налоговых органов, данные органов регистрирующих лицензионную деятельность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 2004г. - обобщающие расчеты на основе интеграции данных из различных источников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45472"/>
                </a:solidFill>
                <a:latin typeface="Tahoma"/>
              </a:rPr>
              <a:t>Измерение занятости в неформальной экономик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 2004 года по результатам обследований населения по проблемам занятости (обследований рабочей силы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с 2004г. - обобщающие расчеты на основе интеграции данных из различных источников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A36-BA02-4DAF-882E-90E1C7FF21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ED0C6-2972-4CE0-83F8-6BA14DA807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Классификация респондентов по принадлежности к неформальной экономике по данным ОРС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24000" y="1125360"/>
          <a:ext cx="8534160" cy="5085000"/>
        </p:xfrm>
        <a:graphic>
          <a:graphicData uri="http://schemas.openxmlformats.org/drawingml/2006/table">
            <a:tbl>
              <a:tblPr/>
              <a:tblGrid>
                <a:gridCol w="6354720"/>
                <a:gridCol w="649080"/>
                <a:gridCol w="863640"/>
                <a:gridCol w="6667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ФС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Ф РМ в ФС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ФРМ в ФС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есто работы и статус занятости: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а предприятии, в организации, в фермерском хозяйстве: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в качестве владельц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регистрацией юридического лица     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регистрацией индивидуального предпринимательств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регистрация в стадии оформления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без регистрации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в качестве помогающего на предприятии родственник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регистрацией юридического лица     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регистрацией индивидуального предпринимательств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регистрация в стадии оформления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без регистрации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D73-8686-4FAB-B4B6-5C28FB036D2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6659C-A05C-47EB-AF3F-B6AD22A8CF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Классификация респондентов по принадлежности к неформальной экономике по данным ОРС </a:t>
            </a:r>
            <a:r>
              <a:rPr b="0" i="1" lang="ru-RU" sz="2000" spc="-1" strike="noStrike">
                <a:solidFill>
                  <a:srgbClr val="660066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1413000"/>
          <a:ext cx="8534160" cy="4717800"/>
        </p:xfrm>
        <a:graphic>
          <a:graphicData uri="http://schemas.openxmlformats.org/drawingml/2006/table">
            <a:tbl>
              <a:tblPr/>
              <a:tblGrid>
                <a:gridCol w="6248160"/>
                <a:gridCol w="685800"/>
                <a:gridCol w="914400"/>
                <a:gridCol w="685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ФС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Ф РМ в ФС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ФРМ в ФС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в качестве наемного работник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о письменному трудовому договору на неопределенный срок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о письменному трудовому договору на определенный срок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о договору подряда в письменной форме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а основе устной договоренности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редпринимательская деятельность без образования юридического лица, работа на индивидуальной основе: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регистрацией индивидуального предпринимательства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регистрация в стадии оформления, без регистрации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Работа по найму у физических лиц, индивидуальных предпринимателей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Работа в ЛПХ по производству продукции для реализации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+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0DA-482C-48BF-A815-476EE0A1D01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EFC26-8B81-419B-AF68-483ABC991E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Анализ неформальной занятости по данным ОРС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2004г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из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обще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го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числ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рабочих мест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2,7 млн. (18%)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составляли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рабочие места неформальной занятости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из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них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0,3 млн. (81%) - </a:t>
            </a:r>
            <a:r>
              <a:rPr b="0" i="1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основной работы</a:t>
            </a:r>
            <a:r>
              <a:rPr b="0" i="1" lang="ru-RU" sz="2400" spc="-1" strike="noStrike">
                <a:solidFill>
                  <a:srgbClr val="545472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,4 млн. (19%) –</a:t>
            </a:r>
            <a:r>
              <a:rPr b="0" i="1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дополнительной работы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з общего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числа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рабочих мест неформальной занятости 94%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составляют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рабочие места производственных единиц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ФС и 6%- неформальные рабочие места ФС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7AA-945D-41D8-98A3-5085EF000E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846ED-8E66-4EFC-87FB-6BBDB6E3B0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97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Динамика неформальной занятост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2716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С 2001г. по 2004г. число рабочих мест  неформальной занятости увеличилось на 2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7 млн. или на 27%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что обеспечило общий прирост числа рабочих мест в экономике России при сокращении числа формальных рабочих мест на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0,8 млн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, или на 1,3%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6145200" cy="532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39B-B989-44CD-B627-0D04FC1903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EE390-8779-46DD-9A26-3FD89E974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5-05-06T06:17:23Z</dcterms:modified>
  <cp:revision>162</cp:revision>
  <dc:subject/>
  <dc:title>Презентация PowerPoint</dc:title>
</cp:coreProperties>
</file>