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6AE-55E2-408B-9519-725FE7F4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7A4-12B9-41C9-A9B3-E06B173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535-DE15-4EE0-8347-E05A0C4C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722-6DE5-4E31-8956-4F412104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9FFF-97CB-43CA-A4B3-F15C5D50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FBFC-4F8B-46ED-86B9-2FD6C442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9E1-9B31-4624-8AEC-4B9E6D3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07A0-AEFB-421C-BCF9-598D803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415D-F87C-46C3-A788-793D99E2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B870-FD26-40BE-84A7-2EFFF518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4CFE-FC61-4B54-B39A-EF2A6C83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2E5-B48D-4E7B-A4F7-CD481A1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9929-353F-4551-A625-F0A4B64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81AB-4C8C-40DD-862E-B985487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E300-0F16-41C7-ACC1-45FEEF74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6512-2227-4555-9C2B-3E76B40B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5995-E795-40E4-B82F-1805C068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3DA-1CAA-4072-A21A-0AB11A41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90E-6443-4E33-A972-3967DA41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ACB-0ED6-478B-9F47-3724B7F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7BD-916D-427F-92B6-3BCE221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212-9356-49C5-9E5F-6DCB981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DAD-D914-4BBC-B3AC-F42773B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3E1-63B6-44A5-8046-EC006E6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58E-6ECE-4303-B236-F74703E4A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C83-125A-4A62-9325-F4F373B0A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The labour market situation of women being on childcare 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leave in Hunga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pecial difficulties in access to labour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Joint ECE/ILO/Eurostat Seminar on Quality of Work, 11-13 May 2005, Gene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Distribution of child-care beneficiaries after the entitlement period, by the possibility of the return to work, 1993, 1995, 1999, 200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ffff"/>
                </a:solidFill>
                <a:latin typeface="Tahoma"/>
              </a:rPr>
              <a:t>Cont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ief history of women’s employment and the childcar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labour market exclusion of child-raising women in the 2000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in factors of the disadvantageous  position of child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aising women and steps to improve the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employ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1532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Brief history of women’s employment and the childcare syste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bour shortage in the 50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- increasing women employment rate, short maternity leave, wide and adaptable network of childcare instit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emographical peak , lack of childcare institutions - the childcare allowance was introduced at the end of 60-ies (low fix sum for one ye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the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70s 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 duration of the childcare allowance period wa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tended to 3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82 the childcare fee was introduced (wage depending fee for the first period of the childcare lea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the beginning of  90s  every 5th workplace disappeared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women with small children became less employable gro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93 as part of the „Social law” the child-raising benefit was introduced (motherhood as a main jo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96 allowances became mean-tested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ill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1998)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ut the employment criterion was cance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The main characteristics of the existing childcare syste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The presence of child-raising women on the labour market in the 2000s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creasing % of young mothers stay a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me for the whole childcare period and even af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allel with the increasing  number of children in the family decreasing labour market participation of mother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ve exceptio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mothers with higher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Main factors of the disadvantageous position of child</a:t>
            </a:r>
            <a:r>
              <a:rPr b="1" lang="hu-HU" sz="2400" spc="-1" strike="noStrike">
                <a:solidFill>
                  <a:srgbClr val="e5ffff"/>
                </a:solidFill>
                <a:latin typeface="Tahoma"/>
              </a:rPr>
              <a:t>-</a:t>
            </a: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raising women and steps to improve their employability</a:t>
            </a:r>
            <a:br>
              <a:rPr sz="2400"/>
            </a:b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Factors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uring the long maternity leav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ection with the employer gets loose or even term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knowledge  becom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ut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ss flexibility in connection with work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ircumstances (e.g. overtime, shift work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at the weekend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long dist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equent absence from work due to care of sick chi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w chance to find suitable workplace (part time work, distance work, flexi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ufficient supplementary effect between value of housework and the take home p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600" spc="-1" strike="noStrike">
                <a:solidFill>
                  <a:srgbClr val="e5ffff"/>
                </a:solidFill>
                <a:latin typeface="Tahoma"/>
              </a:rPr>
              <a:t>Steps to improve employability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ree education or labour marke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raining for parents on childcare le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anding  eligibility for work in the childcare leav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bsidies for employer in case of employment after childcar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special award for the so called family friendly work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r>
              <a:rPr b="1" lang="hu-HU" sz="4400" spc="-1" strike="noStrike">
                <a:solidFill>
                  <a:srgbClr val="e5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l improvement: labour intensive economic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amily friendly social cl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mall steps are importan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Proportion of working mothers compared to all women of the same educational level, by number of childre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3:21:08Z</dcterms:created>
  <dc:creator>KSH</dc:creator>
  <dc:description/>
  <dc:language>en-US</dc:language>
  <cp:lastModifiedBy>KSH</cp:lastModifiedBy>
  <dcterms:modified xsi:type="dcterms:W3CDTF">2005-04-25T12:28:34Z</dcterms:modified>
  <cp:revision>61</cp:revision>
  <dc:subject/>
  <dc:title>The labour market situation of women being on childcare  leave in Hung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4351191</vt:r8>
  </property>
  <property fmtid="{D5CDD505-2E9C-101B-9397-08002B2CF9AE}" pid="3" name="_AuthorEmail">
    <vt:lpwstr>anna.kovacs@office.ksh.hu</vt:lpwstr>
  </property>
  <property fmtid="{D5CDD505-2E9C-101B-9397-08002B2CF9AE}" pid="4" name="_AuthorEmailDisplayName">
    <vt:lpwstr>Kovács Anna</vt:lpwstr>
  </property>
  <property fmtid="{D5CDD505-2E9C-101B-9397-08002B2CF9AE}" pid="5" name="_EmailSubject">
    <vt:lpwstr/>
  </property>
</Properties>
</file>