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0CC-2C10-46B1-8408-13E9C56E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FF3-CF33-45E4-8566-FCAFA42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150-0921-4548-9DE2-BEF722DA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B1A-3953-4619-A364-56002F24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E3DF-5987-4319-8B63-AA60B510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2F3C-B560-4226-A798-8D7AF444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AFB9-6B02-4163-9DBF-DD5740FC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DDD2-CF12-4053-9192-C66751D8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C3F9-4516-44EA-8EFC-E688A1F6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B015-6E69-4F84-8240-8CBD4024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BA00-FEEA-4709-89F6-F1B9F233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D1E-B933-460E-8F63-245F86B7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A48B-5511-41AD-89BE-E1B0CAA9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BFA4-9BF2-404B-8AC8-0C55A787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DB25-B93D-41B2-9194-23FC8A68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2304-079B-4227-808A-BF6AE91F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29DA-4586-4FD1-9C3A-E03120D4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727-1967-4BD7-990F-4F8F9798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F51-4729-4CF8-B435-5A812C41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4FB-ABEE-4E88-AED5-97896554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9EA-9428-473B-B10E-2C528130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ABF-AF7A-405F-A255-0A86A4B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D78-2837-494B-8E7D-B798042D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AC5-5884-4F30-8A79-4A8C5CCE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EFA6-473D-439E-9500-186A0327F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FE3A-1604-466A-B1E1-BA371728F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The labour market situation of women being on childcare 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leave in Hunga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pecial difficulties in access to labour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Joint ECE/ILO/Eurostat Seminar on Quality of Work, 11-13 May 2005, Gene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Distribution of child-care beneficiaries after the entitlement period, by the possibility of the return to work, 1993, 1995, 1999, 2002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ffff"/>
                </a:solidFill>
                <a:latin typeface="Tahoma"/>
              </a:rPr>
              <a:t>Cont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ief history of women’s employment and the childcare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he labour market exclusion of child-raising women in the 2000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ain factors of the disadvantageous  position of child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aising women and steps to improve the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employ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1532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Tahoma"/>
              </a:rPr>
              <a:t>Brief history of women’s employment and the childcare system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bour shortage in the 50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- increasing women employment rate, short maternity leave, wide and adaptable network of childcare instit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emographical peak , lack of childcare institutions - the childcare allowance was introduced at the end of 60-ies (low fix sum for one ye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 the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70s 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e duration of the childcare allowance period was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tended to 3 ye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 1982 the childcare fee was introduced (wage depending fee for the first period of the childcare leav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 the beginning of  90s  every 5th workplace disappeared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women with small children became less employable gro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 1993 as part of the „Social law” the child-raising benefit was introduced (motherhood as a main job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 1996 allowances became mean-tested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ill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1998)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ut the employment criterion was cancel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Tahoma"/>
              </a:rPr>
              <a:t>The main characteristics of the existing childcare system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Tahoma"/>
              </a:rPr>
              <a:t>The presence of child-raising women on the labour market in the 2000s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creasing % of young mothers stay at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me for the whole childcare period and even af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allel with the increasing  number of children in the family decreasing labour market participation of mother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itive exceptio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mothers with higher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Main factors of the disadvantageous position of child</a:t>
            </a:r>
            <a:r>
              <a:rPr b="1" lang="hu-HU" sz="2400" spc="-1" strike="noStrike">
                <a:solidFill>
                  <a:srgbClr val="e5ffff"/>
                </a:solidFill>
                <a:latin typeface="Tahoma"/>
              </a:rPr>
              <a:t>-</a:t>
            </a: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raising women and steps to improve their employability</a:t>
            </a:r>
            <a:br>
              <a:rPr sz="2400"/>
            </a:b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Factors: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uring the long maternity leave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nection with the employer gets loose or even termin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knowledge  become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utd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ss flexibility in connection with work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ircumstances (e.g. overtime, shift work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at the weekend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long dist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equent absence from work due to care of sick chi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ow chance to find suitable workplace (part time work, distance work, flexi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i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sufficient supplementary effect between value of housework and the take home p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600" spc="-1" strike="noStrike">
                <a:solidFill>
                  <a:srgbClr val="e5ffff"/>
                </a:solidFill>
                <a:latin typeface="Tahoma"/>
              </a:rPr>
              <a:t>Steps to improve employability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ree education or labour market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raining for parents on childcare le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anding  eligibility for work in the childcare leave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bsidies for employer in case of employment after childcare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special award for the so called family friendly work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Conclusion</a:t>
            </a:r>
            <a:r>
              <a:rPr b="1" lang="hu-HU" sz="4400" spc="-1" strike="noStrike">
                <a:solidFill>
                  <a:srgbClr val="e5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al improvement: labour intensive economic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amily friendly social clim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mall steps are important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Proportion of working mothers compared to all women of the same educational level, by number of children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3:21:08Z</dcterms:created>
  <dc:creator>KSH</dc:creator>
  <dc:description/>
  <dc:language>en-US</dc:language>
  <cp:lastModifiedBy>KSH</cp:lastModifiedBy>
  <dcterms:modified xsi:type="dcterms:W3CDTF">2005-04-25T12:28:34Z</dcterms:modified>
  <cp:revision>61</cp:revision>
  <dc:subject/>
  <dc:title>The labour market situation of women being on childcare  leave in Hung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04351191</vt:r8>
  </property>
  <property fmtid="{D5CDD505-2E9C-101B-9397-08002B2CF9AE}" pid="3" name="_AuthorEmail">
    <vt:lpwstr>anna.kovacs@office.ksh.hu</vt:lpwstr>
  </property>
  <property fmtid="{D5CDD505-2E9C-101B-9397-08002B2CF9AE}" pid="4" name="_AuthorEmailDisplayName">
    <vt:lpwstr>Kovács Anna</vt:lpwstr>
  </property>
  <property fmtid="{D5CDD505-2E9C-101B-9397-08002B2CF9AE}" pid="5" name="_EmailSubject">
    <vt:lpwstr/>
  </property>
</Properties>
</file>