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2AA4-97DC-44AA-8133-7402C7F1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E124-7ACA-445F-9C63-4F752580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4D02-F704-4AF7-B763-88CA7FAE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F186-F4B6-41DF-A679-E48BBFA8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52AD-D35E-41E6-AAE4-80D3EE4D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3F63-0D12-49F0-B1F0-AED2003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C194-0EF6-4CC9-A276-13579A0A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5375-86E5-4051-A1AE-A8E1986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4542-A723-47F6-8766-DF9EA951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9292-57F9-4054-84AD-8D336E72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9499-9255-4D6C-8361-7F685977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29D2-69EB-4C55-84C5-216CFDA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DFC3-76A5-4F23-A740-9292F0D89CC3}" type="datetime">
              <a:rPr b="0" lang="fi-FI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1EB-57B6-4A41-9D7A-C75500432E45}" type="slidenum">
              <a:rPr b="0" lang="fi-FI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yhyt%20viiva" descr="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englanti2" descr=""/>
          <p:cNvPicPr/>
          <p:nvPr/>
        </p:nvPicPr>
        <p:blipFill>
          <a:blip r:embed="rId3"/>
          <a:stretch/>
        </p:blipFill>
        <p:spPr>
          <a:xfrm>
            <a:off x="282600" y="30492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englanti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267080" cy="760680"/>
          </a:xfrm>
          <a:prstGeom prst="rect">
            <a:avLst/>
          </a:prstGeom>
          <a:ln w="0">
            <a:noFill/>
          </a:ln>
        </p:spPr>
      </p:pic>
      <p:pic>
        <p:nvPicPr>
          <p:cNvPr id="45" name="pitkapaksuviiva3" descr=""/>
          <p:cNvPicPr/>
          <p:nvPr/>
        </p:nvPicPr>
        <p:blipFill>
          <a:blip r:embed="rId3"/>
          <a:stretch/>
        </p:blipFill>
        <p:spPr>
          <a:xfrm>
            <a:off x="0" y="6361200"/>
            <a:ext cx="9926640" cy="57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6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184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21000" algn="ctr">
              <a:spcBef>
                <a:spcPts val="601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210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220968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fi-FI" sz="3300" spc="-1" strike="noStrike">
                <a:solidFill>
                  <a:srgbClr val="000000"/>
                </a:solidFill>
                <a:latin typeface="Tahoma"/>
              </a:rPr>
              <a:t>Finnish Surveys enabling indicators on ”quality of work”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504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Seminar on the Quality of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11 - 13 May 2005, Gene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Hanna Sute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Engedering the surveys as an ongo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ender sensitiviness involved in every step of the survey prosess, from questionnaire design to analysi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ch more than only presenting the figures by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hat is characteristics to women’s work and orienta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fferences in resp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rect questions on gender equality, t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267D-6A54-45B0-AC2D-A475376F0D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F5936-080C-4E8F-8D44-34FCD23E5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809172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595D-D08C-4CDB-814A-BEB4F01CE2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A7A75-5812-4819-8024-50580C612F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8319960" cy="537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50E2-B06B-40CB-9C6E-BEE39A1F5B9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EDE54-A5B9-439C-8585-FC320AEF3E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8915400" cy="474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4C80-F15E-45B9-8ABE-59FC35FE251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91742-C58D-43C1-A36F-6884C3F4A6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0000" y="1000080"/>
            <a:ext cx="428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ahoma"/>
              </a:rPr>
              <a:t>Willingness to chang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1508040"/>
            <a:ext cx="821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Tahoma"/>
              </a:rPr>
              <a:t>At the same pay, Quality of Work Life Surveys 1977,1984, 1990, 1997 and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5400" y="2314440"/>
            <a:ext cx="3625920" cy="33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5400" y="561492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5400" y="495612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5400" y="4295880"/>
            <a:ext cx="36259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5400" y="363528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5400" y="2975040"/>
            <a:ext cx="36259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5400" y="2314440"/>
            <a:ext cx="36259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9400" y="3932280"/>
            <a:ext cx="617400" cy="168444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44800" y="3932280"/>
            <a:ext cx="617400" cy="168444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70200" y="4164120"/>
            <a:ext cx="617760" cy="145260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5960" y="3998880"/>
            <a:ext cx="615600" cy="161784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21360" y="3767040"/>
            <a:ext cx="615960" cy="184968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9400" y="3075120"/>
            <a:ext cx="617400" cy="85860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44800" y="3075120"/>
            <a:ext cx="617400" cy="85860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0200" y="3173400"/>
            <a:ext cx="617760" cy="99072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95960" y="3173400"/>
            <a:ext cx="615600" cy="82548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21360" y="2975040"/>
            <a:ext cx="615960" cy="79200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19400" y="2414520"/>
            <a:ext cx="617400" cy="66060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44800" y="2414520"/>
            <a:ext cx="617400" cy="66060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0200" y="2414520"/>
            <a:ext cx="617760" cy="75888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2381400"/>
            <a:ext cx="615600" cy="79200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21360" y="2314440"/>
            <a:ext cx="615960" cy="66204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19400" y="2314440"/>
            <a:ext cx="61740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44800" y="2314440"/>
            <a:ext cx="61740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70200" y="2314440"/>
            <a:ext cx="6177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95960" y="2314440"/>
            <a:ext cx="615600" cy="66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1360" y="2314440"/>
            <a:ext cx="615960" cy="1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62760" y="3975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8520" y="3975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3920" y="4205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39320" y="404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4720" y="3809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62760" y="3117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88520" y="3117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13920" y="3216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39320" y="3216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720" y="3017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6276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852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13920" y="2455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9320" y="2424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720" y="2357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712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252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648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91880" y="2357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65400" y="5614920"/>
            <a:ext cx="3625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65400" y="2314440"/>
            <a:ext cx="1440" cy="330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760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7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3300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5876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272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8120" y="568476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0320" y="5510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15200" y="4851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4191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5200" y="353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5200" y="28717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10440" y="2211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5360" y="2079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30440" y="4308480"/>
            <a:ext cx="200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Would not change at 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39000" y="4010040"/>
            <a:ext cx="305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Yes, to different occupational f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8720" y="3713040"/>
            <a:ext cx="31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Yes, to the same occupational f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4880" y="3414600"/>
            <a:ext cx="100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Tahoma"/>
              </a:rPr>
              <a:t>Don’t k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25960" y="4351320"/>
            <a:ext cx="179640" cy="120600"/>
          </a:xfrm>
          <a:prstGeom prst="rect">
            <a:avLst/>
          </a:prstGeom>
          <a:solidFill>
            <a:srgbClr val="ffb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25960" y="4054320"/>
            <a:ext cx="179640" cy="119160"/>
          </a:xfrm>
          <a:prstGeom prst="rect">
            <a:avLst/>
          </a:prstGeom>
          <a:solidFill>
            <a:srgbClr val="8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5960" y="3757680"/>
            <a:ext cx="179640" cy="119160"/>
          </a:xfrm>
          <a:prstGeom prst="rect">
            <a:avLst/>
          </a:prstGeom>
          <a:solidFill>
            <a:srgbClr val="ffffa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25960" y="3459240"/>
            <a:ext cx="179640" cy="119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556E-D3DE-49E4-A786-89475784411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571EE-16A4-435A-87B5-C413B0344B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856720" cy="480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2277-41E1-4C9A-BA28-C8C2408CBF5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4FAAC-58FE-4AEE-B671-05D81192E7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85348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9DDC-5CBF-4CA1-82FC-0FEBEED142C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F2219-62F1-4914-B1EB-2C60921F8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448920" cy="49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BE1F-BC2F-405B-8904-FB9ABB9D42A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6F048-072E-4CB6-804C-93AD99BE34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610480" cy="440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1104-2F5D-4EF5-B5A1-FDE4D473289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A22DD-71B6-45B7-83F8-681B1C206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918640" cy="47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785D-54DE-4599-86CB-EEED9D8FBC1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9D5E5-5BAD-407A-BAB7-ECA7BA4108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innish Quality of Work Lif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8840" indent="-16884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Conditions Survey 1972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ilot stud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ostal interview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Conditions Survey 1977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91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5,800 employees in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Conditions Survey 1984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89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4,500 employees in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8840" y="20570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0000" indent="-1800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of Work Life Survey 1990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85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3,500 employees in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of Work Life Survey 1997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response rate 79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3,000 employees in data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of Work Life Survey 2003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face-to-f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sponse rate 78 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4,100 employees 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1295280" cy="771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A577-8D98-4DDB-878D-16CA29C0E7C3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7D431-E60F-4508-9275-B598FFD416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8766000" cy="46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B48C-740A-4EA3-A3B8-38A0FBD6C5B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28849-820F-4267-AD46-16688C999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690040" cy="46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9BF7-C0C8-413D-A98E-A9E4D328910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CBB40-F3FF-415C-B3CB-50B6765BB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ermanent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-1782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work environment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dverse factors, work accidents, physical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ychic and social factors in work environment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onotony, mentally demanding, time pressure, opportunities for influence and for development, social relationships,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, stress symptoms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current aches and pains, psychic and somatic symptoms, experiences of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market position, family, background variables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 history, type of contracts, threat of unemployment, work and family, commitment to work 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E983-21B0-46A7-B900-C2A8ADFE8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9E513-2189-425C-A12C-2008E5976E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pecial themes in working condition survey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ological change in 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84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der equality (1984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s in work organis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lexibility, productiv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90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pressure (1997 - 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-term contracts (1997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8284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0000" indent="-18000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Work Life Survey 2003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ender equa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ixed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ime pressure, work loa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geing at 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ork and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orking hours, flexibi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muneration, new forms of p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bsentee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supervisory task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ork accid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3BEC-590A-43FB-847E-5F583F41FBCA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93692-DD3C-4A65-9558-23857F969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ahoma"/>
              </a:rPr>
              <a:t>The sample of Quality of Work Life Survey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 connection with (the October and November rounds of) the monthly Labour Force Survey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telephone inter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sample established during the LFS interview, among respondents filling the criteria…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5 - 64 -years old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lary and wage earner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rmal weekly working hours 5+ hours of paid work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&gt;agreement on  face-to-face interview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approximately 63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0638-5E22-44D7-85CD-FC6528D9B0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5B3EE-380E-44FC-B0D7-941F8F368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Tahoma"/>
              </a:rPr>
              <a:t>Time Schedule, Survey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33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36760" indent="-174960">
              <a:lnSpc>
                <a:spcPct val="100000"/>
              </a:lnSpc>
              <a:spcBef>
                <a:spcPts val="1199"/>
              </a:spcBef>
              <a:buClr>
                <a:srgbClr val="e13955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1    2    3    4    5    6    7    8    9   10   11   12</a:t>
            </a:r>
            <a:br>
              <a:rPr sz="1400"/>
            </a:b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2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----------------1.-----------------------------------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3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---------------- 1---------------                           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--2--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--3--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----4----  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5.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fi-FI" sz="1400" spc="-1" strike="noStrike">
                <a:solidFill>
                  <a:srgbClr val="e13955"/>
                </a:solidFill>
                <a:latin typeface="Times New Roman"/>
              </a:rPr>
              <a:t>--------6----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4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---- 7----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          --------------------8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lnSpc>
                <a:spcPct val="100000"/>
              </a:lnSpc>
              <a:spcBef>
                <a:spcPts val="34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2005   --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---------------------------------- 8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2133360"/>
            <a:ext cx="4133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1. Survey desing,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2. Programming of the computer-assist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3.Pilot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4. Translation in Swe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5. Training of the inter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6. Fiel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7. Compilation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8. Analysi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6524-EB2A-4DDF-BB5E-EB932BE2AB99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5B7DD-0EAC-45C2-A054-7BF827AAE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ahoma"/>
              </a:rPr>
              <a:t>The Survey questionnaire 200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ased on the previous one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emes and desing in co-operation with the Advisory Group</a:t>
            </a:r>
            <a:br>
              <a:rPr sz="20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isting of representants of the financing bodies and experts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 10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 by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paribility in time  vs. more up-to-date way to 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977 - 1997 paper questionnaire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2003 computer- assisted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tilastokeskus.fi/tk/el/survey_2003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B3A0-D5B4-4CD2-8431-FD7352E79D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8900B-444F-4DCF-8DF9-906F7606B9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93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e13955"/>
                </a:solidFill>
                <a:latin typeface="Arial"/>
              </a:rPr>
              <a:t>Shortcomings of the traditional survey      Qualitative method at its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ls to discover new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cuses on aver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ls to see the importance of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Detaches individual from their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ls to see the processive nature of phen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reats the surveyee as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8840" y="2285640"/>
            <a:ext cx="4133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apable of discovering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cognises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cognises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an see individuals within thei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ssibility for studying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51"/>
              </a:spcBef>
              <a:buClr>
                <a:srgbClr val="e1395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iders the sublects’ activities an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Lehto 1996 and 200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D2BA-15ED-42A9-89A6-4816F20D454E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4FFB0-B264-40D9-A863-3DEEC5AFE3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Tahoma"/>
              </a:rPr>
              <a:t>Combining quantitative and qualitative methods</a:t>
            </a:r>
            <a:br>
              <a:rPr sz="2600"/>
            </a:br>
            <a:r>
              <a:rPr b="1" lang="fi-FI" sz="2600" spc="-1" strike="noStrike">
                <a:solidFill>
                  <a:srgbClr val="000000"/>
                </a:solidFill>
                <a:latin typeface="Tahoma"/>
              </a:rPr>
              <a:t>in Quality of Work Life Surveys 1997 -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191120"/>
            <a:ext cx="472428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560" y="4342320"/>
            <a:ext cx="447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Qualitative interviews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prior the questionnaire desing 1997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theme interview on new special themes: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me pressure, precarious employment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”think aloud” -method in rev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old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133720"/>
            <a:ext cx="373392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8520" y="2284920"/>
            <a:ext cx="25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Survey 1997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structu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face-to-face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04560" y="4037400"/>
            <a:ext cx="3522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Qualitative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heme interview + ”think alou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time pressure,equality,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precarious employment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respondents of the survey 1997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deepening and illustrating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he surve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396252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133720"/>
            <a:ext cx="34290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170800"/>
            <a:ext cx="251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13955"/>
                </a:solidFill>
                <a:latin typeface="Times New Roman"/>
              </a:rPr>
              <a:t>Survey 2003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- structu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face-to-face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9548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238880" y="3657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2767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anna Sute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AD85-2278-4195-9D98-47D82F068E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708E3-62B6-428F-9375-D2E4686BB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1:00:39Z</dcterms:created>
  <dc:creator>sutela</dc:creator>
  <dc:description/>
  <dc:language>en-US</dc:language>
  <cp:lastModifiedBy>sutela</cp:lastModifiedBy>
  <cp:lastPrinted>2004-11-11T09:55:33Z</cp:lastPrinted>
  <dcterms:modified xsi:type="dcterms:W3CDTF">2005-05-03T12:33:10Z</dcterms:modified>
  <cp:revision>31</cp:revision>
  <dc:subject/>
  <dc:title>Quality of Work Life Surveys 1977 - 2003 </dc:title>
</cp:coreProperties>
</file>