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7074-AB9A-4794-A54C-90180DCA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5FD6-19D5-4600-A03D-F8CCE4D5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F35A-ED81-41FC-BB27-E4F68E45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3F6F-C3D2-4D1D-9F6A-E0CB9F9F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44C7-183B-42AA-B48C-BF7336E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C79F-89E5-4D31-86BC-12AC462F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FA0E-F9DC-4AFC-BCA5-042D472A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0B05-DAA7-4E2F-A644-FFB5E72D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DC91-6668-44F2-9CF4-1D6F8564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ACBA-21BF-481A-97C4-296BF145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1C2C-40E0-4F35-AD97-F9AAAAED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E589-4F49-48DF-AF31-D9B72B4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4F3-EC21-4547-AFA6-5B7D464D364B}" type="datetime">
              <a:rPr b="0" lang="fi-FI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6DDE-81F0-4C77-BB14-50F95E368E90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220968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fi-FI" sz="3300" spc="-1" strike="noStrike">
                <a:solidFill>
                  <a:srgbClr val="000000"/>
                </a:solidFill>
                <a:latin typeface="Tahoma"/>
              </a:rPr>
              <a:t>Finnish Surveys enabling indicators on ”quality of work”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504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Seminar on the Quality of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11 - 13 May 2005, Gene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Hanna Sute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Engedering the surveys as an ongo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ender sensitiviness involved in every step of the survey prosess, from questionnaire design to analysi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ch more than only presenting the figures by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hat is characteristics to women’s work and orientati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ifferences in resp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irect questions on gender equality, t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40B3-A6A0-4303-BD8C-565DCD9B21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B6C7D-398D-4D26-89E4-56425E5835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809172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EDB1-20EB-46F6-B9C1-C8F8FF3BA7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45C80-A770-4EDD-AFF4-37E23D4B97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8319960" cy="537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0661-34EB-4EAA-AD8A-141F5A3AF4A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40BED-0120-4FCD-A0CF-1017A99B62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8915400" cy="474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D433-FA1E-4182-BE89-211A94A5D45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F36C0-D1DA-4717-8CC7-CE8C5BDB05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0000" y="1000080"/>
            <a:ext cx="428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ahoma"/>
              </a:rPr>
              <a:t>Willingness to chang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1508040"/>
            <a:ext cx="821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Tahoma"/>
              </a:rPr>
              <a:t>At the same pay, Quality of Work Life Surveys 1977,1984, 1990, 1997 and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5400" y="2314440"/>
            <a:ext cx="3625920" cy="33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5400" y="561492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5400" y="495612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65400" y="4295880"/>
            <a:ext cx="36259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5400" y="363528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5400" y="2975040"/>
            <a:ext cx="36259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5400" y="231444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9400" y="3932280"/>
            <a:ext cx="617400" cy="168444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44800" y="3932280"/>
            <a:ext cx="617400" cy="168444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70200" y="4164120"/>
            <a:ext cx="617760" cy="145260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5960" y="3998880"/>
            <a:ext cx="615600" cy="161784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21360" y="3767040"/>
            <a:ext cx="615960" cy="184968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19400" y="3075120"/>
            <a:ext cx="617400" cy="85860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44800" y="3075120"/>
            <a:ext cx="617400" cy="85860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0200" y="3173400"/>
            <a:ext cx="617760" cy="99072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95960" y="3173400"/>
            <a:ext cx="615600" cy="82548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21360" y="2975040"/>
            <a:ext cx="615960" cy="79200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19400" y="2414520"/>
            <a:ext cx="617400" cy="66060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44800" y="2414520"/>
            <a:ext cx="617400" cy="66060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0200" y="2414520"/>
            <a:ext cx="617760" cy="75888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95960" y="2381400"/>
            <a:ext cx="615600" cy="79200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21360" y="2314440"/>
            <a:ext cx="615960" cy="66204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19400" y="2314440"/>
            <a:ext cx="61740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44800" y="2314440"/>
            <a:ext cx="61740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70200" y="2314440"/>
            <a:ext cx="6177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95960" y="2314440"/>
            <a:ext cx="615600" cy="66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21360" y="2314440"/>
            <a:ext cx="615960" cy="1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62760" y="3975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8520" y="3975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3920" y="42051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39320" y="404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4720" y="3809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62760" y="3117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88520" y="3117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13920" y="3216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39320" y="3216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720" y="3017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62760" y="2455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8520" y="2455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13920" y="2455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9320" y="2424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720" y="2357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712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252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648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9188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65400" y="5614920"/>
            <a:ext cx="3625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65400" y="2314440"/>
            <a:ext cx="1440" cy="330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760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7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3300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5876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272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812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20320" y="5510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15200" y="48513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5200" y="4191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5200" y="3532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5200" y="28717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10440" y="22114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5360" y="20797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30440" y="4308480"/>
            <a:ext cx="200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Would not change at 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39000" y="4010040"/>
            <a:ext cx="305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Yes, to different occupational fie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48720" y="3713040"/>
            <a:ext cx="31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Yes, to the same occupational fie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04880" y="3414600"/>
            <a:ext cx="100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Don’t k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25960" y="4351320"/>
            <a:ext cx="179640" cy="12060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25960" y="4054320"/>
            <a:ext cx="179640" cy="11916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5960" y="3757680"/>
            <a:ext cx="179640" cy="11916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25960" y="3459240"/>
            <a:ext cx="179640" cy="119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F452-FF73-4CEE-89D0-E7A25936801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526D5-B466-473C-ACB8-FDE0F35496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856720" cy="480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D65E-C50D-418C-A52D-D7C209F0D3D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BC83B-AFDF-48E9-B522-820734F635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853480" cy="46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4E9D-1FFC-446F-B708-BC1F814515C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3C769-E301-4CC7-A845-C0E7FEF028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9448920" cy="49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659C-485B-4A4B-AF43-A6800ACDD21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0920E-E252-43A1-9C7B-DC323537EB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610480" cy="440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59F7-4376-478F-857F-78676F67CD1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372C8-8593-4362-BD89-D6A54416C2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918640" cy="47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3CDA-B0F0-4CBA-928B-0BD7D0F8F28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704FA-C195-4F27-BAE7-79DD4B562F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innish Quality of Work Lif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8840" indent="-16884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Conditions Survey 1972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ilot stud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ostal interview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Conditions Survey 1977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91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5,800 employees in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Conditions Survey 1984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89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4,500 employees in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8840" y="20570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0000" indent="-1800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of Work Life Survey 1990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85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3,500 employees in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of Work Life Survey 1997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response rate 79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3,000 employees in data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of Work Life Survey 2003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78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4,100 employees 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1295280" cy="771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E2E4-2066-471F-8875-2BF0BE76EB17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FFCA0-5D5B-4A7C-A5DC-1EE970DFF1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8766000" cy="46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45B8-2626-467E-B9DF-93245F42A32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F864A-3093-411D-9CA8-F7C0671BDE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690040" cy="46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9697-C7D1-4C90-91EC-FE128CE544C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AD243-610F-43ED-9D18-763C2C8DE4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ermanent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-1782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work environment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dverse factors, work accidents, physical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ychic and social factors in work environment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onotony, mentally demanding, time pressure, opportunities for influence and for development, social relationships,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lth, stress symptoms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current aches and pains, psychic and somatic symptoms, experiences of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market position, family, background variables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 history, type of contracts, threat of unemployment, work and family, commitment to work 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7159-D5F8-4F7E-BF11-C3890C43D0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5400D-2845-4C5E-9E68-F891CCC1B4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pecial themes in working condition survey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ological change in 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84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der equality (1984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s in work organis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flexibility, productiv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90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pressure (1997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-term contracts (1997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8284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0000" indent="-1800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of Work Life Survey 2003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ender equa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fixed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ime pressure, work loa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geing at 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ork and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orking hours, flexibi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muneration, new forms of p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bsentee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supervisory task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ork accid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0F95-0AA4-46FD-AD49-858500D18F8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562B5-29A9-4571-A1F0-B281D20090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ahoma"/>
              </a:rPr>
              <a:t>The sample of Quality of Work Life Survey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 connection with (the October and November rounds of) the monthly Labour Force Survey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telephone inter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sample established during the LFS interview, among respondents filling the criteria…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15 - 64 -years old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lary and wage earner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rmal weekly working hours 5+ hours of paid work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=&gt;agreement on  face-to-face interview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approximately 63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0B4A-09E7-4910-AC15-8C9A773993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C9561-7DEA-4F6A-AD0A-1D51AC97B6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Tahoma"/>
              </a:rPr>
              <a:t>Time Schedule, Survey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36760" indent="-174960">
              <a:lnSpc>
                <a:spcPct val="100000"/>
              </a:lnSpc>
              <a:spcBef>
                <a:spcPts val="11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1    2    3    4    5    6    7    8    9   10   11   12</a:t>
            </a:r>
            <a:br>
              <a:rPr sz="1400"/>
            </a:b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2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----------------1.-----------------------------------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3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---------------- 1---------------                           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--2--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--3--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----4----  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5.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fi-FI" sz="1400" spc="-1" strike="noStrike">
                <a:solidFill>
                  <a:srgbClr val="e13955"/>
                </a:solidFill>
                <a:latin typeface="Times New Roman"/>
              </a:rPr>
              <a:t>--------6----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4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---- 7----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--------------------8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5   --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---------------------------------- 8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8840" y="2133360"/>
            <a:ext cx="4133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1. Survey desing,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2. Programming of the computer-assist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3.Pilot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4. Translation in Swe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5. Training of the intervie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6. Fiel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7. Compilation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8. Analysi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F0EB-04B9-4DB0-9FA4-958D2F16D134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12163-7749-4B16-8D00-77225D233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ahoma"/>
              </a:rPr>
              <a:t>The Survey questionnaire 200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Based on the previous one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emes and desing in co-operation with the Advisory Group</a:t>
            </a:r>
            <a:br>
              <a:rPr sz="20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isting of representants of the financing bodies and experts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 10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 by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mparibility in time  vs. more up-to-date way to 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977 - 1997 paper questionnaire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2003 computer- assisted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tilastokeskus.fi/tk/el/survey_2003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5F30-BF0B-42F4-9415-DF7986963A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B1593-4BA3-4B3F-860E-C45A55ED4B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93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e13955"/>
                </a:solidFill>
                <a:latin typeface="Arial"/>
              </a:rPr>
              <a:t>Shortcomings of the traditional survey      Qualitative method at its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ails to discover new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cuses on aver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ails to see the importance of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Detaches individual from their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ails to see the processive nature of pheno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reats the surveyee as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8840" y="22856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apable of discovering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cognises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cognises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an see individuals within thei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ossibility for studying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iders the sublects’ activities an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Lehto 1996 and 200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92B8-523A-45D0-BCD1-9C9FE10FD3A6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71479-3356-4D18-848C-94F1450C4B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Tahoma"/>
              </a:rPr>
              <a:t>Combining quantitative and qualitative methods</a:t>
            </a:r>
            <a:br>
              <a:rPr sz="2600"/>
            </a:br>
            <a:r>
              <a:rPr b="1" lang="fi-FI" sz="2600" spc="-1" strike="noStrike">
                <a:solidFill>
                  <a:srgbClr val="000000"/>
                </a:solidFill>
                <a:latin typeface="Tahoma"/>
              </a:rPr>
              <a:t>in Quality of Work Life Surveys 1997 -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191120"/>
            <a:ext cx="472428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560" y="4342320"/>
            <a:ext cx="447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Qualitative interviews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prior the questionnaire desing 1997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theme interview on new special themes: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me pressure, precarious employment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”think aloud” -method in rev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old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133720"/>
            <a:ext cx="373392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48520" y="2284920"/>
            <a:ext cx="25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Survey 1997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structu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face-to-face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04560" y="4037400"/>
            <a:ext cx="3522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Qualitative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heme interview + ”think alou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time pressure,equality,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precarious employment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respondents of the survey 1997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deepening and illustrating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he surve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396252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2133720"/>
            <a:ext cx="34290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170800"/>
            <a:ext cx="251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Survey 2003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structu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face-to-face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9548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238880" y="36572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2767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76CF-CBCF-4453-A29E-CE45D59850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04B60-659B-4B30-BE8B-BE251AE0AF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1:00:39Z</dcterms:created>
  <dc:creator>sutela</dc:creator>
  <dc:description/>
  <dc:language>en-US</dc:language>
  <cp:lastModifiedBy>sutela</cp:lastModifiedBy>
  <cp:lastPrinted>2004-11-11T09:55:33Z</cp:lastPrinted>
  <dcterms:modified xsi:type="dcterms:W3CDTF">2005-05-03T12:33:10Z</dcterms:modified>
  <cp:revision>31</cp:revision>
  <dc:subject/>
  <dc:title>Quality of Work Life Surveys 1977 - 2003 </dc:title>
</cp:coreProperties>
</file>