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E27C-0A54-445A-9222-CA117BDC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1A8C-0E33-44B8-B1F1-E967CA81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A28A-E6D3-46B9-AC23-488E5835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9A0A-8840-4287-A548-A8D7B49D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19DC-CDEC-4DB4-ADD7-7F37D1F7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D9D9-D438-4176-8D7E-09852FED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9E30-FE2A-42E6-B530-288A811F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9A89-5C83-4B66-A717-6532FE39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EA18-124A-4233-9622-DEE8550C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BDDA-DE04-4059-9902-6EE146EC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216F-A316-45D7-8C51-77BF8DA4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AAB1-202B-45B7-91F2-55535599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DDC5-E63A-499C-AEE8-071F68B9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082A-2A01-4C0B-8ABA-8AA81772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0681-E81D-4455-9B76-3839AB33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CFAD-04C7-44B6-A252-A4126176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C3E5-5C74-4F71-8735-08227031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4D51-EAB1-431F-82F6-EA0BFA38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1A0C-8D61-4D56-AD85-792864AC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65F5-91B7-493B-85BC-5DC29ECF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EC15-96CA-4BFC-9C3E-23542AC1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24BC-D2B1-4400-BF52-3E6A69A1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3787-BD4E-41B3-9006-761462DA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C6F2-CE91-4A89-AC82-8FAB03A4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91DF-81D9-48D3-B1E4-6B66B8F32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0"/>
            <a:ext cx="9144000" cy="6877080"/>
            <a:chOff x="0" y="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1928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0"/>
              <a:ext cx="9144000" cy="1658880"/>
              <a:chOff x="0" y="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2088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0"/>
                <a:ext cx="8217000" cy="1657440"/>
                <a:chOff x="528480" y="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2100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2576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5584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50660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2892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2568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8764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6388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8448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4640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7332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9392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3524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6692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8924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7648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3200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8280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4480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9404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7336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3680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5264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6228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32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9236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6860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3972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4448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7652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60984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1936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2376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1908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3176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1908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7784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30348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8412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7492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7964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9876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526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8260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80028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3676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9396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5108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9360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2376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5876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21276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7332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6828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20952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23760"/>
                <a:ext cx="9109800" cy="1621800"/>
                <a:chOff x="11160" y="2376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8128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2376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2376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2376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2376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2376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2376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2376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2376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2376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2376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15840"/>
                <a:ext cx="7808040" cy="1640520"/>
                <a:chOff x="576360" y="158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1908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8056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5004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3812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3492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2268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8056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8056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8056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8056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50040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6988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158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9124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2232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50524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16C5-838A-402B-A6FE-5E0FFD4E0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18960" y="2590560"/>
            <a:ext cx="69339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i="1" lang="en-GB" sz="4800" spc="-1" strike="noStrike">
                <a:solidFill>
                  <a:srgbClr val="cc6600"/>
                </a:solidFill>
                <a:latin typeface="Times New Roman"/>
              </a:rPr>
              <a:t>‘</a:t>
            </a:r>
            <a:r>
              <a:rPr b="0" i="1" lang="en-GB" sz="4800" spc="-1" strike="noStrike">
                <a:solidFill>
                  <a:srgbClr val="cc6600"/>
                </a:solidFill>
                <a:latin typeface="Times New Roman"/>
              </a:rPr>
              <a:t>Measuring’ job quality with labour law indicators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0465-636F-463F-B842-77F007678F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55640" y="2743200"/>
            <a:ext cx="777240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ot all workers covered by labour legisl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is labour law is viol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blem of indexing (standardising, weight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E6CC-DEF5-4C9F-A37E-E675C4D4CA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685800" y="1844280"/>
            <a:ext cx="77724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Glob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Winners and 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loo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Impact on Employ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and Labo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3505320"/>
            <a:ext cx="777240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"/>
          <p:cNvSpPr/>
          <p:nvPr/>
        </p:nvSpPr>
        <p:spPr>
          <a:xfrm>
            <a:off x="1619280" y="2924280"/>
            <a:ext cx="431640" cy="1368360"/>
          </a:xfrm>
          <a:prstGeom prst="downArrow">
            <a:avLst>
              <a:gd name="adj1" fmla="val 50000"/>
              <a:gd name="adj2" fmla="val 7925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3132000" y="3357720"/>
            <a:ext cx="1440000" cy="287280"/>
          </a:xfrm>
          <a:prstGeom prst="rightArrow">
            <a:avLst>
              <a:gd name="adj1" fmla="val 50000"/>
              <a:gd name="adj2" fmla="val 12531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72D9-7D37-4894-8384-8E6DF29754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8686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compet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pressure to reduce labour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act on the quality of job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 rot="5704200">
            <a:off x="1726200" y="1673640"/>
            <a:ext cx="576360" cy="648000"/>
          </a:xfrm>
          <a:custGeom>
            <a:avLst/>
            <a:gdLst>
              <a:gd name="textAreaLeft" fmla="*/ 0 w 576360"/>
              <a:gd name="textAreaRight" fmla="*/ 576720 w 57636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 rot="5704200">
            <a:off x="3094560" y="2888280"/>
            <a:ext cx="576000" cy="647640"/>
          </a:xfrm>
          <a:custGeom>
            <a:avLst/>
            <a:gdLst>
              <a:gd name="textAreaLeft" fmla="*/ 0 w 576000"/>
              <a:gd name="textAreaRight" fmla="*/ 576000 w 5760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 rot="5704200">
            <a:off x="4751280" y="4114080"/>
            <a:ext cx="576360" cy="64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F146-7D19-44E9-878C-3B938A6BA4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to capture changes in job quality?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55640" y="3213000"/>
            <a:ext cx="777240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ntional Way = Labour Force Surve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suring’ changes in labour legis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AF4D-E6AF-473B-A76D-8EDECD859C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al Indicators: Legislation regarding firing worker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elected indica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n employer terminate the employment contract without cause? Yes (= 0), No (= 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the law establish a list of ‘fair’ grounds for dismissal? Yes (= 0), No (= 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employers notify a third party before dismissing a redundant employee? Yes (= 0), No (= 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the law mandate retraining or replacement before dismissal 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s (= 1), No (= 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length of the legally mandates notice period? ( 0-24 week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48E5-F235-4C15-955F-46CEC983B8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ahoma"/>
              </a:rPr>
              <a:t>Job Security Index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easures the protection of rules governing the termination of an employment contract as the average of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tection of grounds for dismissal (3 indicato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tection of dismissal procedures (7 indicato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tice and severance payments (4 indicato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ight to job security embedded in the constitution ( 1 indicato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1CCB-E3EB-4134-B880-AFC8F34073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Times New Roman"/>
              </a:rPr>
              <a:t>Firing Regulation Index (2003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Canada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 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USA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Denmark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Italy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 3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France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 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ermany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 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Netherlands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 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Spain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 6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Ukraine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 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India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 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Mexico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 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Source: World Bank, ‘Doing Business’ database websit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29E6-56ED-4D64-B02B-FFBDC47162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Trend of firing regulation index (1997-2003)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(Sample of 60 countri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755640" y="3284640"/>
          <a:ext cx="6981840" cy="2382840"/>
        </p:xfrm>
        <a:graphic>
          <a:graphicData uri="http://schemas.openxmlformats.org/drawingml/2006/table">
            <a:tbl>
              <a:tblPr/>
              <a:tblGrid>
                <a:gridCol w="3454560"/>
                <a:gridCol w="3527280"/>
              </a:tblGrid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s reg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reg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chan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0EF2-ED63-4D3E-91AC-5E1454D97F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r>
              <a:rPr b="0" i="1" lang="en-GB" sz="40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0" i="1" lang="fr-CH" sz="44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2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oid ‘overcharging’ labour force surve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s costly than labour force surve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4F0A-1078-4B06-B119-8834B63BD8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09:08:57Z</dcterms:created>
  <dc:creator>Administrator</dc:creator>
  <dc:description/>
  <dc:language>en-US</dc:language>
  <cp:lastModifiedBy>ILO</cp:lastModifiedBy>
  <dcterms:modified xsi:type="dcterms:W3CDTF">2005-05-10T07:57:47Z</dcterms:modified>
  <cp:revision>28</cp:revision>
  <dc:subject/>
  <dc:title>Statistical Indicators on Decent Work</dc:title>
</cp:coreProperties>
</file>