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2C2C-1600-4060-BCED-04EF7FA3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1E9D-0C48-4B42-8D47-C3FA85E2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DAF7-FC1F-42D4-AC8C-09329F98A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AECF-CB35-49C0-AF20-C5684BBC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56CD-FA3C-401D-A0A3-A1FC88C17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1396-D421-4CCF-9DFE-C82D0EA5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415E-D55A-4FE5-85EC-B8DEBD24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850D-241A-4546-9B7B-48F25B4C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140D-7A9E-4F27-A0E9-EBF86634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08FB-CC23-48C8-AC4E-4C2DBF49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CD4C-0F65-4ADE-AB80-0DAB25A3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7F36-4312-4B67-B703-10EC4378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144D-29BC-4829-AD58-7A4A3F0E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44A0-B97B-4368-90E4-E5C832C5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1103-0C2C-4FCC-9C2A-5B290BA9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8764-2D8D-433F-9A55-1D362D20B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E31A-61AB-4078-9391-C738CD514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A074-9F73-4F3F-9F4E-52589551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5377-750E-4C9E-9F45-50BBDBCA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7BDC-36EF-4913-A4CE-AD28DE2E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6653-BDF4-4286-BDA1-6C939F88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B321-A314-4CAB-9AC1-217DFE6B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266A-DBE7-4F00-A754-9879AD7A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2B5E-5B06-453A-9C65-2A771F86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6979-0B9E-4F00-8BA8-04DC1DD4D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0"/>
            <a:ext cx="9144000" cy="6877080"/>
            <a:chOff x="0" y="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1928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0"/>
              <a:ext cx="9144000" cy="1658880"/>
              <a:chOff x="0" y="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2088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0"/>
                <a:ext cx="8217000" cy="1657440"/>
                <a:chOff x="528480" y="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2100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2576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5584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50660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2892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2568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8764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6388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8448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4640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7332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9392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3524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6692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8924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7648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3200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8280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4480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9404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7336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3680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5264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6228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32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9236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6860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3972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4448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7652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60984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1936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2376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1908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3176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1908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7784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30348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8412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7492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7964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9876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526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8260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80028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3676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9396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5108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9360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2376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5876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21276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7332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6828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20952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23760"/>
                <a:ext cx="9109800" cy="1621800"/>
                <a:chOff x="11160" y="2376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8128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2376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2376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2376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2376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2376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2376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2376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2376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2376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2376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15840"/>
                <a:ext cx="7808040" cy="1640520"/>
                <a:chOff x="576360" y="158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1908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8056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5004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3812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3492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2268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8056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8056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8056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8056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50040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6988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158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9124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2232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50524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4CEE-7666-4A1C-AA82-ECE82B9B0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18960" y="2590560"/>
            <a:ext cx="693396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i="1" lang="en-GB" sz="4800" spc="-1" strike="noStrike">
                <a:solidFill>
                  <a:srgbClr val="cc6600"/>
                </a:solidFill>
                <a:latin typeface="Times New Roman"/>
              </a:rPr>
              <a:t>‘</a:t>
            </a:r>
            <a:r>
              <a:rPr b="0" i="1" lang="en-GB" sz="4800" spc="-1" strike="noStrike">
                <a:solidFill>
                  <a:srgbClr val="cc6600"/>
                </a:solidFill>
                <a:latin typeface="Times New Roman"/>
              </a:rPr>
              <a:t>Measuring’ job quality with labour law indicators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EDD2-AF36-4242-800B-8E1FBC0B37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55640" y="2743200"/>
            <a:ext cx="777240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ot all workers covered by labour legisla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is labour law is viol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blem of indexing (standardising, weight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8EAA-9578-4C5C-9B2B-A1004ADBDE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685800" y="1844280"/>
            <a:ext cx="77724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Glob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Winners and 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loo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Impact on Employ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and Labo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3505320"/>
            <a:ext cx="777240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"/>
          <p:cNvSpPr/>
          <p:nvPr/>
        </p:nvSpPr>
        <p:spPr>
          <a:xfrm>
            <a:off x="1619280" y="2924280"/>
            <a:ext cx="431640" cy="1368360"/>
          </a:xfrm>
          <a:prstGeom prst="downArrow">
            <a:avLst>
              <a:gd name="adj1" fmla="val 50000"/>
              <a:gd name="adj2" fmla="val 7925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3132000" y="3357720"/>
            <a:ext cx="1440000" cy="287280"/>
          </a:xfrm>
          <a:prstGeom prst="rightArrow">
            <a:avLst>
              <a:gd name="adj1" fmla="val 50000"/>
              <a:gd name="adj2" fmla="val 12531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71CE-6CF4-4AE1-B487-B9C1E5BF16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8686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ob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compet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pressure to reduce labour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act on the quality of job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 rot="5704200">
            <a:off x="1726200" y="1673640"/>
            <a:ext cx="576360" cy="648000"/>
          </a:xfrm>
          <a:custGeom>
            <a:avLst/>
            <a:gdLst>
              <a:gd name="textAreaLeft" fmla="*/ 0 w 576360"/>
              <a:gd name="textAreaRight" fmla="*/ 576720 w 576360"/>
              <a:gd name="textAreaTop" fmla="*/ 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 rot="5704200">
            <a:off x="3094560" y="2888280"/>
            <a:ext cx="576000" cy="647640"/>
          </a:xfrm>
          <a:custGeom>
            <a:avLst/>
            <a:gdLst>
              <a:gd name="textAreaLeft" fmla="*/ 0 w 576000"/>
              <a:gd name="textAreaRight" fmla="*/ 576000 w 57600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"/>
          <p:cNvSpPr/>
          <p:nvPr/>
        </p:nvSpPr>
        <p:spPr>
          <a:xfrm rot="5704200">
            <a:off x="4751280" y="4114080"/>
            <a:ext cx="576360" cy="647640"/>
          </a:xfrm>
          <a:custGeom>
            <a:avLst/>
            <a:gdLst>
              <a:gd name="textAreaLeft" fmla="*/ 0 w 576360"/>
              <a:gd name="textAreaRight" fmla="*/ 576720 w 57636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FF54-6E48-4EE6-9805-B10BDDCCF4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to capture changes in job quality?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55640" y="3213000"/>
            <a:ext cx="7772400" cy="25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ntional Way = Labour Force Surve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suring’ changes in labour legis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DC98-D692-4220-8C54-DFB7EEBB45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al Indicators: Legislation regarding firing worker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elected indica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n employer terminate the employment contract without cause? Yes (= 0), No (= 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 the law establish a list of ‘fair’ grounds for dismissal? Yes (= 0), No (= 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employers notify a third party before dismissing a redundant employee? Yes (= 0), No (= 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 the law mandate retraining or replacement before dismissal 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es (= 1), No (= 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the length of the legally mandates notice period? ( 0-24 week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87B5-C639-44B1-A5A3-FD2986226F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Tahoma"/>
              </a:rPr>
              <a:t>Job Security Index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easures the protection of rules governing the termination of an employment contract as the average of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tection of grounds for dismissal (3 indicato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tection of dismissal procedures (7 indicato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otice and severance payments (4 indicato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ight to job security embedded in the constitution ( 1 indicato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ED83-47EC-44C3-AA96-29D4B6E44C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Times New Roman"/>
              </a:rPr>
              <a:t>Firing Regulation Index (2003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Canada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  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USA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Denmark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Italy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 3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France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 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Germany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 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Netherlands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 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Spain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 6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Ukraine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 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India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 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Mexico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 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ahoma"/>
              </a:rPr>
              <a:t>Source: World Bank, ‘Doing Business’ database websit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2381-F83E-4E94-AA59-4304060D4B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Trend of firing regulation index (1997-2003)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(Sample of 60 countri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755640" y="3284640"/>
          <a:ext cx="6981840" cy="2382840"/>
        </p:xfrm>
        <a:graphic>
          <a:graphicData uri="http://schemas.openxmlformats.org/drawingml/2006/table">
            <a:tbl>
              <a:tblPr/>
              <a:tblGrid>
                <a:gridCol w="3454560"/>
                <a:gridCol w="3527280"/>
              </a:tblGrid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ss regu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regu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chan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2E0E-2B80-4EE9-A640-94DF98A178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r>
              <a:rPr b="0" i="1" lang="en-GB" sz="4000" spc="-1" strike="noStrike">
                <a:solidFill>
                  <a:srgbClr val="cc6600"/>
                </a:solidFill>
                <a:latin typeface="Times New Roman"/>
              </a:rPr>
              <a:t>	</a:t>
            </a:r>
            <a:r>
              <a:rPr b="0" i="1" lang="fr-CH" sz="4400" spc="-1" strike="noStrike">
                <a:solidFill>
                  <a:srgbClr val="cc6600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32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oid ‘overcharging’ labour force surve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s costly than labour force surve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EDA3-C510-42B9-A22D-6447E802A1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4T09:08:57Z</dcterms:created>
  <dc:creator>Administrator</dc:creator>
  <dc:description/>
  <dc:language>en-US</dc:language>
  <cp:lastModifiedBy>ILO</cp:lastModifiedBy>
  <dcterms:modified xsi:type="dcterms:W3CDTF">2005-05-10T07:57:47Z</dcterms:modified>
  <cp:revision>28</cp:revision>
  <dc:subject/>
  <dc:title>Statistical Indicators on Decent Work</dc:title>
</cp:coreProperties>
</file>