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B536-D755-4FB6-B86B-1B7D47F5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2A4A-A2A3-400A-97B9-2404AD61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474E-9330-4CE1-9FFA-635DDC54E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CB5B-EFBC-40F6-AC73-EA65C73B5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8489-235C-4972-A27A-13462AAC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D6A3-3886-4889-877D-A848446B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5F6D-FB33-4B70-BCD9-270CD8FB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2CA6-DF09-4C3D-8214-FB98C376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368F-2D29-4D9A-8AF3-3D5BF742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E57D-693D-438E-93E7-4AD469F5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5099-BF52-4EA7-87BE-8F24596C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0B38-FCF0-4C01-9EF0-76EF42BE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58bc5"/>
              </a:buClr>
              <a:buSzPct val="6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F065-691E-417E-BAB3-E3F6D56EB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050240" y="6207120"/>
            <a:ext cx="1823760" cy="3366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85800" y="609480"/>
            <a:ext cx="1425600" cy="2881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886880" y="621036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5683-9149-4854-AC57-2B1004D90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2556000" y="549360"/>
          <a:ext cx="4601880" cy="83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549360"/>
                    <a:ext cx="4601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5960" y="1413000"/>
            <a:ext cx="84931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Arial"/>
              </a:rPr>
              <a:t>Counting immigrants and expatriates : </a:t>
            </a:r>
            <a:br>
              <a:rPr sz="3000"/>
            </a:br>
            <a:r>
              <a:rPr b="1" lang="fr-FR" sz="3000" spc="-1" strike="noStrike">
                <a:solidFill>
                  <a:srgbClr val="000000"/>
                </a:solidFill>
                <a:latin typeface="Arial"/>
              </a:rPr>
              <a:t>a new perspective</a:t>
            </a:r>
            <a:br>
              <a:rPr sz="3000"/>
            </a:b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(Published in « Trends in International Migration » OECD 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000" y="3213000"/>
            <a:ext cx="8381880" cy="24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9"/>
              </a:spcBef>
              <a:spcAft>
                <a:spcPts val="799"/>
              </a:spcAft>
              <a:buNone/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9"/>
              </a:spcBef>
              <a:spcAft>
                <a:spcPts val="799"/>
              </a:spcAft>
              <a:buNone/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Jean-Christophe Dumont and Georges Lemaît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9"/>
              </a:spcBef>
              <a:spcAft>
                <a:spcPts val="799"/>
              </a:spcAft>
              <a:buNone/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 Narrow"/>
              </a:rPr>
              <a:t>Directorate for Employment, Labour and Social Affairs, OEC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9"/>
              </a:spcBef>
              <a:spcAft>
                <a:spcPts val="799"/>
              </a:spcAft>
              <a:buNone/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CE-Eurostat Seminar on International Migration, Geneva 21-23 March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19080" y="2638440"/>
          <a:ext cx="4913280" cy="365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" y="2638440"/>
                    <a:ext cx="491328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5" name=""/>
          <p:cNvGrpSpPr/>
          <p:nvPr/>
        </p:nvGrpSpPr>
        <p:grpSpPr>
          <a:xfrm>
            <a:off x="304920" y="6265800"/>
            <a:ext cx="8001000" cy="304920"/>
            <a:chOff x="304920" y="6265800"/>
            <a:chExt cx="8001000" cy="304920"/>
          </a:xfrm>
        </p:grpSpPr>
        <p:pic>
          <p:nvPicPr>
            <p:cNvPr id="316" name="" descr=""/>
            <p:cNvPicPr/>
            <p:nvPr/>
          </p:nvPicPr>
          <p:blipFill>
            <a:blip r:embed="rId3"/>
            <a:stretch/>
          </p:blipFill>
          <p:spPr>
            <a:xfrm>
              <a:off x="304920" y="6265800"/>
              <a:ext cx="91440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304920" y="655308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95640" y="6324480"/>
              <a:ext cx="5181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OECD Directorate for Employment Labour and Social Affairs, 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DELS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81040" y="-4842000"/>
            <a:ext cx="523800" cy="517680"/>
            <a:chOff x="581040" y="-4842000"/>
            <a:chExt cx="523800" cy="517680"/>
          </a:xfrm>
        </p:grpSpPr>
        <p:sp>
          <p:nvSpPr>
            <p:cNvPr id="320" name=""/>
            <p:cNvSpPr/>
            <p:nvPr/>
          </p:nvSpPr>
          <p:spPr>
            <a:xfrm>
              <a:off x="581040" y="-4842000"/>
              <a:ext cx="523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81040" y="-4842000"/>
              <a:ext cx="52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81040" y="-4324320"/>
              <a:ext cx="52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1040" y="-48420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104840" y="-48420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8582040" y="6446880"/>
            <a:ext cx="382680" cy="368280"/>
            <a:chOff x="8582040" y="6446880"/>
            <a:chExt cx="382680" cy="368280"/>
          </a:xfrm>
        </p:grpSpPr>
        <p:sp>
          <p:nvSpPr>
            <p:cNvPr id="326" name=""/>
            <p:cNvSpPr/>
            <p:nvPr/>
          </p:nvSpPr>
          <p:spPr>
            <a:xfrm>
              <a:off x="8582040" y="6453000"/>
              <a:ext cx="381240" cy="30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632800" y="6446880"/>
              <a:ext cx="33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007062C-4933-45AB-8540-C20318301701}" type="slidenum"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826920" y="1052640"/>
            <a:ext cx="38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6666ff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skilled international migration is an important part of all migration 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96000" y="2492280"/>
            <a:ext cx="4248000" cy="36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Native-born   Foreign Born  Expatri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31.5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38.0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4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18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23.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38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FR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16.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18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4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HU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10.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19.8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3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K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26.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32.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43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NZ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27.0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31.6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42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W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22.8</a:t>
            </a: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24.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38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US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26.9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25.9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47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076720" y="1773360"/>
            <a:ext cx="403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rcentage of persons with tertiary education in selected OECD coun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2843280" y="260280"/>
            <a:ext cx="6192720" cy="520200"/>
            <a:chOff x="2843280" y="260280"/>
            <a:chExt cx="6192720" cy="520200"/>
          </a:xfrm>
        </p:grpSpPr>
        <p:sp>
          <p:nvSpPr>
            <p:cNvPr id="332" name=""/>
            <p:cNvSpPr/>
            <p:nvPr/>
          </p:nvSpPr>
          <p:spPr>
            <a:xfrm>
              <a:off x="2843280" y="260280"/>
              <a:ext cx="1297080" cy="3070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Backgrou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284720" y="260280"/>
              <a:ext cx="1368360" cy="3070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Methodolo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96000" y="260280"/>
              <a:ext cx="1728720" cy="5202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mmigrants and expatri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667640" y="260280"/>
              <a:ext cx="1368360" cy="3070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Next ste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304920" y="6265800"/>
            <a:ext cx="8001000" cy="304920"/>
            <a:chOff x="304920" y="6265800"/>
            <a:chExt cx="8001000" cy="304920"/>
          </a:xfrm>
        </p:grpSpPr>
        <p:pic>
          <p:nvPicPr>
            <p:cNvPr id="337" name="" descr=""/>
            <p:cNvPicPr/>
            <p:nvPr/>
          </p:nvPicPr>
          <p:blipFill>
            <a:blip r:embed="rId1"/>
            <a:stretch/>
          </p:blipFill>
          <p:spPr>
            <a:xfrm>
              <a:off x="304920" y="6265800"/>
              <a:ext cx="91440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304920" y="655308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95640" y="6324480"/>
              <a:ext cx="5181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OECD Directorate for Employment Labour and Social Affairs, 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DELS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81040" y="-4842000"/>
            <a:ext cx="523800" cy="517680"/>
            <a:chOff x="581040" y="-4842000"/>
            <a:chExt cx="523800" cy="517680"/>
          </a:xfrm>
        </p:grpSpPr>
        <p:sp>
          <p:nvSpPr>
            <p:cNvPr id="341" name=""/>
            <p:cNvSpPr/>
            <p:nvPr/>
          </p:nvSpPr>
          <p:spPr>
            <a:xfrm>
              <a:off x="581040" y="-4842000"/>
              <a:ext cx="523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81040" y="-4842000"/>
              <a:ext cx="52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81040" y="-4324320"/>
              <a:ext cx="52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1040" y="-48420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104840" y="-48420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8582040" y="6446880"/>
            <a:ext cx="382680" cy="368280"/>
            <a:chOff x="8582040" y="6446880"/>
            <a:chExt cx="382680" cy="368280"/>
          </a:xfrm>
        </p:grpSpPr>
        <p:sp>
          <p:nvSpPr>
            <p:cNvPr id="347" name=""/>
            <p:cNvSpPr/>
            <p:nvPr/>
          </p:nvSpPr>
          <p:spPr>
            <a:xfrm>
              <a:off x="8582040" y="6453000"/>
              <a:ext cx="381240" cy="30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632800" y="6446880"/>
              <a:ext cx="33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09AEDB1-E12E-4EEE-8033-F47C182B3E46}" type="slidenum"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395280" y="3068640"/>
            <a:ext cx="28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00000" y="907920"/>
            <a:ext cx="78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6666ff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ia, Europe and Africa are the major regions of origin for highly ski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0" y="1341360"/>
            <a:ext cx="9286920" cy="5327640"/>
            <a:chOff x="0" y="1341360"/>
            <a:chExt cx="9286920" cy="5327640"/>
          </a:xfrm>
        </p:grpSpPr>
        <p:graphicFrame>
          <p:nvGraphicFramePr>
            <p:cNvPr id="352" name=""/>
            <p:cNvGraphicFramePr/>
            <p:nvPr/>
          </p:nvGraphicFramePr>
          <p:xfrm>
            <a:off x="0" y="1341360"/>
            <a:ext cx="9286920" cy="532764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3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341360"/>
                      <a:ext cx="9286920" cy="532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4" name=""/>
            <p:cNvSpPr/>
            <p:nvPr/>
          </p:nvSpPr>
          <p:spPr>
            <a:xfrm>
              <a:off x="8394840" y="2409840"/>
              <a:ext cx="377640" cy="276696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843280" y="260280"/>
            <a:ext cx="6192720" cy="520200"/>
            <a:chOff x="2843280" y="260280"/>
            <a:chExt cx="6192720" cy="520200"/>
          </a:xfrm>
        </p:grpSpPr>
        <p:sp>
          <p:nvSpPr>
            <p:cNvPr id="356" name=""/>
            <p:cNvSpPr/>
            <p:nvPr/>
          </p:nvSpPr>
          <p:spPr>
            <a:xfrm>
              <a:off x="2843280" y="260280"/>
              <a:ext cx="1297080" cy="3070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Backgrou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284720" y="260280"/>
              <a:ext cx="1368360" cy="3070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Methodolo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96000" y="260280"/>
              <a:ext cx="1728720" cy="5202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mmigrants and expatri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667640" y="260280"/>
              <a:ext cx="1368360" cy="3070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Next ste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304920" y="6265800"/>
            <a:ext cx="8001000" cy="304920"/>
            <a:chOff x="304920" y="6265800"/>
            <a:chExt cx="8001000" cy="304920"/>
          </a:xfrm>
        </p:grpSpPr>
        <p:pic>
          <p:nvPicPr>
            <p:cNvPr id="361" name="" descr=""/>
            <p:cNvPicPr/>
            <p:nvPr/>
          </p:nvPicPr>
          <p:blipFill>
            <a:blip r:embed="rId1"/>
            <a:stretch/>
          </p:blipFill>
          <p:spPr>
            <a:xfrm>
              <a:off x="304920" y="6265800"/>
              <a:ext cx="91440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304920" y="655308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95640" y="6324480"/>
              <a:ext cx="5181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OECD Directorate for Employment Labour and Social Affairs, 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DELS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64" name=""/>
          <p:cNvGraphicFramePr/>
          <p:nvPr/>
        </p:nvGraphicFramePr>
        <p:xfrm>
          <a:off x="581040" y="-4842000"/>
          <a:ext cx="523800" cy="517680"/>
        </p:xfrm>
        <a:graphic>
          <a:graphicData uri="http://schemas.openxmlformats.org/drawingml/2006/table">
            <a:tbl>
              <a:tblPr/>
              <a:tblGrid>
                <a:gridCol w="52380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65" name=""/>
          <p:cNvGrpSpPr/>
          <p:nvPr/>
        </p:nvGrpSpPr>
        <p:grpSpPr>
          <a:xfrm>
            <a:off x="8582040" y="6446880"/>
            <a:ext cx="382680" cy="368280"/>
            <a:chOff x="8582040" y="6446880"/>
            <a:chExt cx="382680" cy="368280"/>
          </a:xfrm>
        </p:grpSpPr>
        <p:sp>
          <p:nvSpPr>
            <p:cNvPr id="366" name=""/>
            <p:cNvSpPr/>
            <p:nvPr/>
          </p:nvSpPr>
          <p:spPr>
            <a:xfrm>
              <a:off x="8582040" y="6453000"/>
              <a:ext cx="381240" cy="30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632800" y="6446880"/>
              <a:ext cx="33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7DD835D-5A65-4842-9DD1-060F64CAE533}" type="slidenum"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826920" y="914400"/>
            <a:ext cx="808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ff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the OECD area, only eight countries are net beneficiaries from the migration of the highly educated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754280" y="2438280"/>
            <a:ext cx="180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914400" y="1682640"/>
            <a:ext cx="6934320" cy="4488120"/>
          </a:xfrm>
          <a:prstGeom prst="rect">
            <a:avLst/>
          </a:prstGeom>
          <a:ln w="0">
            <a:noFill/>
          </a:ln>
        </p:spPr>
      </p:pic>
      <p:grpSp>
        <p:nvGrpSpPr>
          <p:cNvPr id="371" name=""/>
          <p:cNvGrpSpPr/>
          <p:nvPr/>
        </p:nvGrpSpPr>
        <p:grpSpPr>
          <a:xfrm>
            <a:off x="2843280" y="260280"/>
            <a:ext cx="6192720" cy="520200"/>
            <a:chOff x="2843280" y="260280"/>
            <a:chExt cx="6192720" cy="520200"/>
          </a:xfrm>
        </p:grpSpPr>
        <p:sp>
          <p:nvSpPr>
            <p:cNvPr id="372" name=""/>
            <p:cNvSpPr/>
            <p:nvPr/>
          </p:nvSpPr>
          <p:spPr>
            <a:xfrm>
              <a:off x="2843280" y="260280"/>
              <a:ext cx="1297080" cy="3070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Backgrou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284720" y="260280"/>
              <a:ext cx="1368360" cy="3070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Methodolo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796000" y="260280"/>
              <a:ext cx="1728720" cy="5202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mmigrants and expatri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667640" y="260280"/>
              <a:ext cx="1368360" cy="3070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Next ste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304920" y="6265800"/>
            <a:ext cx="8001000" cy="304920"/>
            <a:chOff x="304920" y="6265800"/>
            <a:chExt cx="8001000" cy="304920"/>
          </a:xfrm>
        </p:grpSpPr>
        <p:pic>
          <p:nvPicPr>
            <p:cNvPr id="377" name="" descr=""/>
            <p:cNvPicPr/>
            <p:nvPr/>
          </p:nvPicPr>
          <p:blipFill>
            <a:blip r:embed="rId1"/>
            <a:stretch/>
          </p:blipFill>
          <p:spPr>
            <a:xfrm>
              <a:off x="304920" y="6265800"/>
              <a:ext cx="91440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304920" y="655308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95640" y="6324480"/>
              <a:ext cx="5181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OECD Directorate for Employment Labour and Social Affairs, 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DELS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581040" y="-4842000"/>
            <a:ext cx="523800" cy="517680"/>
            <a:chOff x="581040" y="-4842000"/>
            <a:chExt cx="523800" cy="517680"/>
          </a:xfrm>
        </p:grpSpPr>
        <p:sp>
          <p:nvSpPr>
            <p:cNvPr id="381" name=""/>
            <p:cNvSpPr/>
            <p:nvPr/>
          </p:nvSpPr>
          <p:spPr>
            <a:xfrm>
              <a:off x="581040" y="-4842000"/>
              <a:ext cx="523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81040" y="-4842000"/>
              <a:ext cx="52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1040" y="-4324320"/>
              <a:ext cx="52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81040" y="-48420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04840" y="-48420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8582040" y="6446880"/>
            <a:ext cx="382680" cy="368280"/>
            <a:chOff x="8582040" y="6446880"/>
            <a:chExt cx="382680" cy="368280"/>
          </a:xfrm>
        </p:grpSpPr>
        <p:sp>
          <p:nvSpPr>
            <p:cNvPr id="387" name=""/>
            <p:cNvSpPr/>
            <p:nvPr/>
          </p:nvSpPr>
          <p:spPr>
            <a:xfrm>
              <a:off x="8582040" y="6453000"/>
              <a:ext cx="381240" cy="30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632800" y="6446880"/>
              <a:ext cx="33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F7BE870-C74E-4992-B252-04A4B223DDBB}" type="slidenum"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1523880" y="838080"/>
            <a:ext cx="729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ff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but, as whole, most OECD countries benefit from the international mobility of the highly ski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2843280" y="260280"/>
            <a:ext cx="6192720" cy="520200"/>
            <a:chOff x="2843280" y="260280"/>
            <a:chExt cx="6192720" cy="520200"/>
          </a:xfrm>
        </p:grpSpPr>
        <p:sp>
          <p:nvSpPr>
            <p:cNvPr id="391" name=""/>
            <p:cNvSpPr/>
            <p:nvPr/>
          </p:nvSpPr>
          <p:spPr>
            <a:xfrm>
              <a:off x="2843280" y="260280"/>
              <a:ext cx="1297080" cy="3070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Backgrou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284720" y="260280"/>
              <a:ext cx="1368360" cy="3070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Methodolo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796000" y="260280"/>
              <a:ext cx="1728720" cy="5202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mmigrants and expatri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667640" y="260280"/>
              <a:ext cx="1368360" cy="3070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Next ste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900000" y="1484280"/>
            <a:ext cx="7272360" cy="55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304920" y="6265800"/>
            <a:ext cx="914400" cy="2811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304920" y="65530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6324480"/>
            <a:ext cx="518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 Narrow"/>
              </a:rPr>
              <a:t>OECD Directorate for Employment Labour and Social Affairs, </a:t>
            </a:r>
            <a:r>
              <a:rPr b="0" lang="fr-FR" sz="1000" spc="-1" strike="noStrike">
                <a:solidFill>
                  <a:srgbClr val="000000"/>
                </a:solidFill>
                <a:latin typeface="Arial Narrow"/>
              </a:rPr>
              <a:t>DEL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1040" y="-4842000"/>
            <a:ext cx="5238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040" y="-4842000"/>
            <a:ext cx="52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1040" y="-4324320"/>
            <a:ext cx="52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1040" y="-4842000"/>
            <a:ext cx="0" cy="517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104840" y="-4842000"/>
            <a:ext cx="0" cy="517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582040" y="6453360"/>
            <a:ext cx="38088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632800" y="6446880"/>
            <a:ext cx="3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5D1D-6433-4815-95CE-8C8A1ED06B53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0" y="395280"/>
            <a:ext cx="9144000" cy="64627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2438280" y="685800"/>
            <a:ext cx="4572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4360" y="76212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6666ff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ome countr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specially in the Caribbean and in Africa, face significant emigration rates of their elites (sometimes exceeding 5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843280" y="260280"/>
            <a:ext cx="6192720" cy="520200"/>
            <a:chOff x="2843280" y="260280"/>
            <a:chExt cx="6192720" cy="520200"/>
          </a:xfrm>
        </p:grpSpPr>
        <p:sp>
          <p:nvSpPr>
            <p:cNvPr id="410" name=""/>
            <p:cNvSpPr/>
            <p:nvPr/>
          </p:nvSpPr>
          <p:spPr>
            <a:xfrm>
              <a:off x="2843280" y="260280"/>
              <a:ext cx="1297080" cy="3070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Backgrou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284720" y="260280"/>
              <a:ext cx="1368360" cy="3070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Methodolo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96000" y="260280"/>
              <a:ext cx="1728720" cy="5202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mmigrants and expatri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667640" y="260280"/>
              <a:ext cx="1368360" cy="3070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Next ste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"/>
          <p:cNvGrpSpPr/>
          <p:nvPr/>
        </p:nvGrpSpPr>
        <p:grpSpPr>
          <a:xfrm>
            <a:off x="304920" y="6265800"/>
            <a:ext cx="8001000" cy="304920"/>
            <a:chOff x="304920" y="6265800"/>
            <a:chExt cx="8001000" cy="304920"/>
          </a:xfrm>
        </p:grpSpPr>
        <p:pic>
          <p:nvPicPr>
            <p:cNvPr id="415" name="" descr=""/>
            <p:cNvPicPr/>
            <p:nvPr/>
          </p:nvPicPr>
          <p:blipFill>
            <a:blip r:embed="rId1"/>
            <a:stretch/>
          </p:blipFill>
          <p:spPr>
            <a:xfrm>
              <a:off x="304920" y="6265800"/>
              <a:ext cx="91440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304920" y="655308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95640" y="6324480"/>
              <a:ext cx="5181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OECD Directorate for Employment Labour and Social Affairs, 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DELS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581040" y="-4842000"/>
            <a:ext cx="523800" cy="517680"/>
            <a:chOff x="581040" y="-4842000"/>
            <a:chExt cx="523800" cy="517680"/>
          </a:xfrm>
        </p:grpSpPr>
        <p:sp>
          <p:nvSpPr>
            <p:cNvPr id="419" name=""/>
            <p:cNvSpPr/>
            <p:nvPr/>
          </p:nvSpPr>
          <p:spPr>
            <a:xfrm>
              <a:off x="581040" y="-4842000"/>
              <a:ext cx="523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81040" y="-4842000"/>
              <a:ext cx="52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81040" y="-4324320"/>
              <a:ext cx="52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81040" y="-48420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104840" y="-48420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8582040" y="6446880"/>
            <a:ext cx="382680" cy="368280"/>
            <a:chOff x="8582040" y="6446880"/>
            <a:chExt cx="382680" cy="368280"/>
          </a:xfrm>
        </p:grpSpPr>
        <p:sp>
          <p:nvSpPr>
            <p:cNvPr id="425" name=""/>
            <p:cNvSpPr/>
            <p:nvPr/>
          </p:nvSpPr>
          <p:spPr>
            <a:xfrm>
              <a:off x="8582040" y="6453000"/>
              <a:ext cx="381240" cy="30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632800" y="6446880"/>
              <a:ext cx="33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E5E611B-C6BF-49F4-9A81-922CD784E6E9}" type="slidenum"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2843280" y="260280"/>
            <a:ext cx="1297080" cy="3070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Backgr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284720" y="260280"/>
            <a:ext cx="1368360" cy="3070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Method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96000" y="260280"/>
            <a:ext cx="1728720" cy="5202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mmigrants and expatri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667640" y="260280"/>
            <a:ext cx="1368360" cy="307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ext st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258920" y="1332000"/>
            <a:ext cx="7705800" cy="54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he database is available online on the OECD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6666ff"/>
                </a:solidFill>
                <a:uFillTx/>
                <a:latin typeface="Tahoma"/>
              </a:rPr>
              <a:t>www.oecd.org/document/16/0,2340,en_2649_33931_33865936_1_1_1_1,00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xt phase of the project involve collection of more detailed information on demographic (gender, age, duration of stay) and labor market variables (employment status, occupation, sector of activ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ata to be used for studies on specific occupations (e.g. Health; ICT; Edu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Extending the database to selected non-member countri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58920" y="2565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rns related to the international mobility of the highly skilled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11640" y="4468680"/>
            <a:ext cx="446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availability of statistics on expatriates, especially by level of education and occu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rot="20565000">
            <a:off x="971280" y="3573000"/>
            <a:ext cx="1706400" cy="2341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851400">
            <a:off x="1618920" y="3644640"/>
            <a:ext cx="1843200" cy="2520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258920" y="192240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in the comparability of immigrant st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82920" y="3171960"/>
            <a:ext cx="48261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among OECD member countr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from developing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1341360"/>
            <a:ext cx="52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Tahoma"/>
              </a:rPr>
              <a:t>Rationale for th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04920" y="6265800"/>
            <a:ext cx="8659440" cy="313920"/>
            <a:chOff x="304920" y="6265800"/>
            <a:chExt cx="8659440" cy="313920"/>
          </a:xfrm>
        </p:grpSpPr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304920" y="6265800"/>
              <a:ext cx="989640" cy="30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304920" y="6579720"/>
              <a:ext cx="865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77000" y="6329880"/>
              <a:ext cx="560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OECD Directorate for Employment Labour and Social Affairs, 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DELS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843280" y="260280"/>
            <a:ext cx="1297080" cy="307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ackgr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84720" y="260280"/>
            <a:ext cx="1368360" cy="3070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Method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6000" y="260280"/>
            <a:ext cx="1728720" cy="5202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mmigrants and expatri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67640" y="260280"/>
            <a:ext cx="1368360" cy="3070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Next st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304920" y="6307200"/>
            <a:ext cx="8001000" cy="304920"/>
            <a:chOff x="304920" y="6307200"/>
            <a:chExt cx="8001000" cy="30492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304920" y="6307200"/>
              <a:ext cx="91440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04920" y="659448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295640" y="6365880"/>
              <a:ext cx="5181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OECD Directorate for Employment Labour and Social Affairs, 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DELS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581040" y="-4800600"/>
            <a:ext cx="523800" cy="517680"/>
            <a:chOff x="581040" y="-4800600"/>
            <a:chExt cx="523800" cy="517680"/>
          </a:xfrm>
        </p:grpSpPr>
        <p:sp>
          <p:nvSpPr>
            <p:cNvPr id="68" name=""/>
            <p:cNvSpPr/>
            <p:nvPr/>
          </p:nvSpPr>
          <p:spPr>
            <a:xfrm>
              <a:off x="581040" y="-4800600"/>
              <a:ext cx="523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1040" y="-4800600"/>
              <a:ext cx="52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1040" y="-4282920"/>
              <a:ext cx="52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1040" y="-48006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104840" y="-48006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284720" y="1454040"/>
            <a:ext cx="194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878040"/>
            <a:ext cx="861084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Tahoma"/>
              </a:rPr>
              <a:t>An international database on Foreign-Bo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Data collection and compi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buClr>
                <a:srgbClr val="6666ff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29 OECD National Statistic Offices and OEC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buClr>
                <a:srgbClr val="6666ff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bservers : UN Statistics Division, Eurostat, European Commission, ILO, UNE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3429000"/>
            <a:ext cx="8610480" cy="27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Data collection and compi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buClr>
                <a:srgbClr val="6666ff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are mainly from OECD population censuses and population regis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buClr>
                <a:srgbClr val="6666ff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were compiled on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Immigrant population in OECD countr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Expatriate population from all countries to OECD countr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Migrants by origin / destination and educational attain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43280" y="260280"/>
            <a:ext cx="1297080" cy="3070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Backgr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84720" y="260280"/>
            <a:ext cx="1368360" cy="307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96000" y="260280"/>
            <a:ext cx="1728720" cy="5202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mmigrants and expatri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67640" y="260280"/>
            <a:ext cx="1368360" cy="3070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Next st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04920" y="6307200"/>
            <a:ext cx="8001000" cy="304920"/>
            <a:chOff x="304920" y="6307200"/>
            <a:chExt cx="8001000" cy="30492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304920" y="6307200"/>
              <a:ext cx="91440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304920" y="659448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295640" y="6365880"/>
              <a:ext cx="5181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OECD Directorate for Employment Labour and Social Affairs, 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DELS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581040" y="-4800600"/>
            <a:ext cx="523800" cy="517680"/>
            <a:chOff x="581040" y="-4800600"/>
            <a:chExt cx="523800" cy="517680"/>
          </a:xfrm>
        </p:grpSpPr>
        <p:sp>
          <p:nvSpPr>
            <p:cNvPr id="85" name=""/>
            <p:cNvSpPr/>
            <p:nvPr/>
          </p:nvSpPr>
          <p:spPr>
            <a:xfrm>
              <a:off x="581040" y="-4800600"/>
              <a:ext cx="523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81040" y="-4800600"/>
              <a:ext cx="52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1040" y="-4282920"/>
              <a:ext cx="52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1040" y="-48006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04840" y="-48006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4284720" y="1454040"/>
            <a:ext cx="194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836640"/>
            <a:ext cx="828648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Tahoma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The immigrant popu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buClr>
                <a:srgbClr val="6666ff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 literal definition =&gt; persons who have immigrated into their current country of residence =&gt; persons born abroad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6666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cludes persons born abroad as nationals of the current country of resi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6666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kes no account of possible past migration movements of persons currently resident in their country of bi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6666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oes not include native-born persons of immigrant par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buClr>
                <a:srgbClr val="6666ff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lternative definition =&gt; the foreign popu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6666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lassification of persons can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6666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founded by possibility of multiple citize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6666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oes not necessarily reflect a migration mo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43280" y="260280"/>
            <a:ext cx="1297080" cy="3070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Backgr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84720" y="260280"/>
            <a:ext cx="1368360" cy="307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6000" y="260280"/>
            <a:ext cx="1728720" cy="5202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mmigrants and expatri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67640" y="260280"/>
            <a:ext cx="1368360" cy="3070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Next st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304920" y="6307200"/>
            <a:ext cx="8001000" cy="304920"/>
            <a:chOff x="304920" y="6307200"/>
            <a:chExt cx="8001000" cy="3049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304920" y="6307200"/>
              <a:ext cx="91440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304920" y="659448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640" y="6365880"/>
              <a:ext cx="5181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OECD Directorate for Employment Labour and Social Affairs, 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DELS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81040" y="-4800600"/>
            <a:ext cx="523800" cy="517680"/>
            <a:chOff x="581040" y="-4800600"/>
            <a:chExt cx="523800" cy="517680"/>
          </a:xfrm>
        </p:grpSpPr>
        <p:sp>
          <p:nvSpPr>
            <p:cNvPr id="101" name=""/>
            <p:cNvSpPr/>
            <p:nvPr/>
          </p:nvSpPr>
          <p:spPr>
            <a:xfrm>
              <a:off x="581040" y="-4800600"/>
              <a:ext cx="523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81040" y="-4800600"/>
              <a:ext cx="52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81040" y="-4282920"/>
              <a:ext cx="52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1040" y="-48006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04840" y="-48006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284720" y="1454040"/>
            <a:ext cx="194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692280"/>
            <a:ext cx="8610840" cy="18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Tahoma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Reference popu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buClr>
                <a:srgbClr val="6666ff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Usual residents by detailed country of birth, nationality and nationality at bir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9880" y="2595600"/>
            <a:ext cx="8610480" cy="31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Working rule for countries of bir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buClr>
                <a:srgbClr val="6666ff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ople born in states or territories belonging to the country of residence are considered as “native-born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 u="sng">
                <a:solidFill>
                  <a:srgbClr val="000000"/>
                </a:solidFill>
                <a:uFillTx/>
                <a:latin typeface="Tahoma"/>
              </a:rPr>
              <a:t>Education level (population 15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buClr>
                <a:srgbClr val="6666ff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Tahoma"/>
              </a:rPr>
              <a:t>Less than upper secondary (ISCED 0/1/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buClr>
                <a:srgbClr val="6666ff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Tahoma"/>
              </a:rPr>
              <a:t>Upper secondary and post secondary non-tertiary (ISCED 3/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buClr>
                <a:srgbClr val="6666ff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Tahoma"/>
              </a:rPr>
              <a:t>Tertiary (5a/5b and 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3280" y="260280"/>
            <a:ext cx="1297080" cy="3070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Backgr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84720" y="260280"/>
            <a:ext cx="1368360" cy="307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6000" y="260280"/>
            <a:ext cx="1728720" cy="5202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mmigrants and expatri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67640" y="260280"/>
            <a:ext cx="1368360" cy="3070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Next st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304920" y="6307200"/>
            <a:ext cx="8001000" cy="304920"/>
            <a:chOff x="304920" y="6307200"/>
            <a:chExt cx="8001000" cy="30492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04920" y="6307200"/>
              <a:ext cx="91440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304920" y="659448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95640" y="6365880"/>
              <a:ext cx="5181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OECD Directorate for Employment Labour and Social Affairs, 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DELS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81040" y="-4800600"/>
            <a:ext cx="523800" cy="517680"/>
            <a:chOff x="581040" y="-4800600"/>
            <a:chExt cx="523800" cy="517680"/>
          </a:xfrm>
        </p:grpSpPr>
        <p:sp>
          <p:nvSpPr>
            <p:cNvPr id="118" name=""/>
            <p:cNvSpPr/>
            <p:nvPr/>
          </p:nvSpPr>
          <p:spPr>
            <a:xfrm>
              <a:off x="581040" y="-4800600"/>
              <a:ext cx="523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1040" y="-4800600"/>
              <a:ext cx="52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1040" y="-4282920"/>
              <a:ext cx="52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81040" y="-48006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04840" y="-48006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4284720" y="1454040"/>
            <a:ext cx="194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692280"/>
            <a:ext cx="8139240" cy="54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Tahoma"/>
              </a:rPr>
              <a:t>Limi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buClr>
                <a:srgbClr val="6666ff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Data on stocks represent the cumulative effect of net migration flows over past deca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buClr>
                <a:srgbClr val="6666ff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Imperfect, heteregenous and unknown coverage of certain categories of migrants : undocumented migrants, temporary migrants, asylum seekers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buClr>
                <a:srgbClr val="6666ff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me persons with unknown country of birth and/or educational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buClr>
                <a:srgbClr val="6666ff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pecific hypotheses for some countries (Japan, Korea, German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buClr>
                <a:srgbClr val="6666ff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oblems for decomposed / recomposed countries of ori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43280" y="260280"/>
            <a:ext cx="1297080" cy="3070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Backgr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84720" y="260280"/>
            <a:ext cx="1368360" cy="307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6000" y="260280"/>
            <a:ext cx="1728720" cy="5202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mmigrants and expatri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67640" y="260280"/>
            <a:ext cx="1368360" cy="3070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Next st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304920" y="6265800"/>
            <a:ext cx="8001000" cy="304920"/>
            <a:chOff x="304920" y="6265800"/>
            <a:chExt cx="8001000" cy="30492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304920" y="6265800"/>
              <a:ext cx="91440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304920" y="655308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95640" y="6324480"/>
              <a:ext cx="5181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OECD Directorate for Employment Labour and Social Affairs, 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DELS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3" name=""/>
          <p:cNvGraphicFramePr/>
          <p:nvPr/>
        </p:nvGraphicFramePr>
        <p:xfrm>
          <a:off x="581040" y="-4842000"/>
          <a:ext cx="523800" cy="517680"/>
        </p:xfrm>
        <a:graphic>
          <a:graphicData uri="http://schemas.openxmlformats.org/drawingml/2006/table">
            <a:tbl>
              <a:tblPr/>
              <a:tblGrid>
                <a:gridCol w="52380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4" name=""/>
          <p:cNvGrpSpPr/>
          <p:nvPr/>
        </p:nvGrpSpPr>
        <p:grpSpPr>
          <a:xfrm>
            <a:off x="8582040" y="6446880"/>
            <a:ext cx="382680" cy="368280"/>
            <a:chOff x="8582040" y="6446880"/>
            <a:chExt cx="382680" cy="368280"/>
          </a:xfrm>
        </p:grpSpPr>
        <p:sp>
          <p:nvSpPr>
            <p:cNvPr id="135" name=""/>
            <p:cNvSpPr/>
            <p:nvPr/>
          </p:nvSpPr>
          <p:spPr>
            <a:xfrm>
              <a:off x="8582040" y="6453360"/>
              <a:ext cx="38124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632800" y="6446880"/>
              <a:ext cx="33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F3D2EFC-6C00-4293-B299-068653812D84}" type="slidenum"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187280" y="90792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6666ff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s on foreign born population in OECD countries provides a new -and more accurate- picture of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843280" y="260280"/>
            <a:ext cx="6192720" cy="520200"/>
            <a:chOff x="2843280" y="260280"/>
            <a:chExt cx="6192720" cy="520200"/>
          </a:xfrm>
        </p:grpSpPr>
        <p:sp>
          <p:nvSpPr>
            <p:cNvPr id="139" name=""/>
            <p:cNvSpPr/>
            <p:nvPr/>
          </p:nvSpPr>
          <p:spPr>
            <a:xfrm>
              <a:off x="2843280" y="260280"/>
              <a:ext cx="1297080" cy="3070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Backgrou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84720" y="260280"/>
              <a:ext cx="1368360" cy="3070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Methodolo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96000" y="260280"/>
              <a:ext cx="1728720" cy="5202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mmigrants and expatri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67640" y="260280"/>
              <a:ext cx="1368360" cy="3070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Next ste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2843280" y="2852640"/>
            <a:ext cx="45720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23.0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19.3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1.2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5.6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7.0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4.2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5.3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12.3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1197000"/>
            <a:ext cx="77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98600" y="2060640"/>
            <a:ext cx="61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9999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centage of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Percentag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oreign bor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f foreigner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852640"/>
            <a:ext cx="12240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C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LD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45080" y="2909880"/>
            <a:ext cx="45720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7.4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5.3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4.5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10.0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10.3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10.1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12.0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6.6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304920" y="6265800"/>
            <a:ext cx="8001000" cy="304920"/>
            <a:chOff x="304920" y="6265800"/>
            <a:chExt cx="8001000" cy="3049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304920" y="6265800"/>
              <a:ext cx="91440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04920" y="655308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95640" y="6324480"/>
              <a:ext cx="5181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OECD Directorate for Employment Labour and Social Affairs, 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DELS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2" name=""/>
          <p:cNvGraphicFramePr/>
          <p:nvPr/>
        </p:nvGraphicFramePr>
        <p:xfrm>
          <a:off x="581040" y="-4842000"/>
          <a:ext cx="523800" cy="517680"/>
        </p:xfrm>
        <a:graphic>
          <a:graphicData uri="http://schemas.openxmlformats.org/drawingml/2006/table">
            <a:tbl>
              <a:tblPr/>
              <a:tblGrid>
                <a:gridCol w="52380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3" name=""/>
          <p:cNvGrpSpPr/>
          <p:nvPr/>
        </p:nvGrpSpPr>
        <p:grpSpPr>
          <a:xfrm>
            <a:off x="8582040" y="6446880"/>
            <a:ext cx="382680" cy="368280"/>
            <a:chOff x="8582040" y="6446880"/>
            <a:chExt cx="382680" cy="368280"/>
          </a:xfrm>
        </p:grpSpPr>
        <p:sp>
          <p:nvSpPr>
            <p:cNvPr id="154" name=""/>
            <p:cNvSpPr/>
            <p:nvPr/>
          </p:nvSpPr>
          <p:spPr>
            <a:xfrm>
              <a:off x="8582040" y="6453360"/>
              <a:ext cx="38124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632800" y="6446880"/>
              <a:ext cx="33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BDB058B-A763-477B-964B-F9324E364313}" type="slidenum"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187280" y="90792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6666ff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ificant share of foreign born in OECD countries originate from other OECD countries (36.3 million people or 46% of all foreign bor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116000" y="1989000"/>
          <a:ext cx="6734160" cy="4407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989000"/>
                    <a:ext cx="6734160" cy="44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9" name=""/>
          <p:cNvGrpSpPr/>
          <p:nvPr/>
        </p:nvGrpSpPr>
        <p:grpSpPr>
          <a:xfrm>
            <a:off x="2843280" y="260280"/>
            <a:ext cx="6192720" cy="520200"/>
            <a:chOff x="2843280" y="260280"/>
            <a:chExt cx="6192720" cy="520200"/>
          </a:xfrm>
        </p:grpSpPr>
        <p:sp>
          <p:nvSpPr>
            <p:cNvPr id="160" name=""/>
            <p:cNvSpPr/>
            <p:nvPr/>
          </p:nvSpPr>
          <p:spPr>
            <a:xfrm>
              <a:off x="2843280" y="260280"/>
              <a:ext cx="1297080" cy="3070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Backgrou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84720" y="260280"/>
              <a:ext cx="1368360" cy="3070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Methodolo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96000" y="260280"/>
              <a:ext cx="1728720" cy="5202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mmigrants and expatri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67640" y="260280"/>
              <a:ext cx="1368360" cy="3070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Next ste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304920" y="6265800"/>
            <a:ext cx="8001000" cy="304920"/>
            <a:chOff x="304920" y="6265800"/>
            <a:chExt cx="8001000" cy="304920"/>
          </a:xfrm>
        </p:grpSpPr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304920" y="6265800"/>
              <a:ext cx="91440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304920" y="655308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95640" y="6324480"/>
              <a:ext cx="5181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OECD Directorate for Employment Labour and Social Affairs, 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 Narrow"/>
                </a:rPr>
                <a:t>DELS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8" name=""/>
          <p:cNvGraphicFramePr/>
          <p:nvPr/>
        </p:nvGraphicFramePr>
        <p:xfrm>
          <a:off x="581040" y="-4842000"/>
          <a:ext cx="523800" cy="517680"/>
        </p:xfrm>
        <a:graphic>
          <a:graphicData uri="http://schemas.openxmlformats.org/drawingml/2006/table">
            <a:tbl>
              <a:tblPr/>
              <a:tblGrid>
                <a:gridCol w="52380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9" name=""/>
          <p:cNvGrpSpPr/>
          <p:nvPr/>
        </p:nvGrpSpPr>
        <p:grpSpPr>
          <a:xfrm>
            <a:off x="8582040" y="6446880"/>
            <a:ext cx="382680" cy="368280"/>
            <a:chOff x="8582040" y="6446880"/>
            <a:chExt cx="382680" cy="368280"/>
          </a:xfrm>
        </p:grpSpPr>
        <p:sp>
          <p:nvSpPr>
            <p:cNvPr id="170" name=""/>
            <p:cNvSpPr/>
            <p:nvPr/>
          </p:nvSpPr>
          <p:spPr>
            <a:xfrm>
              <a:off x="8582040" y="6453360"/>
              <a:ext cx="38124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632800" y="6446880"/>
              <a:ext cx="33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EA95732-86CD-4998-972F-344CBEC211F9}" type="slidenum"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562400" y="2177640"/>
            <a:ext cx="7094880" cy="4033440"/>
            <a:chOff x="1562400" y="2177640"/>
            <a:chExt cx="7094880" cy="4033440"/>
          </a:xfrm>
        </p:grpSpPr>
        <p:sp>
          <p:nvSpPr>
            <p:cNvPr id="173" name=""/>
            <p:cNvSpPr/>
            <p:nvPr/>
          </p:nvSpPr>
          <p:spPr>
            <a:xfrm>
              <a:off x="1881720" y="5313600"/>
              <a:ext cx="67744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81720" y="4682520"/>
              <a:ext cx="67744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81720" y="4052520"/>
              <a:ext cx="67744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81720" y="3421800"/>
              <a:ext cx="67744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881720" y="2791440"/>
              <a:ext cx="67744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35720" y="5878440"/>
              <a:ext cx="72000" cy="658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186280" y="5881680"/>
              <a:ext cx="72000" cy="622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37200" y="5843160"/>
              <a:ext cx="72000" cy="10116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87760" y="5683320"/>
              <a:ext cx="72000" cy="26100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39040" y="5639400"/>
              <a:ext cx="72000" cy="30492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89240" y="5676120"/>
              <a:ext cx="72000" cy="26784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40520" y="5510160"/>
              <a:ext cx="72000" cy="43416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92520" y="5456160"/>
              <a:ext cx="72720" cy="48780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43800" y="5568840"/>
              <a:ext cx="72000" cy="3754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94000" y="5442480"/>
              <a:ext cx="72720" cy="5014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45280" y="5210640"/>
              <a:ext cx="72000" cy="7336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95840" y="4691520"/>
              <a:ext cx="72000" cy="125280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47120" y="5338080"/>
              <a:ext cx="72000" cy="6058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97320" y="5449680"/>
              <a:ext cx="72000" cy="4942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48600" y="5360760"/>
              <a:ext cx="72000" cy="58320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699160" y="5362560"/>
              <a:ext cx="72000" cy="58176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50080" y="5520600"/>
              <a:ext cx="72000" cy="42372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00640" y="5164200"/>
              <a:ext cx="72000" cy="78012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51920" y="4923360"/>
              <a:ext cx="72000" cy="102096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02120" y="5299920"/>
              <a:ext cx="72000" cy="64440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53400" y="5205960"/>
              <a:ext cx="72000" cy="73836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05400" y="4213800"/>
              <a:ext cx="72720" cy="173052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456680" y="5242680"/>
              <a:ext cx="72000" cy="70164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07240" y="5138280"/>
              <a:ext cx="72720" cy="8056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58160" y="4336560"/>
              <a:ext cx="72000" cy="160740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208720" y="2959200"/>
              <a:ext cx="72720" cy="298476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460000" y="3917520"/>
              <a:ext cx="72000" cy="202644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58280" y="5847840"/>
              <a:ext cx="71280" cy="9612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09560" y="5770800"/>
              <a:ext cx="70560" cy="17316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59760" y="5651280"/>
              <a:ext cx="71280" cy="29268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11040" y="5550120"/>
              <a:ext cx="70560" cy="39420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61600" y="5359320"/>
              <a:ext cx="71280" cy="58500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12880" y="5310360"/>
              <a:ext cx="72000" cy="63396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765600" y="5281200"/>
              <a:ext cx="70560" cy="66276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16160" y="5204160"/>
              <a:ext cx="70560" cy="73980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267080" y="5126400"/>
              <a:ext cx="70560" cy="81792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17640" y="5123160"/>
              <a:ext cx="70560" cy="82116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68200" y="5119920"/>
              <a:ext cx="71280" cy="82404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19120" y="5101560"/>
              <a:ext cx="70560" cy="84276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69680" y="5015880"/>
              <a:ext cx="71280" cy="92844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20960" y="4998960"/>
              <a:ext cx="70560" cy="94536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71160" y="4830840"/>
              <a:ext cx="71280" cy="111312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022440" y="4770000"/>
              <a:ext cx="70560" cy="117432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73000" y="4741920"/>
              <a:ext cx="71280" cy="120204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23920" y="4731480"/>
              <a:ext cx="70560" cy="121284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74480" y="4630320"/>
              <a:ext cx="71280" cy="131364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25760" y="4496400"/>
              <a:ext cx="72000" cy="144792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78480" y="4473000"/>
              <a:ext cx="70560" cy="147096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29040" y="4131000"/>
              <a:ext cx="70560" cy="181296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779960" y="4066200"/>
              <a:ext cx="70560" cy="187812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30520" y="3140640"/>
              <a:ext cx="70560" cy="280368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281800" y="2891880"/>
              <a:ext cx="70560" cy="305244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532000" y="2887200"/>
              <a:ext cx="70560" cy="305712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81720" y="2791440"/>
              <a:ext cx="720" cy="315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45000" y="5944320"/>
              <a:ext cx="36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845000" y="5313600"/>
              <a:ext cx="36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45000" y="4682520"/>
              <a:ext cx="36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45000" y="4052520"/>
              <a:ext cx="36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845000" y="3421800"/>
              <a:ext cx="36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845000" y="2791440"/>
              <a:ext cx="36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81720" y="5944320"/>
              <a:ext cx="67744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188172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213228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238356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263376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288504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313560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338652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63852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388980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414036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439164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464184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489312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514368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539496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564516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589644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614664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639792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664848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689976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715176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740304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765324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790452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815508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840600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8656560" y="5944320"/>
              <a:ext cx="72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930040" y="2177640"/>
              <a:ext cx="525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patriates as a percentage of all native-born, OECD countri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83240" y="2388600"/>
              <a:ext cx="251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tal population and highly skill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25760" y="587376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25760" y="524196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.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562400" y="4610520"/>
              <a:ext cx="17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0.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62400" y="3978000"/>
              <a:ext cx="17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5.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562400" y="3350880"/>
              <a:ext cx="17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.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562400" y="2717640"/>
              <a:ext cx="17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5.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8900000">
              <a:off x="1757160" y="5979600"/>
              <a:ext cx="212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JPN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8900000">
              <a:off x="1995120" y="5981400"/>
              <a:ext cx="2232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USA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8900000">
              <a:off x="2241000" y="5983200"/>
              <a:ext cx="230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KOR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8900000">
              <a:off x="2501280" y="5979960"/>
              <a:ext cx="220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SP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8900000">
              <a:off x="2747880" y="5979600"/>
              <a:ext cx="2232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US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8900000">
              <a:off x="3036960" y="5970240"/>
              <a:ext cx="220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FRA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8900000">
              <a:off x="3238920" y="5983920"/>
              <a:ext cx="2340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NOR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8900000">
              <a:off x="3504960" y="5987160"/>
              <a:ext cx="2232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UR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8900000">
              <a:off x="3729600" y="5990400"/>
              <a:ext cx="238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WE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8900000">
              <a:off x="4015800" y="5979960"/>
              <a:ext cx="212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BEL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8900000">
              <a:off x="4282920" y="5976360"/>
              <a:ext cx="195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FIN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8900000">
              <a:off x="4498560" y="5981760"/>
              <a:ext cx="230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MEX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8900000">
              <a:off x="4752720" y="5982840"/>
              <a:ext cx="22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AN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8900000">
              <a:off x="5005440" y="5982840"/>
              <a:ext cx="22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NK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8900000">
              <a:off x="5254200" y="5982840"/>
              <a:ext cx="22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EU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18900000">
              <a:off x="5513400" y="5987160"/>
              <a:ext cx="21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NLD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18900000">
              <a:off x="5751000" y="5983200"/>
              <a:ext cx="229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HUN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8900000">
              <a:off x="6017040" y="5985720"/>
              <a:ext cx="220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OL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18900000">
              <a:off x="6248520" y="5987160"/>
              <a:ext cx="2340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GRC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18900000">
              <a:off x="6498360" y="6084000"/>
              <a:ext cx="174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SF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8900000">
              <a:off x="6758640" y="5987160"/>
              <a:ext cx="22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HE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18900000">
              <a:off x="7053480" y="5967000"/>
              <a:ext cx="220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RT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8900000">
              <a:off x="7306200" y="5965560"/>
              <a:ext cx="220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UT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8900000">
              <a:off x="7507800" y="5985720"/>
              <a:ext cx="230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GBR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8900000">
              <a:off x="7774920" y="5983200"/>
              <a:ext cx="21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LUX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8900000">
              <a:off x="8052480" y="5970240"/>
              <a:ext cx="1911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IRL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18900000">
              <a:off x="8275680" y="5974200"/>
              <a:ext cx="212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NZL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95040" y="2910240"/>
              <a:ext cx="2006280" cy="450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42560" y="3095640"/>
              <a:ext cx="77400" cy="7704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48760" y="3063600"/>
              <a:ext cx="726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otal popul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926880" y="3095640"/>
              <a:ext cx="77040" cy="77040"/>
            </a:xfrm>
            <a:prstGeom prst="rect">
              <a:avLst/>
            </a:prstGeom>
            <a:solidFill>
              <a:srgbClr val="993366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028040" y="3063600"/>
              <a:ext cx="597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ghly skill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547640" y="112392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6666ff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ncidence of expatriation varies substantially from one country to an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843280" y="260280"/>
            <a:ext cx="6192720" cy="520200"/>
            <a:chOff x="2843280" y="260280"/>
            <a:chExt cx="6192720" cy="520200"/>
          </a:xfrm>
        </p:grpSpPr>
        <p:sp>
          <p:nvSpPr>
            <p:cNvPr id="309" name=""/>
            <p:cNvSpPr/>
            <p:nvPr/>
          </p:nvSpPr>
          <p:spPr>
            <a:xfrm>
              <a:off x="2843280" y="260280"/>
              <a:ext cx="1297080" cy="3070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Backgrou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284720" y="260280"/>
              <a:ext cx="1368360" cy="3070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Methodolo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96000" y="260280"/>
              <a:ext cx="1728720" cy="5202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mmigrants and expatri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67640" y="260280"/>
              <a:ext cx="1368360" cy="3070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Next ste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3T10:56:07Z</dcterms:created>
  <dc:creator>OECD</dc:creator>
  <dc:description/>
  <dc:language>en-US</dc:language>
  <cp:lastModifiedBy>Dumont_J</cp:lastModifiedBy>
  <cp:lastPrinted>2002-06-04T13:46:34Z</cp:lastPrinted>
  <dcterms:modified xsi:type="dcterms:W3CDTF">2005-03-16T15:57:49Z</dcterms:modified>
  <cp:revision>14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71535078</vt:r8>
  </property>
  <property fmtid="{D5CDD505-2E9C-101B-9397-08002B2CF9AE}" pid="3" name="_AuthorEmail">
    <vt:lpwstr>Jean-Christophe.DUMONT@oecd.org</vt:lpwstr>
  </property>
  <property fmtid="{D5CDD505-2E9C-101B-9397-08002B2CF9AE}" pid="4" name="_AuthorEmailDisplayName">
    <vt:lpwstr>DUMONT Jean-Christophe, ELS/NEIM</vt:lpwstr>
  </property>
  <property fmtid="{D5CDD505-2E9C-101B-9397-08002B2CF9AE}" pid="5" name="_EmailSubject">
    <vt:lpwstr>FW: ECE-Eurostat Seminar on International Migration, Geneva 21-23    March 2005</vt:lpwstr>
  </property>
</Properties>
</file>