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87AC-7803-4977-BF32-D3F0E62D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FAE-0B54-4AB1-91F9-D96DF3ED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CD5B-E354-4DC2-9B06-A923D3A0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8C40-EC48-47DA-B541-173A75C3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F90C-4360-4E0D-A0B7-A5B523D6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EF23-5860-40F5-8CDE-8E57E2D3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0D7-45DE-4708-ACE0-B81E3CFB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EBAB-0636-48FC-9762-B868CD22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93A4-1BCA-4F60-8B6B-6325D8FA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1847-D9EE-4243-8A61-C189A766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436-1E1A-465F-8B0F-6FEABD89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DF76-7BF7-468D-8981-EE3AF522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59DA-7F1C-414C-8999-CFA2ECAFE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NECE/Eurostat Seminar on Migrati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istics, 21-23 March 2005</a:t>
            </a:r>
            <a:br>
              <a:rPr sz="2000"/>
            </a:br>
            <a:br>
              <a:rPr sz="2000"/>
            </a:b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ata needs from a policy perspective – the case of the European 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 there something like specific data needs from a policy perspectiv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centives for improvement of data collection in the European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cent evolution of EU migration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Incentives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for improvement/harmonization of 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uropeanization of migration policy itself (establishment of migration database on EU level, publication of statistics, resulting „momentum“ to improve data-coll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unding mechanisms at European level (ERF, in the future: Return Fund, Integration F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actice of using migration statistics as „benchmarks“/ increasing use of comparisons by governments on national levels when drafting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/ 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hile there has been much improvement recently on the European level (Action plan, forthcoming regulation), an effort should be made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nsure that meaningful concepts are used to record migrants (country of birth, parents‘ country of birth), which is crucially important for the field of integration and anti-discri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omote the closing of gaps in data collection on the national level, short of full-scale harmonization (not always feasi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 this purpose develop guidelines on the scope and depth of data-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fine in areas which are difficult to harmonize what the data should be principle able to 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0T22:36:06Z</dcterms:created>
  <dc:creator>Anonymous</dc:creator>
  <dc:description/>
  <dc:language>en-US</dc:language>
  <cp:lastModifiedBy>Anonymous</cp:lastModifiedBy>
  <dcterms:modified xsi:type="dcterms:W3CDTF">2005-03-20T22:50:25Z</dcterms:modified>
  <cp:revision>1</cp:revision>
  <dc:subject/>
  <dc:title>UNECE/Eurostat Seminar on Migration  Statistics, 21-23 March 2005  Data needs from a policy perspective – the case of the European Union</dc:title>
</cp:coreProperties>
</file>