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D9A-4D56-487B-9074-606FF9F0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754-53DF-4DBD-AB77-F38E8C3B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689-A4AB-4B0F-8E03-408D7F86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1EA-0C38-4C18-A982-4AC6D46A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CFF-ADDB-4366-A443-69189E5C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377-CDE4-4222-B563-21EA6A0F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62B-31AB-4542-BF3A-958B36F7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B1F-3300-4B80-BEB0-0C25F7C9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BD0-2FAB-4CD7-96F3-BD2101B2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FCF-3965-42DB-9ED1-AFF54E28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932-00DC-4374-8953-D1AB89DC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76D-AF93-44BA-851B-C942E30D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CED8-538D-4D73-B8A1-4AA1AE59A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ECE/Eurostat Seminar on Migr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cs, 21-23 March 2005</a:t>
            </a:r>
            <a:br>
              <a:rPr sz="2000"/>
            </a:br>
            <a:br>
              <a:rPr sz="20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ata needs from a policy perspective – the case of the European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 there something like specific data needs from a policy perspectiv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centives for improvement of data collection in the Europea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cent evolution of EU migration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Incentives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for improvement/harmonization of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uropeanization of migration policy itself (establishment of migration database on EU level, publication of statistics, resulting „momentum“ to improve data-coll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unding mechanisms at European level (ERF, in the future: Return Fund, Integration F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actice of using migration statistics as „benchmarks“/ increasing use of comparisons by governments on national levels when drafting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/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ile there has been much improvement recently on the European level (Action plan, forthcoming regulation), an effort should be mad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sure that meaningful concepts are used to record migrants (country of birth, parents‘ country of birth), which is crucially important for the field of integration and anti-discri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omote the closing of gaps in data collection on the national level, short of full-scale harmonization (not always feas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 this purpose develop guidelines on the scope and depth of data-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fine in areas which are difficult to harmonize what the data should be principle able to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22:36:06Z</dcterms:created>
  <dc:creator>Anonymous</dc:creator>
  <dc:description/>
  <dc:language>en-US</dc:language>
  <cp:lastModifiedBy>Anonymous</cp:lastModifiedBy>
  <dcterms:modified xsi:type="dcterms:W3CDTF">2005-03-20T22:50:25Z</dcterms:modified>
  <cp:revision>1</cp:revision>
  <dc:subject/>
  <dc:title>UNECE/Eurostat Seminar on Migration  Statistics, 21-23 March 2005  Data needs from a policy perspective – the case of the European Union</dc:title>
</cp:coreProperties>
</file>