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28600" y="68868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F501-3DF0-4AFE-B584-9558CF525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A36-D2CC-4ADA-9AD1-208B64F6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175-6B6C-4E23-A8EE-3653E340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D4F-73E7-4349-9152-0F1E1407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B02-CD18-452E-BF68-7CE5EC9B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6BB-8DC6-4352-930F-2A72CD56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8E5A-3FCF-4D35-9E11-694F5DCA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5D78-673F-4D9B-98AC-9670EC9E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D16C-65E8-425A-B9E7-BA3EC56B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508A-9316-4929-9488-39CC95D3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AEE9-4F9F-4633-BB04-4FDA3D28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7945-BF13-492E-9330-57ACD970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560-689B-4645-8E03-F0F04AF4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A496-6C8D-4914-8313-DDAFC867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D616-3A3A-4C64-8F37-739C1D68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B0AD-9226-4E0B-BB18-111E7FC9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E032-00DF-4C5A-8636-17AD8293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E2C5-477C-4F2C-AB11-BF177905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56D-C0B7-473F-BF1D-D4BF36B2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95D-A57A-474D-BE64-73A474AB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C77-1A57-47FF-A681-F6422C9A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B5C-6752-4FDD-91A2-CF9C8DE4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19E-6C3F-4985-AEC4-851F6BF3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A6B-1821-44DB-94AE-7458349E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9D4-893D-4A93-95CC-0315E524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2BB5-56C9-493E-AB4A-4C8C2AEF5397}" type="slidenum">
              <a:rPr b="0" lang="en-US" sz="10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5DAC-2A9B-4991-8AF2-C7A8BFC8936E}" type="slidenum">
              <a:rPr b="0" lang="en-US" sz="10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Joint UNECE/Eurostat Seminar on Migration Statistics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Geneva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1-23 March 2005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International Migration Statistics: Current Activities of the United Nations Statistics Divis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4547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4578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06680"/>
                <a:tab algn="l" pos="103581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G Times"/>
                <a:ea typeface="Times New Roman"/>
              </a:rPr>
              <a:t>Demographic and Social Statistics Branch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4578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06680"/>
                <a:tab algn="l" pos="103581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G Times"/>
                <a:ea typeface="Times New Roman"/>
              </a:rPr>
              <a:t>United Nations Statistics Division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1FAD-8636-45BE-B68D-A66076576F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Trial Questionnaire on International Travel and Migration Statistics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1A. Inflows of foreigners by reason for admission to the country and sex and outflows of foreigners by current status in the country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1B. Inflows of citizens by purpose of stay abroad and outflows of citizens by purpose of travel abroad by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2A. Inflows of foreigners by reason for admission, duration of stay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2B. Outflows of foreigners by current status in country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3A. Inflows of citizens by duration and purpose of stay abroad and sex, 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3B. Outflows of citizens by purpose of travel abroad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BDA-CC63-4AC2-97DB-659E58BB9B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Trial Questionnaire on International Travel and Migration Statistics (cont.)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4A. Number of incoming migrants by country of citizenship, age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4B. Number of departing migrants by country of citizenship, age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5A. Number of incoming migrants by country of birth, citizenship,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5B. Number of departing migrants by country of birth, citizenship, and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Table 6. Number of incoming migrants by country of last residence and number of departing migrants by country of future residence by sex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0AA-A784-4704-BDD3-63D336FDBB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Trial Questionnaire on International Travel and Migration Statistics (cont.)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ested in fifteen countries -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Workshop on Improving Compilation of International Migration Statistic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, Geneva, 15-17 September 2003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n ongoing testing in several countries in the Pacific reg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est in 2005 Joint Eurostat/UNSD collection on international migrat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424-AE54-4CB1-8C6D-823B540D0B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ta dissemination – by mid 2005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nternational migration stock statistics for the last two census rounds (1985-2004) will be available to the public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eta-data will be reviewed and available to the public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Verdana"/>
              </a:rPr>
              <a:t>Concepts used in the censuses</a:t>
            </a:r>
            <a:endParaRPr b="0" lang="en-US" sz="26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Verdana"/>
              </a:rPr>
              <a:t>Questions asked on the census questionnaire</a:t>
            </a:r>
            <a:endParaRPr b="0" lang="en-US" sz="26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FAF-ACBF-4BAC-B591-714D3476DB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ordination and collabora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Joint data collection on migration between UNSD and Eurostat/Council of Europe (ongoing every year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eeting of the Working Subgroup to the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Coordination Meeting on International Migration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, on International Migration Statistics (Oct 2004 in New York, will repeat every two years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xchange of information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nable coordination of different programmes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iscuss technical issues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E49-5C09-444F-9C45-9C799064BC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66"/>
                </a:solidFill>
                <a:latin typeface="Verdana"/>
              </a:rPr>
              <a:t>Thank you!</a:t>
            </a:r>
            <a:endParaRPr b="0" lang="en-US" sz="5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26B-F258-4DEA-A3DC-066CE99307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jor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ethodological work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Verdana"/>
              </a:rPr>
              <a:t>Recommendations on Statistics of International Migration, Rev. 1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Verdana"/>
              </a:rPr>
              <a:t>Principles and Recommendations of Population and Housing Censuses, Rev. 1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Data collection and dissemination on international migration statistics –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Demographic Yearbook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oordination and collaborat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DFA-F48A-44A1-B37B-C7BC1B042D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thodological work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Implementation of the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Recommendations on Statistics of International Migration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Workshop on Improving the Compilation of International Migration Statistics, 15-17 September 2003, Geneva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Revision and update of the United Nations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Principles and Recommendations for Population and Housing Censuses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890-CB94-4C5D-A10B-0D4A5760BB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vision and update of the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Principles and Recommendations on Population and Housing Census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The 2010 World Programme on Population and Housing Censuse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United Nations Expert Group Meeting to Review Critical Issues Relevant to the Planning of the 2010 Round of Population and Housing Censuses, New York, 15-17 September 2004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Verdana"/>
              </a:rPr>
              <a:t>Set priorities of work</a:t>
            </a:r>
            <a:endParaRPr b="0" lang="en-US" sz="22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Verdana"/>
              </a:rPr>
              <a:t>Revise</a:t>
            </a:r>
            <a:r>
              <a:rPr b="0" lang="en-US" sz="2300" spc="-1" strike="noStrike">
                <a:solidFill>
                  <a:srgbClr val="ffff66"/>
                </a:solidFill>
                <a:latin typeface="Verdana"/>
                <a:ea typeface="SimSun"/>
              </a:rPr>
              <a:t>/</a:t>
            </a:r>
            <a:r>
              <a:rPr b="0" lang="en-US" sz="2300" spc="-1" strike="noStrike">
                <a:solidFill>
                  <a:srgbClr val="ffff66"/>
                </a:solidFill>
                <a:latin typeface="Verdana"/>
              </a:rPr>
              <a:t>update the United Nations </a:t>
            </a:r>
            <a:r>
              <a:rPr b="0" i="1" lang="en-US" sz="2300" spc="-1" strike="noStrike">
                <a:solidFill>
                  <a:srgbClr val="ffff66"/>
                </a:solidFill>
                <a:latin typeface="Verdana"/>
              </a:rPr>
              <a:t>Principles and Recommendations for Population and Housing Censuses, Rev. 1</a:t>
            </a:r>
            <a:endParaRPr b="0" lang="en-US" sz="23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32E-6D91-4B92-A8EA-79F781AD8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vision and update of the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Principles and Recommendations on Population and Housing Censuses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ree working groups are proposed: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tandards and Frameworks and a Core Set of Outputs</a:t>
            </a:r>
            <a:r>
              <a:rPr b="0" lang="en-GB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ensus Planning and Management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Promotion of Censuses: Making Value Visible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 technical subgroup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877-BD15-47DF-94CB-243F4ED729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vision and update of the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Principles and Recommendations on Population and Housing Censuses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The Technical Subgroup on Internal and International Migration Statistic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Provide input to updating and revising sections on internal and international migration characteristics in the UN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Principles and Recommendations for Population and Housing Censuses, Rev1</a:t>
            </a:r>
            <a:r>
              <a:rPr b="0" lang="en-GB" sz="2800" spc="-1" strike="noStrike">
                <a:solidFill>
                  <a:srgbClr val="ffff66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85A-04C7-46ED-8F44-4002D0AEE7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ecff"/>
                </a:solidFill>
                <a:latin typeface="Arial"/>
                <a:ea typeface="SimSun"/>
              </a:rPr>
              <a:t>S</a:t>
            </a:r>
            <a:r>
              <a:rPr b="1" lang="en-US" sz="3400" spc="-1" strike="noStrike">
                <a:solidFill>
                  <a:srgbClr val="ccecff"/>
                </a:solidFill>
                <a:latin typeface="Arial"/>
              </a:rPr>
              <a:t>tatistics collected from population censuses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Collected from two UN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Demographic Yearbook 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census questionnaires (www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  <a:ea typeface="SimSun"/>
              </a:rPr>
              <a:t>Five tables: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Native and foreign born population by age, sex and urban/rural residence;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reign-born population by country of birth, age and sex;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reign-born population in the country for less than five years by country of birth, age and sex; and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Population by country of citizenship and sex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  <a:ea typeface="SimSun"/>
              </a:rPr>
              <a:t>E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onomically active foreign-born population by occupation, age, sex and urban/rural residence 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EF5-CA36-4D9C-A3C8-A2558288FF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ecff"/>
                </a:solidFill>
                <a:latin typeface="Arial"/>
                <a:ea typeface="SimSun"/>
              </a:rPr>
              <a:t>Level of responses (1995-2004)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346040"/>
          <a:ext cx="8229600" cy="4465800"/>
        </p:xfrm>
        <a:graphic>
          <a:graphicData uri="http://schemas.openxmlformats.org/drawingml/2006/table">
            <a:tbl>
              <a:tblPr/>
              <a:tblGrid>
                <a:gridCol w="2590920"/>
                <a:gridCol w="1676160"/>
                <a:gridCol w="1905120"/>
                <a:gridCol w="20574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Region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Data provided on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Foreign-born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By Citizenship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Total # countries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Africa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America, North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America, South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Asia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Europe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22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Oceania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23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43C-3D8D-4389-AB03-6DF196283E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gration statistics on flow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nnual collection temporarily suspended in 2000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 Trial Questionnaire on International Travel and Migration Statistics was developed – to bring compliance with the UN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Recommendations on Statistics of International Migration, Revision 1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49E-C35B-4E76-A878-8CF3761F83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9:41:29Z</dcterms:created>
  <dc:creator>Haoyi.Chen</dc:creator>
  <dc:description/>
  <dc:language>en-US</dc:language>
  <cp:lastModifiedBy>Avalon </cp:lastModifiedBy>
  <dcterms:modified xsi:type="dcterms:W3CDTF">2005-03-23T08:43:28Z</dcterms:modified>
  <cp:revision>93</cp:revision>
  <dc:subject/>
  <dc:title>Joint UNECE/Eurostat Seminar on Migration Statistics Geneva 21-23 March 2005</dc:title>
</cp:coreProperties>
</file>