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28600" y="68868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1E8-42CC-49C6-9B44-E28CFFA9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348-AD97-479D-92D1-200E8CC8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462-62B8-4263-8029-BD848B0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5E2-E0BB-42F2-BB02-28D90F67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42E-2BDF-4FA6-AC63-048992AF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1FE-B052-4899-BF9D-C9305BDA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F4B-A0F6-4847-BF7C-2364005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18F-880C-4E88-891C-302D3935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CA71-B72B-438C-A7FC-6BFA3A7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DB9-C87A-44D9-8544-F5DD886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A8F-8829-4146-BDBF-E58D73C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CC3-B953-4292-BBA9-C6E1F31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7E0-ABE4-4291-941B-A9D380A3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C059-AA63-4293-9F0A-AFD8E5AE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6947-2516-4AA7-B6BF-A45EC00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EA8F-9ED2-4AD6-A13A-75B903D9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52FA-DE1C-4DD9-9B05-6CFA981B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0FD-F989-45D3-9DA9-6A53A84D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2CD-A61D-4122-8A9B-8CA469D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26E-2D93-4B72-93D7-FAF58E9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FB3-8BED-4519-9F35-7ABBB780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A67-2AFF-42B6-BA5C-CB3E0995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066-420E-4EEE-B5DE-E804208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383-E721-4C9A-A846-7464C3A2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B61-7A0D-4BA3-8348-341714F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FCB-0AB0-4367-9A45-46A6812B8FA5}" type="slidenum">
              <a:rPr b="0" lang="en-US" sz="10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C241-A62E-4AFB-93E0-2B15F64FA2A6}" type="slidenum">
              <a:rPr b="0" lang="en-US" sz="10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Joint UNECE/Eurostat Seminar on Migration Statistics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Geneva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1-23 March 200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International Migration Statistics: Current Activities of the United Nations Statistics Divis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4547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4578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06680"/>
                <a:tab algn="l" pos="103581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G Times"/>
                <a:ea typeface="Times New Roman"/>
              </a:rPr>
              <a:t>Demographic and Social Statistics Branch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4578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06680"/>
                <a:tab algn="l" pos="103581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G Times"/>
                <a:ea typeface="Times New Roman"/>
              </a:rPr>
              <a:t>United Nations Statistics Division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B397-5F74-4A98-A000-36DEBCF301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1A. Inflows of foreigners by reason for admission to the country and sex and outflows of foreigners by current status in the countr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1B. Inflows of citizens by purpose of stay abroad and outflows of citizens by purpose of travel abroad by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2A. Inflows of foreigners by reason for admission, duration of sta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2B. Outflows of foreigners by current status in countr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3A. Inflows of citizens by duration and purpose of stay abroad and sex, 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3B. Outflows of citizens by purpose of travel abroad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5E0-F51C-40FB-B24A-3E7612ECB0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 (cont.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4A. Number of incoming migrants by country of citizenship, age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4B. Number of departing migrants by country of citizenship, age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5A. Number of incoming migrants by country of birth, citizenship,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5B. Number of departing migrants by country of birth, citizenship,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6. Number of incoming migrants by country of last residence and number of departing migrants by country of future residence by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D66-2C9E-40D1-A20A-E180131C80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 (cont.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sted in fifteen countries -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Workshop on Improving Compilation of International Migration Statistic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Geneva, 15-17 September 2003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 ongoing testing in several countries in the Pacific reg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st in 2005 Joint Eurostat/UNSD collection on international migra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7EF-15E8-460B-B5B4-69104018A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ta dissemination – by mid 200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ternational migration stock statistics for the last two census rounds (1985-2004) will be available to the public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eta-data will be reviewed and available to the public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Concepts used in the censuses</a:t>
            </a:r>
            <a:endParaRPr b="0" lang="en-US" sz="26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Questions asked on the census questionnaire</a:t>
            </a:r>
            <a:endParaRPr b="0" lang="en-US" sz="2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AA9-2006-4CE7-9DF1-D48BF3569D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ordination and collabora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Joint data collection on migration between UNSD and Eurostat/Council of Europe (ongoing every year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eting of the Working Subgroup to the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ordination Meeting on International Migration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on International Migration Statistics (Oct 2004 in New York, will repeat every two years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xchange of information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able coordination of different programm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iscuss technical issu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D74-5071-4C38-A6E4-817D67F684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66"/>
                </a:solidFill>
                <a:latin typeface="Verdana"/>
              </a:rPr>
              <a:t>Thank you!</a:t>
            </a:r>
            <a:endParaRPr b="0" lang="en-US" sz="5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A8F-7586-466E-83E2-9BD459490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thodological work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, Rev. 1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Principles and Recommendations of Population and Housing Censuses, Rev. 1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Data collection and dissemination on international migration statistics –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Demographic Yearbook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ordination and collabora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4D6-6B04-475F-80A5-0DA35D4867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ological work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mplementation of the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Workshop on Improving the Compilation of International Migration Statistics, 15-17 September 2003, Geneva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Revision and update of the United Nations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Principles and Recommendations for Population and Housing Censuses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3CE-D295-48F3-BD77-EE1DA18F73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The 2010 World Programme on Population and Housing Census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United Nations Expert Group Meeting to Review Critical Issues Relevant to the Planning of the 2010 Round of Population and Housing Censuses, New York, 15-17 September 2004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Set priorities of work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Verdana"/>
              </a:rPr>
              <a:t>Revise</a:t>
            </a:r>
            <a:r>
              <a:rPr b="0" lang="en-US" sz="2300" spc="-1" strike="noStrike">
                <a:solidFill>
                  <a:srgbClr val="ffff66"/>
                </a:solidFill>
                <a:latin typeface="Verdana"/>
                <a:ea typeface="SimSun"/>
              </a:rPr>
              <a:t>/</a:t>
            </a:r>
            <a:r>
              <a:rPr b="0" lang="en-US" sz="2300" spc="-1" strike="noStrike">
                <a:solidFill>
                  <a:srgbClr val="ffff66"/>
                </a:solidFill>
                <a:latin typeface="Verdana"/>
              </a:rPr>
              <a:t>update the United Nations </a:t>
            </a:r>
            <a:r>
              <a:rPr b="0" i="1" lang="en-US" sz="2300" spc="-1" strike="noStrike">
                <a:solidFill>
                  <a:srgbClr val="ffff66"/>
                </a:solidFill>
                <a:latin typeface="Verdana"/>
              </a:rPr>
              <a:t>Principles and Recommendations for Population and Housing Censuses, Rev. 1</a:t>
            </a:r>
            <a:endParaRPr b="0" lang="en-US" sz="23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C4E-D4A0-4C23-8087-4C5411874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ree working groups are proposed: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andards and Frameworks and a Core Set of Outputs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nsus Planning and Managemen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romotion of Censuses: Making Value Visibl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 technical subgroup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743-1826-4A37-B85D-0BF073AE7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The Technical Subgroup on Internal and International Migration Statistic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Provide input to updating and revising sections on internal and international migration characteristics in the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Principles and Recommendations for Population and Housing Censuses, Rev1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95B-BAC3-480D-9202-7DE6513875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Arial"/>
                <a:ea typeface="SimSun"/>
              </a:rPr>
              <a:t>S</a:t>
            </a:r>
            <a:r>
              <a:rPr b="1" lang="en-US" sz="3400" spc="-1" strike="noStrike">
                <a:solidFill>
                  <a:srgbClr val="ccecff"/>
                </a:solidFill>
                <a:latin typeface="Arial"/>
              </a:rPr>
              <a:t>tatistics collected from population censuses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Collected from two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Demographic Yearbook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census questionnaires (www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Five tables: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ative and foreign born population by age, sex and urban/rural residence;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eign-born population by country of birth, age and sex;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eign-born population in the country for less than five years by country of birth, age and sex; and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opulation by country of citizenship and sex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  <a:ea typeface="SimSun"/>
              </a:rPr>
              <a:t>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nomically active foreign-born population by occupation, age, sex and urban/rural residence 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4E0-9814-413F-AB08-C61A76664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ecff"/>
                </a:solidFill>
                <a:latin typeface="Arial"/>
                <a:ea typeface="SimSun"/>
              </a:rPr>
              <a:t>Level of responses (1995-2004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346040"/>
          <a:ext cx="8229600" cy="44658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905120"/>
                <a:gridCol w="20574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Data provided 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Foreign-bor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By Citizenship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Total # countrie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fric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merica, North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merica, South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si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Europ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Oceani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3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D71-404A-4167-8B90-9D9D86EC5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gration statistics on flow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nual collection temporarily suspended in 2000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 Trial Questionnaire on International Travel and Migration Statistics was developed – to bring compliance with the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, Revision 1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3B5-4CDA-425D-AD09-580C7CAD1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9:41:29Z</dcterms:created>
  <dc:creator>Haoyi.Chen</dc:creator>
  <dc:description/>
  <dc:language>en-US</dc:language>
  <cp:lastModifiedBy>Avalon </cp:lastModifiedBy>
  <dcterms:modified xsi:type="dcterms:W3CDTF">2005-03-23T08:43:28Z</dcterms:modified>
  <cp:revision>93</cp:revision>
  <dc:subject/>
  <dc:title>Joint UNECE/Eurostat Seminar on Migration Statistics Geneva 21-23 March 2005</dc:title>
</cp:coreProperties>
</file>