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79246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2010 Census Recommendations: Issues and proposals on the Stock of migran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conomic Commission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/Eurostat  Seminar on Migration Statis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a, 21-23 March 2005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lassification by country of birth and citizenship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dddddd"/>
                </a:solidFill>
                <a:latin typeface="Garamond"/>
              </a:rPr>
              <a:t>Classification by country of birth, citizenship and parents’ country of birth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154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ich questions to include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lace of births of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itizenship at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both included in 2000 Recommendations as non-core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ome data from 2000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opulation with US/Canada origin in France (1999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200" y="2666880"/>
            <a:ext cx="76881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ome interesting insigh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744560"/>
            <a:ext cx="80769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oreign-born in ‘new’ countri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reak-up of former country: internal mig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reak-up of former country: international mig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ose who moved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date of arrival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art 2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Highlights on some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Highlights on topic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lace of birth: actual place of birth     </a:t>
            </a:r>
            <a:r>
              <a:rPr b="1" i="1" lang="fr-CH" sz="2800" spc="-1" strike="noStrike">
                <a:solidFill>
                  <a:srgbClr val="000000"/>
                </a:solidFill>
                <a:latin typeface="Times New Roman"/>
              </a:rPr>
              <a:t>(in 2000 Rec. mother’s residence at the time of bir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untry of birth of parents: core-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itizenship at birth: non-core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art 3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Treatment of specia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ensus is a fundamental source for this segment of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ensu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opulation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individ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Migra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elatively small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mobile and hidde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ensus Recommendations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and migra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reatment of special groups in 2000 census 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133720"/>
          <a:ext cx="80769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hort-term migran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stay (3 to 12 mon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purposes of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ensus, they can be identified if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sons are 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of usual res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st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for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Asylum-seekers and refuge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in the resident population if the duration of stay in the country is, or is expected to be, at least 12 month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 for the rest of the pop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336920"/>
            <a:ext cx="7467480" cy="206712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efinitional problems: 3 types of refug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1951 Geneva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Humanitarian refug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Mas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oreigners without legal statu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Recomm: 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pecific pro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 who may be illegal, irregular or undocumented migrants should be included in the resident population and should follow the same rules of usual residence as for other per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emporary absent pers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 usually resident but living abroad, or in the country but outside the household, for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s than on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living abroad for one year or more should b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lud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tot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 the Census Recommendations we can address some of the gaps existing in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ensus Recommendations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and migra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2010 Census Recommendations: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he proposal on migra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General introduction to the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opics: some changes in definitions + some addition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reatment of speci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art 1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</a:rPr>
              <a:t>General introduction to the section on 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y data on stock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</a:t>
            </a: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 monitoring of population with foreign (or migrant)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to respond to </a:t>
            </a:r>
            <a:r>
              <a:rPr b="1" lang="fr-CH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licy concerns</a:t>
            </a: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 on its integration in the host cou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clear definition of this group in the 2000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cus on two related variables (core-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lace/country of birth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4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itizenship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2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tock of immigrants: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he defini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ndications from 2000 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9 Cou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ked other questions on birth and/or citize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e citize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itizenship at birth/by natu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ountry of birth of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s with nation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with foreign (or migrant) backgrou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rst gen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-born with foreign (or migrant) backgrou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ond gen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-born with nation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ers with national backg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lassification according to population’s backg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514600"/>
            <a:ext cx="6934320" cy="22096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0000"/>
                </a:solidFill>
                <a:latin typeface="Tempus Sans ITC"/>
              </a:rPr>
              <a:t>Foreign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66880" y="4723920"/>
            <a:ext cx="533520" cy="1295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bisogno enrico</cp:lastModifiedBy>
  <dcterms:modified xsi:type="dcterms:W3CDTF">2005-03-22T11:42:38Z</dcterms:modified>
  <cp:revision>275</cp:revision>
  <dc:subject/>
  <dc:title>THE STATUS OF STATISTICS ON WOMEN AND MEN’S  ENTREPRENEURSHIP IN THE      UNECE REGION </dc:title>
</cp:coreProperties>
</file>