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27DC-4BBC-4D38-B67F-2F0F71275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74E3-F50E-4232-903B-4F28AF444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25704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67960" y="3990600"/>
            <a:ext cx="504828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E1ED-9334-44F2-81AA-1AF755A2D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FD8-3E54-456F-8DCE-55120C31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E35-B402-4B36-B6A1-7391E080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B3E-AD61-49ED-AD04-3DC2F1BE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213-9F64-4FED-94AB-DD0F6F85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3561-2935-4F16-A6D3-8C9F7807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91CA-19FE-48BE-8561-69194DA2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15F2-6DC1-4F8A-8AE7-03F87A03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D587-5874-4361-A2D5-C815221C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95F8-A0E3-4B6E-9198-E2C26CCE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A86C-5E26-41CB-9FB3-C65B5E09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9294-881B-4D1C-8EA9-DBA61BC6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76D-B53F-4D5E-95B7-5D357DF3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713B-D1DE-4AC1-B4D1-CF271AB1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A888-7884-44F1-9FB6-B8CEDA6D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E350-B07F-4C0C-848B-EF9F94D9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23EB-1750-47FB-8915-C63A0F46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E64A-6EA8-4ED6-B4F5-B049976C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DB2-CFD3-40A3-9DC2-0B3B5FD1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2F9-2B91-41CB-84F2-C4B08C05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F03-F3F7-4EF8-B8F9-9B5C91A3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F09-5EE3-437E-911B-C6319A18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A9E-55E3-48F0-9A4B-4A3A8A90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DFF-BD2F-4E89-B7D3-9138E5DC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B71-D8C6-4B55-8F37-C31AD717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A677-DEF1-4B8C-B4A4-B621FBFA61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4891-409F-4028-AF22-D13BBA3EDD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996560"/>
            <a:ext cx="768528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88569"/>
                </a:solidFill>
                <a:latin typeface="Tahoma"/>
              </a:rPr>
              <a:t>Concepts and definitions to identify the stock of international migrants:  the Canadian case study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320" y="4895640"/>
            <a:ext cx="7604280" cy="11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a2500"/>
                </a:solidFill>
                <a:latin typeface="Tahoma"/>
              </a:rPr>
              <a:t>Presentation prepared for Joint ECE/Eurostat Seminar on migration statistic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a2500"/>
                </a:solidFill>
                <a:latin typeface="Tahoma"/>
              </a:rPr>
              <a:t>Geneva, March 21-23,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aeaea"/>
                </a:solidFill>
                <a:latin typeface="Tahoma"/>
              </a:rPr>
              <a:t>What is the IMDB?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3280" y="189072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dministrative database of linked immigration files with taxation fi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esigned to address the need for detailed, policy-relevant data on the immigration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upported by a federal-provincial consortium, led by the department of Citizenship &amp; Immigration Canada (CI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ongitudinal: updated annu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Tahoma"/>
              </a:rPr>
              <a:t>all landed immigrants from 1980-1999 (tracking for 16 years since first filing ta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Tahoma"/>
              </a:rPr>
              <a:t>tax data from 1980-2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is the LSIC?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ongitudinal survey designed to study how new immigrants adjust to life in Canada during the initial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ame immigrants are tracked during the first 4 years of their settlement in Canada to examine which factors help or hinder their adjus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vey content includes information on many aspects of the adjustment process including: employment, education, health, housing – all from the immigrant’s perspe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is the EDS?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urvey designed to better understand the ethnic &amp; cultural backgrounds of people in Canada and how these backgrounds relate to their lives to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ost-censal survey using the 2001 Census as a frame for respondent sel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vey content includes questions on the complex dimensions of ethnic identification, ethnic ancestry, sense of belonging, interaction with society and civic particip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cl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 concepts capture different populations of inte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ted concepts are useful for a comprehensive look at the immigrant pop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detailed information is also available from other data 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ally working towards internationally agreed upon or accepted termin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d1efb3"/>
                </a:solidFill>
                <a:latin typeface="Tahoma"/>
              </a:rPr>
              <a:t>Measuring emigration through survey da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American Community Survey as a case study for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1efb3"/>
                </a:solidFill>
                <a:latin typeface="Tahoma"/>
              </a:rPr>
              <a:t>National data exchanges as a way to improve emigration statistic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ack of data on emigration – a major challe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5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ork of the North American Migration Working Gro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5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 U.S. Census and the American Community Survey as sources of statistics on Canadian emi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1efb3"/>
                </a:solidFill>
                <a:latin typeface="Tahoma"/>
              </a:rPr>
              <a:t>Looking at American immigrants from the Canadian perspective: stock da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15013" r="3780" b="22257"/>
          <a:stretch/>
        </p:blipFill>
        <p:spPr>
          <a:xfrm>
            <a:off x="1371600" y="2838600"/>
            <a:ext cx="66009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1efb3"/>
                </a:solidFill>
                <a:latin typeface="Tahoma"/>
              </a:rPr>
              <a:t>Using different concepts to define immigrants’ flows to the United Stat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52560" y="2514600"/>
            <a:ext cx="7916760" cy="3763800"/>
            <a:chOff x="952560" y="2514600"/>
            <a:chExt cx="7916760" cy="3763800"/>
          </a:xfrm>
        </p:grpSpPr>
        <p:sp>
          <p:nvSpPr>
            <p:cNvPr id="176" name=""/>
            <p:cNvSpPr/>
            <p:nvPr/>
          </p:nvSpPr>
          <p:spPr>
            <a:xfrm>
              <a:off x="1486080" y="2514600"/>
              <a:ext cx="1904760" cy="37530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08040" y="266076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55863c"/>
                  </a:solidFill>
                  <a:latin typeface="Tahoma"/>
                </a:rPr>
                <a:t>Concept (timing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26560" y="359892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55863c"/>
                  </a:solidFill>
                  <a:latin typeface="Tahoma"/>
                </a:rPr>
                <a:t>year of ent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85960" y="4524480"/>
              <a:ext cx="161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55863c"/>
                  </a:solidFill>
                  <a:latin typeface="Tahoma"/>
                </a:rPr>
                <a:t>outside the country  </a:t>
              </a:r>
              <a:r>
                <a:rPr b="1" lang="en-CA" sz="1600" spc="-1" strike="noStrike">
                  <a:solidFill>
                    <a:srgbClr val="0a0e40"/>
                  </a:solidFill>
                  <a:latin typeface="Tahoma"/>
                </a:rPr>
                <a:t>x</a:t>
              </a:r>
              <a:r>
                <a:rPr b="1" lang="en-CA" sz="1600" spc="-1" strike="noStrike">
                  <a:solidFill>
                    <a:srgbClr val="55863c"/>
                  </a:solidFill>
                  <a:latin typeface="Tahoma"/>
                </a:rPr>
                <a:t> years ag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52560" y="35002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ffff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59040" y="46735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ffff00"/>
                  </a:solidFill>
                  <a:latin typeface="Tahoma"/>
                </a:rPr>
                <a:t>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86080" y="3276720"/>
              <a:ext cx="19620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59160" y="2525760"/>
              <a:ext cx="1905120" cy="3752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81480" y="2671920"/>
              <a:ext cx="192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55863c"/>
                  </a:solidFill>
                  <a:latin typeface="Tahoma"/>
                </a:rPr>
                <a:t>Flow’s “origin” (country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10280" y="3610080"/>
              <a:ext cx="166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55863c"/>
                  </a:solidFill>
                  <a:latin typeface="Tahoma"/>
                </a:rPr>
                <a:t>country of bir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59400" y="4535640"/>
              <a:ext cx="134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55863c"/>
                  </a:solidFill>
                  <a:latin typeface="Tahoma"/>
                </a:rPr>
                <a:t>country of residen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59160" y="3287880"/>
              <a:ext cx="19623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07320" y="2525760"/>
              <a:ext cx="1904760" cy="3752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9280" y="267192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55863c"/>
                  </a:solidFill>
                  <a:latin typeface="Tahoma"/>
                </a:rPr>
                <a:t>Population (flow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62840" y="3610080"/>
              <a:ext cx="1598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55863c"/>
                  </a:solidFill>
                  <a:latin typeface="Tahoma"/>
                </a:rPr>
                <a:t>foreign-born by year of ent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07200" y="4535640"/>
              <a:ext cx="16160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55863c"/>
                  </a:solidFill>
                  <a:latin typeface="Tahoma"/>
                </a:rPr>
                <a:t>foreign-country residents by over the  </a:t>
              </a:r>
              <a:r>
                <a:rPr b="0" i="1" lang="en-CA" sz="1600" spc="-1" strike="noStrike">
                  <a:solidFill>
                    <a:srgbClr val="0a0e40"/>
                  </a:solidFill>
                  <a:latin typeface="Tahoma"/>
                </a:rPr>
                <a:t>x</a:t>
              </a:r>
              <a:r>
                <a:rPr b="0" lang="en-CA" sz="1600" spc="-1" strike="noStrike">
                  <a:solidFill>
                    <a:srgbClr val="55863c"/>
                  </a:solidFill>
                  <a:latin typeface="Tahoma"/>
                </a:rPr>
                <a:t> peri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07320" y="3287880"/>
              <a:ext cx="19620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76680" y="3772080"/>
              <a:ext cx="361800" cy="88560"/>
            </a:xfrm>
            <a:custGeom>
              <a:avLst/>
              <a:gdLst>
                <a:gd name="textAreaLeft" fmla="*/ 45000 w 361800"/>
                <a:gd name="textAreaRight" fmla="*/ 316800 w 36180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66"/>
            </a:solidFill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68760" y="4869000"/>
              <a:ext cx="361800" cy="88920"/>
            </a:xfrm>
            <a:custGeom>
              <a:avLst/>
              <a:gdLst>
                <a:gd name="textAreaLeft" fmla="*/ 45000 w 361800"/>
                <a:gd name="textAreaRight" fmla="*/ 316800 w 36180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66"/>
            </a:solidFill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92880" y="3763800"/>
              <a:ext cx="361800" cy="88920"/>
            </a:xfrm>
            <a:custGeom>
              <a:avLst/>
              <a:gdLst>
                <a:gd name="textAreaLeft" fmla="*/ 45000 w 361800"/>
                <a:gd name="textAreaRight" fmla="*/ 316800 w 36180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66"/>
            </a:solidFill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92880" y="4849920"/>
              <a:ext cx="361800" cy="88920"/>
            </a:xfrm>
            <a:custGeom>
              <a:avLst/>
              <a:gdLst>
                <a:gd name="textAreaLeft" fmla="*/ 45000 w 361800"/>
                <a:gd name="textAreaRight" fmla="*/ 316800 w 36180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66"/>
            </a:solidFill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1efb3"/>
                </a:solidFill>
                <a:latin typeface="Tahoma"/>
              </a:rPr>
              <a:t>Advantages of using “outside the country residence”:  sending country perspectiv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ore complete coverage of flows originated in the sending cou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ssibility of distinguishing between emigration of country-born persons and emigration of country’s immi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1efb3"/>
                </a:solidFill>
                <a:latin typeface="Tahoma"/>
              </a:rPr>
              <a:t>Since 2000, emigration from Canada to the United States has been decreasing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471680" y="2355840"/>
            <a:ext cx="6899040" cy="4072680"/>
            <a:chOff x="1471680" y="2355840"/>
            <a:chExt cx="6899040" cy="407268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1471680" y="2705040"/>
              <a:ext cx="68990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603440" y="2355840"/>
              <a:ext cx="1027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ffcc00"/>
                  </a:solidFill>
                  <a:latin typeface="Tahoma"/>
                </a:rPr>
                <a:t>Number (‘000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40160" y="6121440"/>
              <a:ext cx="10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ffffff"/>
                  </a:solidFill>
                  <a:latin typeface="Tahoma"/>
                </a:rPr>
                <a:t>1999-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70560" y="6094440"/>
              <a:ext cx="10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ffffff"/>
                  </a:solidFill>
                  <a:latin typeface="Tahoma"/>
                </a:rPr>
                <a:t>2000-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81880" y="6086520"/>
              <a:ext cx="10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ffffff"/>
                  </a:solidFill>
                  <a:latin typeface="Tahoma"/>
                </a:rPr>
                <a:t>2001-200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12880" y="358776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Non-Canadia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69.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24040" y="50846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ffffff"/>
                  </a:solidFill>
                  <a:latin typeface="Tahoma"/>
                </a:rPr>
                <a:t>Canadian-bo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ffffff"/>
                  </a:solidFill>
                  <a:latin typeface="Tahoma"/>
                </a:rPr>
                <a:t>43.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05480" y="4037040"/>
              <a:ext cx="1090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Non-Canadia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49.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6280" y="522936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ffffff"/>
                  </a:solidFill>
                  <a:latin typeface="Tahoma"/>
                </a:rPr>
                <a:t>Canadian-bo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ffffff"/>
                  </a:solidFill>
                  <a:latin typeface="Tahoma"/>
                </a:rPr>
                <a:t>42.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16800" y="4524480"/>
              <a:ext cx="1090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Non-Canadia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23.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47040" y="5335560"/>
              <a:ext cx="1090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ffffff"/>
                  </a:solidFill>
                  <a:latin typeface="Tahoma"/>
                </a:rPr>
                <a:t>Canadian-bo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ffffff"/>
                  </a:solidFill>
                  <a:latin typeface="Tahoma"/>
                </a:rPr>
                <a:t>34.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41480" y="302112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375f2f"/>
                  </a:solidFill>
                  <a:latin typeface="Arial"/>
                </a:rPr>
                <a:t>113.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2240" y="35082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375f2f"/>
                  </a:solidFill>
                  <a:latin typeface="Arial"/>
                </a:rPr>
                <a:t>92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83560" y="43005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375f2f"/>
                  </a:solidFill>
                  <a:latin typeface="Arial"/>
                </a:rPr>
                <a:t>58.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43200" y="6540480"/>
            <a:ext cx="34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cc66"/>
                </a:solidFill>
                <a:latin typeface="Tahoma"/>
              </a:rPr>
              <a:t>American Community Survey estim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788569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138320" y="1963800"/>
            <a:ext cx="7586640" cy="1809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0a0e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finitions and data sour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-158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tatistics Canada’s Immigration and Ethno-cultural Statistics Program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-158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54160" y="3759120"/>
            <a:ext cx="7559640" cy="1825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a0e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easuring emigration through survey da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-158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tatistics from the American Community Survey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-158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4560" y="6046920"/>
            <a:ext cx="838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4a2500"/>
                </a:solidFill>
                <a:latin typeface="Tahoma"/>
              </a:rPr>
              <a:t>*      Prepared by Kelly Tran and Tina Chui, Statistics 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4a2500"/>
                </a:solidFill>
                <a:latin typeface="Tahoma"/>
              </a:rPr>
              <a:t>**    Prepared by Margaret Michalowski and Doug Norris, Statistics Canada; Kevin Deardorff and Betsy Guzm</a:t>
            </a:r>
            <a:r>
              <a:rPr b="1" lang="en-US" sz="1200" spc="-1" strike="noStrike">
                <a:solidFill>
                  <a:srgbClr val="4a2500"/>
                </a:solidFill>
                <a:latin typeface="Tahoma"/>
              </a:rPr>
              <a:t>án, the U.S. Census Bure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1efb3"/>
                </a:solidFill>
                <a:latin typeface="Tahoma"/>
              </a:rPr>
              <a:t>… </a:t>
            </a:r>
            <a:r>
              <a:rPr b="1" lang="en-CA" sz="2800" spc="-1" strike="noStrike">
                <a:solidFill>
                  <a:srgbClr val="d1efb3"/>
                </a:solidFill>
                <a:latin typeface="Tahoma"/>
              </a:rPr>
              <a:t>and participation of non-Canadian born residents of Canada was the main reason behind the decreas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943200" y="6540480"/>
            <a:ext cx="34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cc66"/>
                </a:solidFill>
                <a:latin typeface="Tahoma"/>
              </a:rPr>
              <a:t>American Community Survey estim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066680" y="2490840"/>
            <a:ext cx="7543800" cy="3677400"/>
            <a:chOff x="1066680" y="2490840"/>
            <a:chExt cx="7543800" cy="367740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rcRect l="26747" t="6101" r="26747" b="6101"/>
            <a:stretch/>
          </p:blipFill>
          <p:spPr>
            <a:xfrm>
              <a:off x="1066680" y="2490840"/>
              <a:ext cx="2419560" cy="24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2"/>
            <a:srcRect l="23445" t="7444" r="25273" b="7444"/>
            <a:stretch/>
          </p:blipFill>
          <p:spPr>
            <a:xfrm>
              <a:off x="3457440" y="2567160"/>
              <a:ext cx="2667240" cy="23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3"/>
            <a:srcRect l="24909" t="6773" r="26747" b="6773"/>
            <a:stretch/>
          </p:blipFill>
          <p:spPr>
            <a:xfrm>
              <a:off x="6095880" y="2529000"/>
              <a:ext cx="2514600" cy="24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644840" y="5038560"/>
              <a:ext cx="10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ffffff"/>
                  </a:solidFill>
                  <a:latin typeface="Tahoma"/>
                </a:rPr>
                <a:t>1999-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27480" y="5038560"/>
              <a:ext cx="10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ffffff"/>
                  </a:solidFill>
                  <a:latin typeface="Tahoma"/>
                </a:rPr>
                <a:t>2000-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72320" y="5038560"/>
              <a:ext cx="10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ffffff"/>
                  </a:solidFill>
                  <a:latin typeface="Tahoma"/>
                </a:rPr>
                <a:t>2001-200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33520" y="5484960"/>
              <a:ext cx="122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cc66"/>
                  </a:solidFill>
                  <a:latin typeface="Tahoma"/>
                </a:rPr>
                <a:t>Emigr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41880" y="581976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Tahoma"/>
                </a:rPr>
                <a:t>Cana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38360" y="5830920"/>
              <a:ext cx="182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Tahoma"/>
                </a:rPr>
                <a:t>the United Sta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33840" y="6000840"/>
              <a:ext cx="609840" cy="8892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74760" y="3187800"/>
              <a:ext cx="10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Non-Canadian bo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61.8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57760" y="3255840"/>
              <a:ext cx="10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Non-Canadian bo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53.6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16720" y="3552840"/>
              <a:ext cx="10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Non-Canadian bo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375f2f"/>
                  </a:solidFill>
                  <a:latin typeface="Tahoma"/>
                </a:rPr>
                <a:t>40.9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onclus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re are a number of  feasible methods to obtain information on emigration from population census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Cross-tabulating information on residence outside the country </a:t>
            </a:r>
            <a:r>
              <a:rPr b="1" lang="en-CA" sz="2400" spc="-1" strike="noStrike">
                <a:solidFill>
                  <a:srgbClr val="ffcc00"/>
                </a:solidFill>
                <a:latin typeface="Tahoma"/>
              </a:rPr>
              <a:t>x</a:t>
            </a: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 years ago and place of birth could be the most beneficial to produce statis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Usefulness of sharing data across countries relies upon the understanding of underlying concepts/termin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finitions and Data Sour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831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atistics Canada’s Immigration and Ethno-cultural Statistics Pro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Ways to identify target populations for migrant statistics – the concept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8720" y="1987560"/>
            <a:ext cx="403380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anded immigrant statu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Landed immigra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Non-immigra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Non-permanent resid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itizenshi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Canadian citizen by birt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Canadian citizen by naturaliz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Not a Canadian citiz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4800" y="1962000"/>
            <a:ext cx="41292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lace of birt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Inside Canad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Outside Canad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enerational statu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First gener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Second gener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Third generation and beyon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the Census can tell us – Stock da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30240" y="2252520"/>
            <a:ext cx="7772400" cy="40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ze &amp; origins of the immigrant population, children of immigrants, citizenship profile and ethnic grou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tlement &amp; mobility patterns of immigrants over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cio-economic experience of immigrants, adult children of immigrants as reflected by generational status, visible minorities, ethnic  groups, citiz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Immigrants to Canada are increasingly from Asia and the Middle Eas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66960" y="1859040"/>
          <a:ext cx="807228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6960" y="1859040"/>
                    <a:ext cx="807228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-7560" y="6583320"/>
            <a:ext cx="29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Source: Statistics Canada, 2001 Cens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53720" y="1951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bout 10% of Non-permanent residents were born in the United Stat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39960" y="1893960"/>
          <a:ext cx="7916760" cy="47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893960"/>
                    <a:ext cx="791676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732640" y="4791240"/>
            <a:ext cx="2606400" cy="520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otal non-permanent residents 198,64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7560" y="6583320"/>
            <a:ext cx="29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Source: Statistics Canada, 2001 Cens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2635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eaeaea"/>
                </a:solidFill>
                <a:latin typeface="Tahoma"/>
              </a:rPr>
              <a:t>Proportion of first and second generation increased in 2001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14400" y="1824120"/>
          <a:ext cx="803592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4120"/>
                    <a:ext cx="803592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376000" y="2084400"/>
            <a:ext cx="44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% population aged 15 and over by generational stat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12240" y="6583320"/>
            <a:ext cx="377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Source: Statistics Canada, 1971 and 2001 Cens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9040" y="2221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majority of eligible immigrants are Canadian citizens; naturalization rates varied by length of time lived in Canada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14400" y="1906560"/>
          <a:ext cx="806292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6560"/>
                    <a:ext cx="806292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070600" y="2022480"/>
            <a:ext cx="32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aturalization rates of immigrants by period of immig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7560" y="6583320"/>
            <a:ext cx="29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Source: Statistics Canada, 2001 Cens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9:02:15Z</dcterms:created>
  <dc:creator>SCSD BUSC</dc:creator>
  <dc:description/>
  <dc:language>en-US</dc:language>
  <cp:lastModifiedBy>kanigan</cp:lastModifiedBy>
  <dcterms:modified xsi:type="dcterms:W3CDTF">2005-03-15T15:13:54Z</dcterms:modified>
  <cp:revision>34</cp:revision>
  <dc:subject/>
  <dc:title>Definitions and Data Sources – Statistics Canada’s Immigration and Ethno-cultural Statistics Pro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32236527</vt:r8>
  </property>
  <property fmtid="{D5CDD505-2E9C-101B-9397-08002B2CF9AE}" pid="3" name="_AuthorEmail">
    <vt:lpwstr>Margaret.Michalowski@a.statcan.ca</vt:lpwstr>
  </property>
  <property fmtid="{D5CDD505-2E9C-101B-9397-08002B2CF9AE}" pid="4" name="_AuthorEmailDisplayName">
    <vt:lpwstr>Michalowski, Margaret - DEM/DEM</vt:lpwstr>
  </property>
  <property fmtid="{D5CDD505-2E9C-101B-9397-08002B2CF9AE}" pid="5" name="_EmailSubject">
    <vt:lpwstr>Again, a  copy of my presentation</vt:lpwstr>
  </property>
  <property fmtid="{D5CDD505-2E9C-101B-9397-08002B2CF9AE}" pid="6" name="_PreviousAdHocReviewCycleID">
    <vt:r8>808196011</vt:r8>
  </property>
</Properties>
</file>