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234F-74ED-4518-A179-38D67EC0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4932-C8A8-441A-9C9A-A36B29FA2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25704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7960" y="3990600"/>
            <a:ext cx="504828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F88-A597-4DCF-9D78-FC115941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BEC-228F-4AA8-A080-88ECC023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3CC-567D-498E-A335-00885ED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C87-33DD-4BE7-AF40-FC148DF2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980-2356-4CC5-B96E-20A3DFDB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59F5-B036-40EF-A5A1-36CB58F9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2F8-21AE-41B0-97C2-E111939F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D6BC-989F-4BFA-AF67-25C87961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E750-AA77-406B-917F-20ABADB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C4B3-6F92-4025-971F-BD1E331C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6EB-FB2D-4AC8-B888-324A1C0C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FB3-3D1E-471C-81FB-DF6A0B5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EBA-C279-40FA-B7AB-D0D3C787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E5CC-F1E1-4304-A63B-2C3BE66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C9FD-14CA-40ED-BE49-02B0AA7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E588-053B-43FD-A091-49B8288F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F9A-C94E-4A31-914D-A7856746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5303-E2C5-4854-B588-906FF119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587-2806-4481-8949-3F5F652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7EF-6869-42CF-BC1F-A3BC6B9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58F-0BDA-40CF-B80E-059FBEEE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68E-14FF-408D-B29D-2F1025E2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C23-B5B5-42D6-A4B0-F00ABD8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CF7-40D9-44DC-A296-3902235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86D-1B53-42F8-8991-85D4F986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BAA5-05A8-4BDF-BB6B-39ABF10CB0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0D2-5F53-46AF-B79F-2D2E2B3030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996560"/>
            <a:ext cx="76852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88569"/>
                </a:solidFill>
                <a:latin typeface="Tahoma"/>
              </a:rPr>
              <a:t>Concepts and definitions to identify the stock of international migrants:  the Canadian case stud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4895640"/>
            <a:ext cx="760428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a2500"/>
                </a:solidFill>
                <a:latin typeface="Tahoma"/>
              </a:rPr>
              <a:t>Presentation prepared for Joint ECE/Eurostat Seminar on migration statistic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a2500"/>
                </a:solidFill>
                <a:latin typeface="Tahoma"/>
              </a:rPr>
              <a:t>Geneva, March 21-23,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aeaea"/>
                </a:solidFill>
                <a:latin typeface="Tahoma"/>
              </a:rPr>
              <a:t>What is the IMDB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280" y="189072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ministrative database of linked immigration files with taxation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signed to address the need for detailed, policy-relevant data on the immigratio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upported by a federal-provincial consortium, led by the department of Citizenship &amp; Immigration Canada (C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itudinal: updated ann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all landed immigrants from 1980-1999 (tracking for 16 years since first filing ta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tax data from 1980-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the LSIC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ngitudinal survey designed to study how new immigrants adjust to life in Canada during the initial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me immigrants are tracked during the first 4 years of their settlement in Canada to examine which factors help or hinder their adjus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content includes information on many aspects of the adjustment process including: employment, education, health, housing – all from the immigrant’s persp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the EDS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urvey designed to better understand the ethnic &amp; cultural backgrounds of people in Canada and how these backgrounds relate to their lives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st-censal survey using the 2001 Census as a frame for respondent s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content includes questions on the complex dimensions of ethnic identification, ethnic ancestry, sense of belonging, interaction with society and civic parti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concepts capture different populations of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ed concepts are useful for a comprehensive look at the immigrant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detailed information is also available from other data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ally working towards internationally agreed upon or accepted termi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d1efb3"/>
                </a:solidFill>
                <a:latin typeface="Tahoma"/>
              </a:rPr>
              <a:t>Measuring emigration through survey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American Community Survey as a case study for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National data exchanges as a way to improve emigration statistic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ck of data on emigration – a major challe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ork of the North American Migration Working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U.S. Census and the American Community Survey as sources of statistics on Canadian emi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Looking at American immigrants from the Canadian perspective: stock da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15013" r="3780" b="22257"/>
          <a:stretch/>
        </p:blipFill>
        <p:spPr>
          <a:xfrm>
            <a:off x="1371600" y="2838600"/>
            <a:ext cx="6600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Using different concepts to define immigrants’ flows to the United Sta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52560" y="2514600"/>
            <a:ext cx="7916760" cy="3763800"/>
            <a:chOff x="952560" y="2514600"/>
            <a:chExt cx="7916760" cy="3763800"/>
          </a:xfrm>
        </p:grpSpPr>
        <p:sp>
          <p:nvSpPr>
            <p:cNvPr id="176" name=""/>
            <p:cNvSpPr/>
            <p:nvPr/>
          </p:nvSpPr>
          <p:spPr>
            <a:xfrm>
              <a:off x="1486080" y="2514600"/>
              <a:ext cx="1904760" cy="3753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08040" y="266076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55863c"/>
                  </a:solidFill>
                  <a:latin typeface="Tahoma"/>
                </a:rPr>
                <a:t>Concept (timin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26560" y="359892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year of ent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85960" y="4524480"/>
              <a:ext cx="16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55863c"/>
                  </a:solidFill>
                  <a:latin typeface="Tahoma"/>
                </a:rPr>
                <a:t>outside the country  </a:t>
              </a:r>
              <a:r>
                <a:rPr b="1" lang="en-CA" sz="1600" spc="-1" strike="noStrike">
                  <a:solidFill>
                    <a:srgbClr val="0a0e40"/>
                  </a:solidFill>
                  <a:latin typeface="Tahoma"/>
                </a:rPr>
                <a:t>x</a:t>
              </a:r>
              <a:r>
                <a:rPr b="1" lang="en-CA" sz="1600" spc="-1" strike="noStrike">
                  <a:solidFill>
                    <a:srgbClr val="55863c"/>
                  </a:solidFill>
                  <a:latin typeface="Tahoma"/>
                </a:rPr>
                <a:t> years a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2560" y="35002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9040" y="4673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00"/>
                  </a:solidFill>
                  <a:latin typeface="Tahoma"/>
                </a:rPr>
                <a:t>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86080" y="3276720"/>
              <a:ext cx="19620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59160" y="2525760"/>
              <a:ext cx="1905120" cy="3752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81480" y="2671920"/>
              <a:ext cx="192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55863c"/>
                  </a:solidFill>
                  <a:latin typeface="Tahoma"/>
                </a:rPr>
                <a:t>Flow’s “origin” (countr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10280" y="3610080"/>
              <a:ext cx="16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country of bir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59400" y="4535640"/>
              <a:ext cx="134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country of reside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9160" y="3287880"/>
              <a:ext cx="1962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07320" y="2525760"/>
              <a:ext cx="1904760" cy="3752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9280" y="26719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55863c"/>
                  </a:solidFill>
                  <a:latin typeface="Tahoma"/>
                </a:rPr>
                <a:t>Population (flow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62840" y="3610080"/>
              <a:ext cx="159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foreign-born by year of ent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7200" y="4535640"/>
              <a:ext cx="1616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foreign-country residents by over the  </a:t>
              </a:r>
              <a:r>
                <a:rPr b="0" i="1" lang="en-CA" sz="1600" spc="-1" strike="noStrike">
                  <a:solidFill>
                    <a:srgbClr val="0a0e40"/>
                  </a:solidFill>
                  <a:latin typeface="Tahoma"/>
                </a:rPr>
                <a:t>x</a:t>
              </a: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 peri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7320" y="3287880"/>
              <a:ext cx="19620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76680" y="3772080"/>
              <a:ext cx="361800" cy="8856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68760" y="4869000"/>
              <a:ext cx="361800" cy="8892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92880" y="3763800"/>
              <a:ext cx="361800" cy="8892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92880" y="4849920"/>
              <a:ext cx="361800" cy="8892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Advantages of using “outside the country residence”:  sending country perspectiv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re complete coverage of flows originated in the sending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ssibility of distinguishing between emigration of country-born persons and emigration of country’s immi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1efb3"/>
                </a:solidFill>
                <a:latin typeface="Tahoma"/>
              </a:rPr>
              <a:t>Since 2000, emigration from Canada to the United States has been decreasing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1680" y="2355840"/>
            <a:ext cx="6899040" cy="4072680"/>
            <a:chOff x="1471680" y="2355840"/>
            <a:chExt cx="6899040" cy="40726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471680" y="2705040"/>
              <a:ext cx="68990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603440" y="2355840"/>
              <a:ext cx="102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cc00"/>
                  </a:solidFill>
                  <a:latin typeface="Tahoma"/>
                </a:rPr>
                <a:t>Number (‘000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40160" y="612144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1999-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0560" y="609444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0-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81880" y="608652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1-20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12880" y="358776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69.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4040" y="50846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Canadian-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43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05480" y="4037040"/>
              <a:ext cx="109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49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6280" y="522936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Canadian-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42.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16800" y="4524480"/>
              <a:ext cx="109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23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47040" y="5335560"/>
              <a:ext cx="109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Canadian-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34.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2112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375f2f"/>
                  </a:solidFill>
                  <a:latin typeface="Arial"/>
                </a:rPr>
                <a:t>113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2240" y="35082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375f2f"/>
                  </a:solidFill>
                  <a:latin typeface="Arial"/>
                </a:rPr>
                <a:t>92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83560" y="4300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375f2f"/>
                  </a:solidFill>
                  <a:latin typeface="Arial"/>
                </a:rPr>
                <a:t>58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43200" y="6540480"/>
            <a:ext cx="34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cc66"/>
                </a:solidFill>
                <a:latin typeface="Tahoma"/>
              </a:rPr>
              <a:t>American Community Survey esti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788569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38320" y="1963800"/>
            <a:ext cx="7586640" cy="180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a0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itions and data sour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atistics Canada’s Immigration and Ethno-cultural Statistics Program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4160" y="3759120"/>
            <a:ext cx="7559640" cy="1825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a0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easuring emigration through survey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atistics from the American Community Survey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4560" y="6046920"/>
            <a:ext cx="838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4a2500"/>
                </a:solidFill>
                <a:latin typeface="Tahoma"/>
              </a:rPr>
              <a:t>*      Prepared by Kelly Tran and Tina Chui, 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4a2500"/>
                </a:solidFill>
                <a:latin typeface="Tahoma"/>
              </a:rPr>
              <a:t>**    Prepared by Margaret Michalowski and Doug Norris, Statistics Canada; Kevin Deardorff and Betsy Guzm</a:t>
            </a:r>
            <a:r>
              <a:rPr b="1" lang="en-US" sz="1200" spc="-1" strike="noStrike">
                <a:solidFill>
                  <a:srgbClr val="4a2500"/>
                </a:solidFill>
                <a:latin typeface="Tahoma"/>
              </a:rPr>
              <a:t>án, the U.S. Census Bure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1efb3"/>
                </a:solidFill>
                <a:latin typeface="Tahoma"/>
              </a:rPr>
              <a:t>… </a:t>
            </a:r>
            <a:r>
              <a:rPr b="1" lang="en-CA" sz="2800" spc="-1" strike="noStrike">
                <a:solidFill>
                  <a:srgbClr val="d1efb3"/>
                </a:solidFill>
                <a:latin typeface="Tahoma"/>
              </a:rPr>
              <a:t>and participation of non-Canadian born residents of Canada was the main reason behind the decreas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43200" y="6540480"/>
            <a:ext cx="34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cc66"/>
                </a:solidFill>
                <a:latin typeface="Tahoma"/>
              </a:rPr>
              <a:t>American Community Survey esti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6680" y="2490840"/>
            <a:ext cx="7543800" cy="3677400"/>
            <a:chOff x="1066680" y="2490840"/>
            <a:chExt cx="7543800" cy="36774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rcRect l="26747" t="6101" r="26747" b="6101"/>
            <a:stretch/>
          </p:blipFill>
          <p:spPr>
            <a:xfrm>
              <a:off x="1066680" y="2490840"/>
              <a:ext cx="2419560" cy="24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"/>
            <a:srcRect l="23445" t="7444" r="25273" b="7444"/>
            <a:stretch/>
          </p:blipFill>
          <p:spPr>
            <a:xfrm>
              <a:off x="3457440" y="2567160"/>
              <a:ext cx="2667240" cy="23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rcRect l="24909" t="6773" r="26747" b="6773"/>
            <a:stretch/>
          </p:blipFill>
          <p:spPr>
            <a:xfrm>
              <a:off x="6095880" y="2529000"/>
              <a:ext cx="251460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644840" y="503856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1999-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7480" y="503856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0-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72320" y="503856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1-20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33520" y="548496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cc66"/>
                  </a:solidFill>
                  <a:latin typeface="Tahoma"/>
                </a:rPr>
                <a:t>Emig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41880" y="581976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ahoma"/>
                </a:rPr>
                <a:t>Cana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360" y="5830920"/>
              <a:ext cx="182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ahoma"/>
                </a:rPr>
                <a:t>the United Sta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33840" y="6000840"/>
              <a:ext cx="609840" cy="88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74760" y="3187800"/>
              <a:ext cx="10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 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61.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57760" y="3255840"/>
              <a:ext cx="10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 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53.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16720" y="3552840"/>
              <a:ext cx="10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 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40.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re are a number of  feasible methods to obtain information on emigration from population census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Cross-tabulating information on residence outside the country </a:t>
            </a:r>
            <a:r>
              <a:rPr b="1" lang="en-CA" sz="24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 years ago and place of birth could be the most beneficial to produce stat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Usefulness of sharing data across countries relies upon the understanding of underlying concepts/termi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 and Data 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83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tistics Canada’s Immigration and Ethno-cultural Statistics Pro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Ways to identify target populations for migrant statistics – the concept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8720" y="1987560"/>
            <a:ext cx="4033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anded immigrant statu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Landed immigra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Non-immigra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Non-permanent resid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Canadian citizen by bir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Canadian citizen by naturaliz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Not a Canadian citiz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4800" y="1962000"/>
            <a:ext cx="41292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ce of bir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Inside Cana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Outside Cana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nerational statu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First gener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Second gener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Third generation and beyon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the Census can tell us – Stock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30240" y="2252520"/>
            <a:ext cx="777240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ze &amp; origins of the immigrant population, children of immigrants, citizenship profile and ethnic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tlement &amp; mobility patterns of immigrant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o-economic experience of immigrants, adult children of immigrants as reflected by generational status, visible minorities, ethnic  groups, citiz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mmigrants to Canada are increasingly from Asia and the Middle Eas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66960" y="1859040"/>
          <a:ext cx="807228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6960" y="1859040"/>
                    <a:ext cx="807228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-7560" y="658332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2001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53720" y="1951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bout 10% of Non-permanent residents were born in the United Stat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9960" y="1893960"/>
          <a:ext cx="791676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893960"/>
                    <a:ext cx="791676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732640" y="4791240"/>
            <a:ext cx="2606400" cy="52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otal non-permanent residents 198,6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560" y="658332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2001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635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aeaea"/>
                </a:solidFill>
                <a:latin typeface="Tahoma"/>
              </a:rPr>
              <a:t>Proportion of first and second generation increased in 200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824120"/>
          <a:ext cx="80359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4120"/>
                    <a:ext cx="80359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376000" y="2084400"/>
            <a:ext cx="44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% population aged 15 and over by generation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2240" y="6583320"/>
            <a:ext cx="377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1971 and 2001 Cens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9040" y="2221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majority of eligible immigrants are Canadian citizens; naturalization rates varied by length of time lived in Canad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1906560"/>
          <a:ext cx="806292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6560"/>
                    <a:ext cx="80629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70600" y="2022480"/>
            <a:ext cx="32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aturalization rates of immigrants by period of immig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7560" y="658332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2001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9:02:15Z</dcterms:created>
  <dc:creator>SCSD BUSC</dc:creator>
  <dc:description/>
  <dc:language>en-US</dc:language>
  <cp:lastModifiedBy>kanigan</cp:lastModifiedBy>
  <dcterms:modified xsi:type="dcterms:W3CDTF">2005-03-15T15:13:54Z</dcterms:modified>
  <cp:revision>34</cp:revision>
  <dc:subject/>
  <dc:title>Definitions and Data Sources – Statistics Canada’s Immigration and Ethno-cultural Statistics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2236527</vt:r8>
  </property>
  <property fmtid="{D5CDD505-2E9C-101B-9397-08002B2CF9AE}" pid="3" name="_AuthorEmail">
    <vt:lpwstr>Margaret.Michalowski@a.statcan.ca</vt:lpwstr>
  </property>
  <property fmtid="{D5CDD505-2E9C-101B-9397-08002B2CF9AE}" pid="4" name="_AuthorEmailDisplayName">
    <vt:lpwstr>Michalowski, Margaret - DEM/DEM</vt:lpwstr>
  </property>
  <property fmtid="{D5CDD505-2E9C-101B-9397-08002B2CF9AE}" pid="5" name="_EmailSubject">
    <vt:lpwstr>Again, a  copy of my presentation</vt:lpwstr>
  </property>
  <property fmtid="{D5CDD505-2E9C-101B-9397-08002B2CF9AE}" pid="6" name="_PreviousAdHocReviewCycleID">
    <vt:r8>808196011</vt:r8>
  </property>
</Properties>
</file>