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743-5B71-4291-B62E-C708D86C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EC9-F93B-4737-8546-62CDA58F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DFD-CCE6-4CD4-B322-D50CDF4D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1BD-3167-4CEE-9EC1-14FB15D8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7B7F-E9F2-4215-9782-477D9321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3659-1DEA-4D84-954D-613FF46F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7DAB-B5E0-4BEF-90EF-DDE1B1DB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2473-E38F-4F4D-9DE8-C2C4788E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950E-5022-46DD-AE06-EB1B767D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DFED-69BB-487D-B3D4-82A8A6F3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BFC3-DBC1-48AC-AA73-5DB81E8D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504-1EEB-4240-BE1B-DEDF4975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90F2-5C20-40C3-841A-40BC4ECE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8A34-46FF-467C-BB3D-18C90530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0956-543B-4304-AAE5-32B1F1E1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334F-5760-4D4B-9815-2E42A3ED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77B3-2EB6-4279-B895-794EA723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02C-8593-42B4-BD36-6762BCDD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F31-D5BE-4929-8A99-C55AF111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8E4-0281-4DF1-95E0-1117274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8A7-EAD3-4D48-A0E0-40D1D175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B2B-60BF-49EE-AACA-AB50C0CC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709-AEF3-441F-8EC0-BB033383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422-09D7-4AA4-A43D-3A11C749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5BCA-0A2D-42B1-8072-409A6BEE2A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1876-DB09-4853-A981-F20CCF8DCD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276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ECD - Organisation for Economic Co-operation and Develop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EA - International Energy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MF - International Monetary Fu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orld Ban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urost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United Nations including sub-bod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ational Statistical Off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2514600"/>
            <a:ext cx="5410080" cy="8726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96633"/>
                </a:solidFill>
                <a:uFillTx/>
                <a:latin typeface="Verdana"/>
                <a:hlinkClick r:id="rId2" action="ppaction://hlinksldjump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lob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actors influencing the distribution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3505320"/>
            <a:ext cx="541008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rganisation can now communicate directly        with the end user and vice 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495680"/>
            <a:ext cx="541008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nline shopping means that the role of the local agent can be dispens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5486400"/>
            <a:ext cx="5410080" cy="1189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-books and online portals negate the delivery problem and meet the users demands of ‘must have now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2514600"/>
            <a:ext cx="5410080" cy="8726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96633"/>
                </a:solidFill>
                <a:uFillTx/>
                <a:latin typeface="Verdana"/>
                <a:hlinkClick r:id="rId2" action="ppaction://hlinksldjump"/>
              </a:rPr>
              <a:t>Glob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actors influencing the distribution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3200400"/>
            <a:ext cx="5791320" cy="824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arriers which worked in the local agents favour have been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actors influencing the distribution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71400" y="251460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lob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3200400"/>
            <a:ext cx="5791320" cy="824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arriers which worked in the local agents favour have been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actors influencing the distribution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71400" y="251460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lob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4419720"/>
            <a:ext cx="57913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Vastly improved communications - especially the web and e-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200400"/>
            <a:ext cx="5791320" cy="824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arriers which worked in the local agents favour have been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actors influencing the distribution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71400" y="251460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lob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4267080"/>
            <a:ext cx="57913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Vastly improved communications - especially the web and e-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5410080"/>
            <a:ext cx="57913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ayment barriers have been removed with cards and electronic ba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e demands of the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28195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e demands of the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8195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2514600"/>
            <a:ext cx="5486400" cy="5806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reater awareness as a resul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lobalisation in media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e demands of the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8195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2514600"/>
            <a:ext cx="5486400" cy="5806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reater awareness as a resul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lobalisation in media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3352680"/>
            <a:ext cx="548640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Requests for  statistics on specific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e demands of the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28195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2514600"/>
            <a:ext cx="5486400" cy="5806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reater awareness as a resul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lobalisation in media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3352680"/>
            <a:ext cx="548640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Requests for  statistics on specific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3886200"/>
            <a:ext cx="548640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xpect the information immedia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e demands of the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28195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2514600"/>
            <a:ext cx="5486400" cy="5806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reater awareness as a resul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lobalisation in media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3352680"/>
            <a:ext cx="548640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Requests for  statistics on specific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886200"/>
            <a:ext cx="548640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xpect the information immedia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4419720"/>
            <a:ext cx="548640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Require bespoke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2133720"/>
            <a:ext cx="5562720" cy="824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ooks and re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eriodicals subscri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tanding Or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3962520"/>
            <a:ext cx="3048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e demands of the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questions ari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8195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7520" y="2743200"/>
            <a:ext cx="5020560" cy="1919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issing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ccuracy o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eriodicity and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ifferentiation between micro and macr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an the bookseller meet these demand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2971800"/>
            <a:ext cx="175284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733920" y="2514600"/>
            <a:ext cx="457200" cy="4572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2971800"/>
            <a:ext cx="175284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2514600"/>
            <a:ext cx="457200" cy="4572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an the bookseller meet these demand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2971800"/>
            <a:ext cx="175284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733920" y="2514600"/>
            <a:ext cx="457200" cy="4572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971800"/>
            <a:ext cx="1752840" cy="3697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96633"/>
                </a:solidFill>
                <a:uFillTx/>
                <a:latin typeface="Verdana"/>
                <a:hlinkClick r:id="rId2" action="ppaction://hlinksldjump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2514600"/>
            <a:ext cx="457200" cy="4572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1080" y="3962520"/>
            <a:ext cx="1752840" cy="5806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arry on selling 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an the bookseller meet these demand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14080" y="2590920"/>
            <a:ext cx="3114360" cy="337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apt to meet new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10120" y="4038480"/>
            <a:ext cx="163296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line 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7600" y="3124080"/>
            <a:ext cx="97920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-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10480" y="3581280"/>
            <a:ext cx="1799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int-on-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10840" y="4495680"/>
            <a:ext cx="251100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liver customis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15160" y="5029200"/>
            <a:ext cx="3972600" cy="337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ge relationships with data 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133720"/>
            <a:ext cx="5562720" cy="824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ooks and re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eriodicals subscri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tanding Or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04812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3962520"/>
            <a:ext cx="3048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ri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-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2133720"/>
            <a:ext cx="5562720" cy="1067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cademia - 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overnment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2133720"/>
            <a:ext cx="5562720" cy="1067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cademia - 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overnment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27672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191120"/>
            <a:ext cx="3047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epar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dividual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4038480"/>
            <a:ext cx="4343400" cy="33732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ookseller - Loc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457200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5638680"/>
            <a:ext cx="320040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d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297180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514600"/>
            <a:ext cx="5257800" cy="337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GO or N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lassic distribution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2514600"/>
            <a:ext cx="5410080" cy="8726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96633"/>
                </a:solidFill>
                <a:uFillTx/>
                <a:latin typeface="Verdana"/>
                <a:hlinkClick r:id="rId2" action="ppaction://hlinksldjump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lob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actors influencing the distribution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514600"/>
            <a:ext cx="5410080" cy="8726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96633"/>
                </a:solidFill>
                <a:uFillTx/>
                <a:latin typeface="Verdana"/>
                <a:hlinkClick r:id="rId2" action="ppaction://hlinksldjump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lob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actors influencing the distribution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541008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rganisation can now communicate directly        with the end user and vice 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685880" cy="990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Publications and data from international organis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763120" cy="15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388620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514600"/>
            <a:ext cx="5410080" cy="8726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96633"/>
                </a:solidFill>
                <a:uFillTx/>
                <a:latin typeface="Verdana"/>
                <a:hlinkClick r:id="rId2" action="ppaction://hlinksldjump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lob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19051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actors influencing the distribution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505320"/>
            <a:ext cx="541008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rganisation can now communicate directly        with the end user and vice 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4495680"/>
            <a:ext cx="541008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nline shopping means that the role of the local agent can be dispens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7:54:51Z</dcterms:created>
  <dc:creator>David Blake</dc:creator>
  <dc:description/>
  <dc:language>en-US</dc:language>
  <cp:lastModifiedBy>Bev Williams</cp:lastModifiedBy>
  <cp:lastPrinted>2005-02-09T14:20:39Z</cp:lastPrinted>
  <dcterms:modified xsi:type="dcterms:W3CDTF">2005-02-11T14:35:28Z</dcterms:modified>
  <cp:revision>41</cp:revision>
  <dc:subject/>
  <dc:title>Publications and data from international organisations</dc:title>
</cp:coreProperties>
</file>