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5.wmf" ContentType="image/x-wmf"/>
  <Override PartName="/ppt/media/image20.png" ContentType="image/png"/>
  <Override PartName="/ppt/media/image18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D92-D369-41DF-B616-6E15175D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526-D5FA-4842-B11D-AFB90F4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614-A348-4DEE-8BAB-285F9236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90C-F5C5-4DBB-9873-5496E355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34B-F0C7-4EA5-986F-B4D7BCF8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8C2-E245-431C-89AD-364C3C2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BF5-A46B-4FCC-AEEF-CABABF1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ACA-A1E9-472E-AFB8-ED74B82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86B-4924-41BD-92A2-B837AEE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029-BBA4-4891-9875-796A921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37B-4689-44BA-A341-7C93013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A3B-4E71-4550-9286-090D79C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F36-03F1-4AA7-B45B-54E1FA44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hyperlink" Target="http://images.google.co.uk/imgres?imgurl=http://www.unu.edu/hq/library/images/oecd-cd.jpg&amp;imgrefurl=http://www.unu.edu/hq/library/whats-new.htm&amp;h=236&amp;w=230&amp;sz=13&amp;tbnid=yDiH0JpdNxkJ:&amp;tbnh=104&amp;tbnw=101&amp;start=7&amp;prev=/images%3Fq%3DCD-ROM%2Boecd%26hl%3Den%26lr%3D%26sa%3DN" TargetMode="External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of Statistical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30498" t="14569" r="29937" b="14569"/>
          <a:stretch/>
        </p:blipFill>
        <p:spPr>
          <a:xfrm rot="493800">
            <a:off x="3564000" y="476280"/>
            <a:ext cx="3002040" cy="40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30498" t="14569" r="29937" b="14569"/>
          <a:stretch/>
        </p:blipFill>
        <p:spPr>
          <a:xfrm rot="20841000">
            <a:off x="971640" y="549000"/>
            <a:ext cx="316224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37584" t="14569" r="22822" b="14569"/>
          <a:stretch/>
        </p:blipFill>
        <p:spPr>
          <a:xfrm>
            <a:off x="1392120" y="1822320"/>
            <a:ext cx="311148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37593" t="16144" r="22825" b="12502"/>
          <a:stretch/>
        </p:blipFill>
        <p:spPr>
          <a:xfrm>
            <a:off x="4487760" y="1822320"/>
            <a:ext cx="3090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435640" y="3349800"/>
            <a:ext cx="1295280" cy="1150920"/>
            <a:chOff x="5435640" y="3349800"/>
            <a:chExt cx="1295280" cy="1150920"/>
          </a:xfrm>
        </p:grpSpPr>
        <p:sp>
          <p:nvSpPr>
            <p:cNvPr id="161" name=""/>
            <p:cNvSpPr/>
            <p:nvPr/>
          </p:nvSpPr>
          <p:spPr>
            <a:xfrm>
              <a:off x="5473440" y="3349800"/>
              <a:ext cx="122364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5640" y="3743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164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708360" y="4718160"/>
            <a:ext cx="1584360" cy="1150920"/>
            <a:chOff x="3708360" y="4718160"/>
            <a:chExt cx="1584360" cy="1150920"/>
          </a:xfrm>
        </p:grpSpPr>
        <p:sp>
          <p:nvSpPr>
            <p:cNvPr id="167" name=""/>
            <p:cNvSpPr/>
            <p:nvPr/>
          </p:nvSpPr>
          <p:spPr>
            <a:xfrm>
              <a:off x="3873600" y="4718160"/>
              <a:ext cx="1224000" cy="1150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08360" y="4967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overy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amp;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1380960"/>
            <a:ext cx="215640" cy="8636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1040000">
            <a:off x="3635280" y="130896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437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1040000">
            <a:off x="3564000" y="5365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76360" y="1909800"/>
            <a:ext cx="4283280" cy="4111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2349360"/>
            <a:ext cx="316836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 &amp;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ing ideas into reality!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ayou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-edi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rint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uilding websites tha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3240" y="2421000"/>
            <a:ext cx="1905120" cy="218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941400">
            <a:off x="611280" y="549360"/>
            <a:ext cx="1746000" cy="201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rot="21012600">
            <a:off x="468360" y="2636640"/>
            <a:ext cx="2279520" cy="1728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 rot="304200">
            <a:off x="611280" y="4508640"/>
            <a:ext cx="2297160" cy="16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556000" y="1773360"/>
            <a:ext cx="1224000" cy="792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3500280"/>
            <a:ext cx="180036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916360" y="4436640"/>
            <a:ext cx="934920" cy="1150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574960" y="430200"/>
            <a:ext cx="3393000" cy="3117960"/>
            <a:chOff x="5574960" y="430200"/>
            <a:chExt cx="3393000" cy="3117960"/>
          </a:xfrm>
        </p:grpSpPr>
        <p:pic>
          <p:nvPicPr>
            <p:cNvPr id="186" name="" descr=""/>
            <p:cNvPicPr/>
            <p:nvPr/>
          </p:nvPicPr>
          <p:blipFill>
            <a:blip r:embed="rId5"/>
            <a:srcRect l="0" t="8265" r="2161" b="8265"/>
            <a:stretch/>
          </p:blipFill>
          <p:spPr>
            <a:xfrm rot="972600">
              <a:off x="5754600" y="758880"/>
              <a:ext cx="25923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"/>
            <a:srcRect l="0" t="8265" r="2161" b="8265"/>
            <a:stretch/>
          </p:blipFill>
          <p:spPr>
            <a:xfrm rot="972600">
              <a:off x="5901480" y="1026360"/>
              <a:ext cx="259272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rcRect l="0" t="8265" r="2161" b="8265"/>
            <a:stretch/>
          </p:blipFill>
          <p:spPr>
            <a:xfrm rot="972600">
              <a:off x="6048720" y="1294200"/>
              <a:ext cx="25923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8"/>
            <a:srcRect l="0" t="8265" r="2161" b="8265"/>
            <a:stretch/>
          </p:blipFill>
          <p:spPr>
            <a:xfrm rot="972600">
              <a:off x="6195600" y="1562040"/>
              <a:ext cx="2592360" cy="16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 flipV="1">
            <a:off x="4788000" y="1916280"/>
            <a:ext cx="1008000" cy="720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09720" y="2324520"/>
            <a:ext cx="2374920" cy="2342520"/>
            <a:chOff x="6309720" y="2324520"/>
            <a:chExt cx="2374920" cy="2342520"/>
          </a:xfrm>
        </p:grpSpPr>
        <p:pic>
          <p:nvPicPr>
            <p:cNvPr id="192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 rot="988200">
              <a:off x="6501240" y="2508840"/>
              <a:ext cx="1528560" cy="157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3" name="" descr=""/>
            <p:cNvPicPr/>
            <p:nvPr/>
          </p:nvPicPr>
          <p:blipFill>
            <a:blip r:embed="rId11"/>
            <a:stretch/>
          </p:blipFill>
          <p:spPr>
            <a:xfrm rot="988200">
              <a:off x="6732720" y="2708280"/>
              <a:ext cx="1528560" cy="1574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4" name="" descr=""/>
            <p:cNvPicPr/>
            <p:nvPr/>
          </p:nvPicPr>
          <p:blipFill>
            <a:blip r:embed="rId12"/>
            <a:stretch/>
          </p:blipFill>
          <p:spPr>
            <a:xfrm rot="988200">
              <a:off x="6963480" y="2907720"/>
              <a:ext cx="1528920" cy="1574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5817240" y="3032280"/>
            <a:ext cx="2889360" cy="3313800"/>
            <a:chOff x="5817240" y="3032280"/>
            <a:chExt cx="2889360" cy="3313800"/>
          </a:xfrm>
        </p:grpSpPr>
        <p:pic>
          <p:nvPicPr>
            <p:cNvPr id="196" name="" descr=""/>
            <p:cNvPicPr/>
            <p:nvPr/>
          </p:nvPicPr>
          <p:blipFill>
            <a:blip r:embed="rId13"/>
            <a:srcRect l="37593" t="16144" r="22825" b="12502"/>
            <a:stretch/>
          </p:blipFill>
          <p:spPr>
            <a:xfrm rot="893400">
              <a:off x="6084360" y="3212640"/>
              <a:ext cx="17064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4"/>
            <a:srcRect l="37593" t="16144" r="22825" b="12502"/>
            <a:stretch/>
          </p:blipFill>
          <p:spPr>
            <a:xfrm rot="893400">
              <a:off x="6300360" y="3428640"/>
              <a:ext cx="17064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5"/>
            <a:srcRect l="37593" t="16144" r="22825" b="12502"/>
            <a:stretch/>
          </p:blipFill>
          <p:spPr>
            <a:xfrm rot="893400">
              <a:off x="6516000" y="3644640"/>
              <a:ext cx="170676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6"/>
            <a:srcRect l="37593" t="16144" r="22825" b="12502"/>
            <a:stretch/>
          </p:blipFill>
          <p:spPr>
            <a:xfrm rot="893400">
              <a:off x="6732000" y="3860280"/>
              <a:ext cx="1706760" cy="23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 flipV="1">
            <a:off x="4788000" y="3141720"/>
            <a:ext cx="1296720" cy="71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4078440"/>
            <a:ext cx="1152720" cy="574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950600">
            <a:off x="2626560" y="170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306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8534600">
            <a:off x="2847600" y="46497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264200">
            <a:off x="4445280" y="1828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530600">
            <a:off x="4500360" y="40050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&amp;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6165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os, ‘author’ style,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59500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stency, ‘house’ style, attention to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435640" y="3349800"/>
            <a:ext cx="1295280" cy="1150920"/>
            <a:chOff x="5435640" y="3349800"/>
            <a:chExt cx="1295280" cy="1150920"/>
          </a:xfrm>
        </p:grpSpPr>
        <p:sp>
          <p:nvSpPr>
            <p:cNvPr id="211" name=""/>
            <p:cNvSpPr/>
            <p:nvPr/>
          </p:nvSpPr>
          <p:spPr>
            <a:xfrm>
              <a:off x="5473440" y="3349800"/>
              <a:ext cx="122364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35640" y="3743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214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08360" y="4718160"/>
            <a:ext cx="1584360" cy="1150920"/>
            <a:chOff x="3708360" y="4718160"/>
            <a:chExt cx="1584360" cy="1150920"/>
          </a:xfrm>
        </p:grpSpPr>
        <p:sp>
          <p:nvSpPr>
            <p:cNvPr id="217" name=""/>
            <p:cNvSpPr/>
            <p:nvPr/>
          </p:nvSpPr>
          <p:spPr>
            <a:xfrm>
              <a:off x="3873600" y="4718160"/>
              <a:ext cx="1224000" cy="1150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8360" y="4967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overy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amp;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1380960"/>
            <a:ext cx="215640" cy="8636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1040000">
            <a:off x="3635280" y="130896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5437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040000">
            <a:off x="3564000" y="5365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76360" y="1909800"/>
            <a:ext cx="4283280" cy="4111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595600"/>
            <a:ext cx="487692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very &amp;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very services to core &amp; secondary audiences (Aggregator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livery channels (Booksellers)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itle Management (Librarian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als to reach tertiary audiences (Other Publis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2627280" y="1628640"/>
            <a:ext cx="3981600" cy="3235320"/>
            <a:chOff x="2627280" y="1628640"/>
            <a:chExt cx="3981600" cy="3235320"/>
          </a:xfrm>
        </p:grpSpPr>
        <p:graphicFrame>
          <p:nvGraphicFramePr>
            <p:cNvPr id="229" name=""/>
            <p:cNvGraphicFramePr/>
            <p:nvPr/>
          </p:nvGraphicFramePr>
          <p:xfrm>
            <a:off x="2951280" y="1628640"/>
            <a:ext cx="3657600" cy="3235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1280" y="1628640"/>
                      <a:ext cx="3657600" cy="32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4703760" y="261936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ademia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amp; Stud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7280" y="399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G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8440" y="17809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G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7160" y="30956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84720" y="4124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over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227640" y="1484280"/>
            <a:ext cx="27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Library Porta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&amp;I servic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ors (Ebsco, SWETS, Mimas, Ingen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 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2349360"/>
            <a:ext cx="28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 Intrane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ors (Lexis Nexis, Bloomberg, Reuters, Thompson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907920"/>
            <a:ext cx="24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 Websi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s &amp;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4508640"/>
            <a:ext cx="28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Intrane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 Websi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s &amp;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4724280"/>
            <a:ext cx="28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Intrane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r Websi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s &amp;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6165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1,000s of Channels (and Goo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33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rofessional &amp; Student Aud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435640" y="3349800"/>
            <a:ext cx="1295280" cy="1150920"/>
            <a:chOff x="5435640" y="3349800"/>
            <a:chExt cx="1295280" cy="1150920"/>
          </a:xfrm>
        </p:grpSpPr>
        <p:sp>
          <p:nvSpPr>
            <p:cNvPr id="244" name=""/>
            <p:cNvSpPr/>
            <p:nvPr/>
          </p:nvSpPr>
          <p:spPr>
            <a:xfrm>
              <a:off x="5473440" y="3349800"/>
              <a:ext cx="122364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5640" y="3743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247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708360" y="4718160"/>
            <a:ext cx="1584360" cy="1150920"/>
            <a:chOff x="3708360" y="4718160"/>
            <a:chExt cx="1584360" cy="1150920"/>
          </a:xfrm>
        </p:grpSpPr>
        <p:sp>
          <p:nvSpPr>
            <p:cNvPr id="250" name=""/>
            <p:cNvSpPr/>
            <p:nvPr/>
          </p:nvSpPr>
          <p:spPr>
            <a:xfrm>
              <a:off x="3873600" y="4718160"/>
              <a:ext cx="1224000" cy="1150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8360" y="4967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overy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amp;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380960"/>
            <a:ext cx="215640" cy="8636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1040000">
            <a:off x="3635280" y="130896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5437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1040000">
            <a:off x="3564000" y="5365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76360" y="1909800"/>
            <a:ext cx="4283280" cy="4111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2349360"/>
            <a:ext cx="3168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what works and what doesn’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n what’s being read and what isn’t!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5435640" y="3349800"/>
            <a:ext cx="1295280" cy="1150920"/>
            <a:chOff x="5435640" y="3349800"/>
            <a:chExt cx="1295280" cy="1150920"/>
          </a:xfrm>
        </p:grpSpPr>
        <p:sp>
          <p:nvSpPr>
            <p:cNvPr id="262" name=""/>
            <p:cNvSpPr/>
            <p:nvPr/>
          </p:nvSpPr>
          <p:spPr>
            <a:xfrm>
              <a:off x="5473440" y="3349800"/>
              <a:ext cx="122364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5640" y="3743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265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08360" y="4718160"/>
            <a:ext cx="1584360" cy="1150920"/>
            <a:chOff x="3708360" y="4718160"/>
            <a:chExt cx="1584360" cy="1150920"/>
          </a:xfrm>
        </p:grpSpPr>
        <p:sp>
          <p:nvSpPr>
            <p:cNvPr id="268" name=""/>
            <p:cNvSpPr/>
            <p:nvPr/>
          </p:nvSpPr>
          <p:spPr>
            <a:xfrm>
              <a:off x="3873600" y="4718160"/>
              <a:ext cx="1224000" cy="1150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8360" y="4967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overy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amp;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1380960"/>
            <a:ext cx="215640" cy="8636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1040000">
            <a:off x="3635280" y="130896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437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1040000">
            <a:off x="3564000" y="5365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76360" y="1909800"/>
            <a:ext cx="4283280" cy="41115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349360"/>
            <a:ext cx="316836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sure that costs are balanced by income!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Making choices about investments for the fu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295960" y="3349800"/>
            <a:ext cx="1574640" cy="1150920"/>
            <a:chOff x="5295960" y="3349800"/>
            <a:chExt cx="1574640" cy="1150920"/>
          </a:xfrm>
        </p:grpSpPr>
        <p:sp>
          <p:nvSpPr>
            <p:cNvPr id="280" name=""/>
            <p:cNvSpPr/>
            <p:nvPr/>
          </p:nvSpPr>
          <p:spPr>
            <a:xfrm>
              <a:off x="5473800" y="3349800"/>
              <a:ext cx="122400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95960" y="3591000"/>
              <a:ext cx="15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sign &amp; Re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283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05400" y="1302840"/>
            <a:ext cx="1758600" cy="1757880"/>
            <a:chOff x="3605400" y="1302840"/>
            <a:chExt cx="1758600" cy="1757880"/>
          </a:xfrm>
        </p:grpSpPr>
        <p:grpSp>
          <p:nvGrpSpPr>
            <p:cNvPr id="287" name=""/>
            <p:cNvGrpSpPr/>
            <p:nvPr/>
          </p:nvGrpSpPr>
          <p:grpSpPr>
            <a:xfrm>
              <a:off x="3851280" y="1909800"/>
              <a:ext cx="1295280" cy="1150920"/>
              <a:chOff x="3851280" y="1909800"/>
              <a:chExt cx="1295280" cy="1150920"/>
            </a:xfrm>
          </p:grpSpPr>
          <p:sp>
            <p:nvSpPr>
              <p:cNvPr id="288" name=""/>
              <p:cNvSpPr/>
              <p:nvPr/>
            </p:nvSpPr>
            <p:spPr>
              <a:xfrm>
                <a:off x="3889080" y="1909800"/>
                <a:ext cx="1223640" cy="11509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51280" y="22845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ditor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8360" y="1380960"/>
              <a:ext cx="215640" cy="86364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1040000">
              <a:off x="3635280" y="130896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333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ll Publishers be Disintermedi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34120" y="4718160"/>
            <a:ext cx="1901520" cy="1582560"/>
            <a:chOff x="3534120" y="4718160"/>
            <a:chExt cx="1901520" cy="1582560"/>
          </a:xfrm>
        </p:grpSpPr>
        <p:grpSp>
          <p:nvGrpSpPr>
            <p:cNvPr id="295" name=""/>
            <p:cNvGrpSpPr/>
            <p:nvPr/>
          </p:nvGrpSpPr>
          <p:grpSpPr>
            <a:xfrm>
              <a:off x="3708360" y="4718160"/>
              <a:ext cx="1584360" cy="1150920"/>
              <a:chOff x="3708360" y="4718160"/>
              <a:chExt cx="1584360" cy="1150920"/>
            </a:xfrm>
          </p:grpSpPr>
          <p:sp>
            <p:nvSpPr>
              <p:cNvPr id="296" name=""/>
              <p:cNvSpPr/>
              <p:nvPr/>
            </p:nvSpPr>
            <p:spPr>
              <a:xfrm>
                <a:off x="3873600" y="4718160"/>
                <a:ext cx="1224000" cy="1150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08360" y="4967280"/>
                <a:ext cx="158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iscovery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amp; Deli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219640" y="543708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040000">
              <a:off x="3564000" y="536508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497400" y="3276720"/>
            <a:ext cx="2087280" cy="1150920"/>
            <a:chOff x="3497400" y="3276720"/>
            <a:chExt cx="2087280" cy="1150920"/>
          </a:xfrm>
        </p:grpSpPr>
        <p:sp>
          <p:nvSpPr>
            <p:cNvPr id="301" name=""/>
            <p:cNvSpPr/>
            <p:nvPr/>
          </p:nvSpPr>
          <p:spPr>
            <a:xfrm>
              <a:off x="3924360" y="3276720"/>
              <a:ext cx="1224000" cy="115092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97400" y="3500280"/>
              <a:ext cx="208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276720" y="2819520"/>
            <a:ext cx="2361960" cy="2209680"/>
            <a:chOff x="3276720" y="2819520"/>
            <a:chExt cx="2361960" cy="2209680"/>
          </a:xfrm>
        </p:grpSpPr>
        <p:sp>
          <p:nvSpPr>
            <p:cNvPr id="304" name=""/>
            <p:cNvSpPr/>
            <p:nvPr/>
          </p:nvSpPr>
          <p:spPr>
            <a:xfrm>
              <a:off x="5181480" y="281952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276720" y="449568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429000" y="281952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181480" y="457200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86200" y="1752120"/>
            <a:ext cx="1295280" cy="4496040"/>
            <a:chOff x="3886200" y="1752120"/>
            <a:chExt cx="1295280" cy="4496040"/>
          </a:xfrm>
        </p:grpSpPr>
        <p:sp>
          <p:nvSpPr>
            <p:cNvPr id="309" name=""/>
            <p:cNvSpPr/>
            <p:nvPr/>
          </p:nvSpPr>
          <p:spPr>
            <a:xfrm>
              <a:off x="3886200" y="1828800"/>
              <a:ext cx="0" cy="4419360"/>
            </a:xfrm>
            <a:prstGeom prst="line">
              <a:avLst/>
            </a:prstGeom>
            <a:ln w="5079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181480" y="1752120"/>
              <a:ext cx="0" cy="4419720"/>
            </a:xfrm>
            <a:prstGeom prst="line">
              <a:avLst/>
            </a:prstGeom>
            <a:ln w="5079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200400" y="2590920"/>
            <a:ext cx="2666880" cy="2653920"/>
            <a:chOff x="3200400" y="2590920"/>
            <a:chExt cx="2666880" cy="2653920"/>
          </a:xfrm>
        </p:grpSpPr>
        <p:sp>
          <p:nvSpPr>
            <p:cNvPr id="312" name=""/>
            <p:cNvSpPr/>
            <p:nvPr/>
          </p:nvSpPr>
          <p:spPr>
            <a:xfrm>
              <a:off x="5334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8000"/>
                  </a:solidFill>
                  <a:latin typeface="Arial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0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8000"/>
                  </a:solidFill>
                  <a:latin typeface="Arial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0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8000"/>
                  </a:solidFill>
                  <a:latin typeface="Arial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10080" y="4572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8000"/>
                  </a:solidFill>
                  <a:latin typeface="Arial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ing is the “how” that gets content from authors to r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484280" cy="140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293840" cy="1265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1520" y="3124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>
            <a:off x="1941120" y="2913120"/>
            <a:ext cx="4917240" cy="243288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intermediary adds value to the authors’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484280" cy="140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293840" cy="126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00600" y="2819520"/>
            <a:ext cx="2133720" cy="1475280"/>
            <a:chOff x="4800600" y="2819520"/>
            <a:chExt cx="2133720" cy="14752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4800600" y="2819520"/>
              <a:ext cx="213372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3320" y="3835080"/>
              <a:ext cx="17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ggreg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>
            <a:off x="1941120" y="2913120"/>
            <a:ext cx="4917240" cy="243288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9" name=""/>
          <p:cNvGrpSpPr/>
          <p:nvPr/>
        </p:nvGrpSpPr>
        <p:grpSpPr>
          <a:xfrm>
            <a:off x="2971800" y="4038480"/>
            <a:ext cx="1904760" cy="1831320"/>
            <a:chOff x="2971800" y="4038480"/>
            <a:chExt cx="1904760" cy="183132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3047760" y="4038480"/>
              <a:ext cx="14115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971800" y="54100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okse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76920" y="4495680"/>
            <a:ext cx="1699920" cy="1956240"/>
            <a:chOff x="4876920" y="4495680"/>
            <a:chExt cx="1699920" cy="195624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4876920" y="4495680"/>
              <a:ext cx="1553760" cy="14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876920" y="5992200"/>
              <a:ext cx="16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rar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514600" y="2514600"/>
            <a:ext cx="1905120" cy="1679040"/>
            <a:chOff x="2514600" y="2514600"/>
            <a:chExt cx="1905120" cy="167904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895840" y="2514600"/>
              <a:ext cx="1044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14600" y="37339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ublis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Creation is centred on the THREE PRODUCT “D”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484280" cy="140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293840" cy="126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3"/>
            <a:endCxn id="70" idx="1"/>
          </p:cNvCxnSpPr>
          <p:nvPr/>
        </p:nvCxnSpPr>
        <p:spPr>
          <a:xfrm>
            <a:off x="1941120" y="2913120"/>
            <a:ext cx="4917240" cy="243288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20716200">
            <a:off x="2393640" y="2771280"/>
            <a:ext cx="286848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16200">
            <a:off x="2819520" y="3504960"/>
            <a:ext cx="382248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716200">
            <a:off x="3505320" y="4419360"/>
            <a:ext cx="382248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es the great DISTRUPTOR DISINTERMEDIATE the DISSEMIN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484280" cy="140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293840" cy="1265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8" idx="3"/>
            <a:endCxn id="79" idx="1"/>
          </p:cNvCxnSpPr>
          <p:nvPr/>
        </p:nvCxnSpPr>
        <p:spPr>
          <a:xfrm>
            <a:off x="1941120" y="2913120"/>
            <a:ext cx="4917240" cy="243288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20716200">
            <a:off x="2393640" y="2771280"/>
            <a:ext cx="286848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716200">
            <a:off x="3123720" y="3580920"/>
            <a:ext cx="3822840" cy="1739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787800">
            <a:off x="2209320" y="2438280"/>
            <a:ext cx="4572000" cy="3040200"/>
          </a:xfrm>
          <a:prstGeom prst="rect">
            <a:avLst/>
          </a:prstGeom>
          <a:ln w="0">
            <a:noFill/>
          </a:ln>
        </p:spPr>
      </p:pic>
      <p:cxnSp>
        <p:nvCxnSpPr>
          <p:cNvPr id="86" name=""/>
          <p:cNvCxnSpPr>
            <a:stCxn id="79" idx="0"/>
            <a:endCxn id="78" idx="2"/>
          </p:cNvCxnSpPr>
          <p:nvPr/>
        </p:nvCxnSpPr>
        <p:spPr>
          <a:xfrm flipV="1" rot="16200000">
            <a:off x="3804480" y="1010520"/>
            <a:ext cx="1096200" cy="630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ession looks in turn at each of the players as they adapt to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484280" cy="1406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293840" cy="126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00600" y="2819520"/>
            <a:ext cx="2133720" cy="1475280"/>
            <a:chOff x="4800600" y="2819520"/>
            <a:chExt cx="2133720" cy="14752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4800600" y="2819520"/>
              <a:ext cx="213372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143320" y="3835080"/>
              <a:ext cx="171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" name=""/>
          <p:cNvCxnSpPr>
            <a:stCxn id="88" idx="3"/>
            <a:endCxn id="89" idx="1"/>
          </p:cNvCxnSpPr>
          <p:nvPr/>
        </p:nvCxnSpPr>
        <p:spPr>
          <a:xfrm>
            <a:off x="1941120" y="2913120"/>
            <a:ext cx="4917240" cy="2432880"/>
          </a:xfrm>
          <a:prstGeom prst="curvedConnector5">
            <a:avLst>
              <a:gd name="adj1" fmla="val 49985"/>
              <a:gd name="adj2" fmla="val 49992"/>
              <a:gd name="adj3" fmla="val 49985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" name=""/>
          <p:cNvGrpSpPr/>
          <p:nvPr/>
        </p:nvGrpSpPr>
        <p:grpSpPr>
          <a:xfrm>
            <a:off x="2971800" y="4038480"/>
            <a:ext cx="1904760" cy="1831320"/>
            <a:chOff x="2971800" y="4038480"/>
            <a:chExt cx="1904760" cy="183132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047760" y="4038480"/>
              <a:ext cx="14115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971800" y="54100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eu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876920" y="4495680"/>
            <a:ext cx="1699920" cy="1956240"/>
            <a:chOff x="4876920" y="4495680"/>
            <a:chExt cx="1699920" cy="195624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876920" y="4495680"/>
              <a:ext cx="1553760" cy="14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876920" y="5992200"/>
              <a:ext cx="16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I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14600" y="2514600"/>
            <a:ext cx="1905120" cy="1679040"/>
            <a:chOff x="2514600" y="2514600"/>
            <a:chExt cx="1905120" cy="1679040"/>
          </a:xfrm>
        </p:grpSpPr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2895840" y="2514600"/>
              <a:ext cx="1044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514600" y="37339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E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295960" y="3349800"/>
            <a:ext cx="1574640" cy="1150920"/>
            <a:chOff x="5295960" y="3349800"/>
            <a:chExt cx="1574640" cy="1150920"/>
          </a:xfrm>
        </p:grpSpPr>
        <p:sp>
          <p:nvSpPr>
            <p:cNvPr id="106" name=""/>
            <p:cNvSpPr/>
            <p:nvPr/>
          </p:nvSpPr>
          <p:spPr>
            <a:xfrm>
              <a:off x="5473800" y="3349800"/>
              <a:ext cx="122400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5960" y="3591000"/>
              <a:ext cx="15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sign &amp; Re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109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05400" y="1302840"/>
            <a:ext cx="1758600" cy="1757880"/>
            <a:chOff x="3605400" y="1302840"/>
            <a:chExt cx="1758600" cy="1757880"/>
          </a:xfrm>
        </p:grpSpPr>
        <p:grpSp>
          <p:nvGrpSpPr>
            <p:cNvPr id="113" name=""/>
            <p:cNvGrpSpPr/>
            <p:nvPr/>
          </p:nvGrpSpPr>
          <p:grpSpPr>
            <a:xfrm>
              <a:off x="3851280" y="1909800"/>
              <a:ext cx="1295280" cy="1150920"/>
              <a:chOff x="3851280" y="1909800"/>
              <a:chExt cx="1295280" cy="115092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1909800"/>
                <a:ext cx="1223640" cy="11509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51280" y="22845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ditor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48360" y="1380960"/>
              <a:ext cx="215640" cy="86364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040000">
              <a:off x="3635280" y="130896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534120" y="4718160"/>
            <a:ext cx="1901520" cy="1582560"/>
            <a:chOff x="3534120" y="4718160"/>
            <a:chExt cx="1901520" cy="1582560"/>
          </a:xfrm>
        </p:grpSpPr>
        <p:grpSp>
          <p:nvGrpSpPr>
            <p:cNvPr id="121" name=""/>
            <p:cNvGrpSpPr/>
            <p:nvPr/>
          </p:nvGrpSpPr>
          <p:grpSpPr>
            <a:xfrm>
              <a:off x="3708360" y="4718160"/>
              <a:ext cx="1584360" cy="1150920"/>
              <a:chOff x="3708360" y="4718160"/>
              <a:chExt cx="1584360" cy="1150920"/>
            </a:xfrm>
          </p:grpSpPr>
          <p:sp>
            <p:nvSpPr>
              <p:cNvPr id="122" name=""/>
              <p:cNvSpPr/>
              <p:nvPr/>
            </p:nvSpPr>
            <p:spPr>
              <a:xfrm>
                <a:off x="3873600" y="4718160"/>
                <a:ext cx="1224000" cy="1150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08360" y="4967280"/>
                <a:ext cx="158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iscovery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amp; Deli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219640" y="543708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040000">
              <a:off x="3564000" y="5365080"/>
              <a:ext cx="216000" cy="86364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97400" y="3276720"/>
            <a:ext cx="2087280" cy="1150920"/>
            <a:chOff x="3497400" y="3276720"/>
            <a:chExt cx="2087280" cy="1150920"/>
          </a:xfrm>
        </p:grpSpPr>
        <p:sp>
          <p:nvSpPr>
            <p:cNvPr id="127" name=""/>
            <p:cNvSpPr/>
            <p:nvPr/>
          </p:nvSpPr>
          <p:spPr>
            <a:xfrm>
              <a:off x="3924360" y="3276720"/>
              <a:ext cx="1224000" cy="115092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7400" y="3500280"/>
              <a:ext cx="208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76720" y="2819520"/>
            <a:ext cx="2361960" cy="2209680"/>
            <a:chOff x="3276720" y="2819520"/>
            <a:chExt cx="2361960" cy="2209680"/>
          </a:xfrm>
        </p:grpSpPr>
        <p:sp>
          <p:nvSpPr>
            <p:cNvPr id="130" name=""/>
            <p:cNvSpPr/>
            <p:nvPr/>
          </p:nvSpPr>
          <p:spPr>
            <a:xfrm>
              <a:off x="5181480" y="281952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276720" y="449568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429000" y="281952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81480" y="4572000"/>
              <a:ext cx="45720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5435640" y="3349800"/>
            <a:ext cx="1295280" cy="1150920"/>
            <a:chOff x="5435640" y="3349800"/>
            <a:chExt cx="1295280" cy="1150920"/>
          </a:xfrm>
        </p:grpSpPr>
        <p:sp>
          <p:nvSpPr>
            <p:cNvPr id="135" name=""/>
            <p:cNvSpPr/>
            <p:nvPr/>
          </p:nvSpPr>
          <p:spPr>
            <a:xfrm>
              <a:off x="5473440" y="3349800"/>
              <a:ext cx="1223640" cy="1150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35640" y="3743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340000" y="3349800"/>
            <a:ext cx="1295280" cy="1150920"/>
            <a:chOff x="2340000" y="3349800"/>
            <a:chExt cx="1295280" cy="1150920"/>
          </a:xfrm>
        </p:grpSpPr>
        <p:sp>
          <p:nvSpPr>
            <p:cNvPr id="138" name=""/>
            <p:cNvSpPr/>
            <p:nvPr/>
          </p:nvSpPr>
          <p:spPr>
            <a:xfrm>
              <a:off x="2340000" y="3349800"/>
              <a:ext cx="1223640" cy="1150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40000" y="3710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708360" y="4718160"/>
            <a:ext cx="1584360" cy="1150920"/>
            <a:chOff x="3708360" y="4718160"/>
            <a:chExt cx="1584360" cy="1150920"/>
          </a:xfrm>
        </p:grpSpPr>
        <p:sp>
          <p:nvSpPr>
            <p:cNvPr id="141" name=""/>
            <p:cNvSpPr/>
            <p:nvPr/>
          </p:nvSpPr>
          <p:spPr>
            <a:xfrm>
              <a:off x="3873600" y="4718160"/>
              <a:ext cx="1224000" cy="1150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8360" y="4967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overy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amp;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48040" y="1236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1380960"/>
            <a:ext cx="215640" cy="8636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1040000">
            <a:off x="3635280" y="130896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the Publisher Add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6157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5437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1040000">
            <a:off x="3564000" y="53650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76360" y="1909800"/>
            <a:ext cx="4283280" cy="4111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2349360"/>
            <a:ext cx="316836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organis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ing feedback to help authors create new publications that meet audience nee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31118" t="19294" r="29937" b="9057"/>
          <a:stretch/>
        </p:blipFill>
        <p:spPr>
          <a:xfrm>
            <a:off x="4573440" y="765000"/>
            <a:ext cx="3338640" cy="46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28166" t="14569" r="29748" b="10632"/>
          <a:stretch/>
        </p:blipFill>
        <p:spPr>
          <a:xfrm>
            <a:off x="828720" y="765000"/>
            <a:ext cx="3456000" cy="46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971640" y="5734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fore (author-lay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73408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(publisher-lay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41:07Z</dcterms:created>
  <dc:creator>green_t</dc:creator>
  <dc:description/>
  <dc:language>en-US</dc:language>
  <cp:lastModifiedBy>Tiina Luige</cp:lastModifiedBy>
  <dcterms:modified xsi:type="dcterms:W3CDTF">2005-02-22T09:37:24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8056552</vt:r8>
  </property>
  <property fmtid="{D5CDD505-2E9C-101B-9397-08002B2CF9AE}" pid="3" name="_AuthorEmail">
    <vt:lpwstr>Toby.GREEN@oecd.org</vt:lpwstr>
  </property>
  <property fmtid="{D5CDD505-2E9C-101B-9397-08002B2CF9AE}" pid="4" name="_AuthorEmailDisplayName">
    <vt:lpwstr>GREEN Toby, PAC/MKT</vt:lpwstr>
  </property>
  <property fmtid="{D5CDD505-2E9C-101B-9397-08002B2CF9AE}" pid="5" name="_EmailSubject">
    <vt:lpwstr>Publisher presentation.ppt</vt:lpwstr>
  </property>
</Properties>
</file>