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EA49-4F1D-4890-9013-9423A47D1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61760" y="4343040"/>
            <a:ext cx="5105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040" y="4266720"/>
            <a:ext cx="5334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8D019-4F12-45F9-AA20-D5EECECB24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02C89-EBAA-453C-9D1F-FEA7559424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AABB8-A3C1-4C8C-BDA1-2F062632E3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560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3768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560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3768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E855C-675A-4D3F-A3BC-49D90F37B1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451FE-6301-44D1-B6BD-22EFD25513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7A755-0AA9-45F2-BE4A-D3259A302F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608AB-A281-425D-AA39-7A79422C97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3DC7D-3EA3-41C9-8BB6-2DA9458756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4BC45-2CAD-4998-A9D5-A6FF00F01F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15FBB-5013-4EEA-B749-4E5B726422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D9797-E5ED-4E15-A37D-B7CF6CFCCC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6F62C-7B15-4949-9344-8425A377CC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16989-F839-4432-B22E-A4CF5B960F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EAA87-A934-4612-9166-7B44323ACC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DF480-0524-4DDA-BD8A-AD35F1F308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DE234-64BE-4DFB-990B-30DB962F06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560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73768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52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560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73768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802BC-FA1C-44C3-A409-9C3A797BB7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256FA-182C-4EAA-A284-A55A36E146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90AA4-2D20-4FEF-BEDF-31C27C11AC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4E64E-977F-40BC-86A0-4B1815A4D8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015CB-BC6B-4604-B5DB-CCB9527407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6B4FE-6F53-4B8B-B369-E6D9FB407A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FC967-1700-4794-B2AB-5A71BB86B4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D6BCD-57C0-43E9-BCBA-33D1C80966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1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2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3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4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BF6E-FA8D-48A5-AF80-E349D65C87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wordCyan" descr=""/>
          <p:cNvPicPr/>
          <p:nvPr/>
        </p:nvPicPr>
        <p:blipFill>
          <a:blip r:embed="rId2"/>
          <a:stretch/>
        </p:blipFill>
        <p:spPr>
          <a:xfrm>
            <a:off x="457200" y="6326280"/>
            <a:ext cx="3276720" cy="2268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3809880" y="6402240"/>
            <a:ext cx="5334120" cy="74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rot="5400000">
            <a:off x="5142960" y="3390840"/>
            <a:ext cx="6858000" cy="75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86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010C-27B6-4BF6-B636-2D9534F061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wordCyan" descr=""/>
          <p:cNvPicPr/>
          <p:nvPr/>
        </p:nvPicPr>
        <p:blipFill>
          <a:blip r:embed="rId2"/>
          <a:stretch/>
        </p:blipFill>
        <p:spPr>
          <a:xfrm>
            <a:off x="457200" y="6326280"/>
            <a:ext cx="3276720" cy="226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9880" y="6402240"/>
            <a:ext cx="5334120" cy="74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5142960" y="3390840"/>
            <a:ext cx="6858000" cy="75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REPUTATION MANAGEMENT FOR TARGET AUDIENCES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43000" y="29714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Recent Attacks on the Census Bureau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pared by Kenneth C. Meyer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ed States Census Bureau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RECENT INCIDENTS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259056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A MINING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AL TABULATIONS &amp; EXTRACTS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PECIAL TABULATIONS &amp; EXTRACTS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42640" y="304812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AB-AMERICAN DATA REQUEST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OMMUNICATIONS COUNTERMEASURES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fied key staff and stakeholders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ed communications strategy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ed messages &amp; conducted media training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rafted RTQ for interim policy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tched interim policy &amp; arranged interview opportunities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sued News Release announcing policy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OMMUNICATIONS COUNTERMEASURES</a:t>
            </a:r>
            <a:br>
              <a:rPr sz="3200"/>
            </a:b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(cont’d)</a:t>
            </a:r>
            <a:endParaRPr b="1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055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ticipated in preparations for: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-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ormational teleconference with key stakehol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-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Joint Census Advisory Committee me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ranged spokesperson for talk radio show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sued News Release announcing CPO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ranged Ed Boards for Director 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817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Y ATTACKS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nitor the media clos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 alert to sensitivities of stakehol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AGE REPUTATION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ctive 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active 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2314080"/>
            <a:ext cx="7848360" cy="33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 good reputation is critical to public confi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greatest challenge for national statistical agencies is the loss of respondent coop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21:23:23Z</dcterms:created>
  <dc:creator>user</dc:creator>
  <dc:description/>
  <dc:language>en-US</dc:language>
  <cp:lastModifiedBy>Bev Williams</cp:lastModifiedBy>
  <dcterms:modified xsi:type="dcterms:W3CDTF">2005-02-11T15:09:34Z</dcterms:modified>
  <cp:revision>85</cp:revision>
  <dc:subject/>
  <dc:title>REPUTATION MANAGEMENT FOR TARGET AUDIENCES</dc:title>
</cp:coreProperties>
</file>