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002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3657600"/>
            <a:ext cx="66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Building the reputation of a statistical office through effective communica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828800" y="5181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Helena Rafalowsk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irector of Communicatio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Office for National Statistic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67f"/>
                </a:solidFill>
                <a:latin typeface="Arial"/>
              </a:rPr>
              <a:t>Openness and transparency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re-announcement of publication da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edia access to statistical specialis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lear communic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Direct, unmediated communic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Liberal interpretation of Freedom of Information A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rrors and corrections published on web homep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Web pag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22011" b="5968"/>
          <a:stretch/>
        </p:blipFill>
        <p:spPr>
          <a:xfrm>
            <a:off x="1066680" y="1371600"/>
            <a:ext cx="6704280" cy="51814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UK at a glanc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6080" y="1211400"/>
            <a:ext cx="6705720" cy="5267160"/>
            <a:chOff x="1216080" y="1211400"/>
            <a:chExt cx="6705720" cy="52671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216080" y="1211400"/>
              <a:ext cx="6705720" cy="5267160"/>
            </a:xfrm>
            <a:prstGeom prst="rect">
              <a:avLst/>
            </a:prstGeom>
            <a:ln w="12600">
              <a:solidFill>
                <a:srgbClr val="000099"/>
              </a:solidFill>
              <a:miter/>
            </a:ln>
          </p:spPr>
        </p:pic>
        <p:sp>
          <p:nvSpPr>
            <p:cNvPr id="104" name=""/>
            <p:cNvSpPr txBox="1"/>
            <p:nvPr/>
          </p:nvSpPr>
          <p:spPr>
            <a:xfrm>
              <a:off x="1216080" y="1211400"/>
              <a:ext cx="6705720" cy="526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opic based summary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6770520" cy="51148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67f"/>
                </a:solidFill>
                <a:latin typeface="Arial"/>
              </a:rPr>
              <a:t>Media handling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traight news relea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Good relations with journalists and commentato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creased emphasis on more trusted broadcast medi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edia monitoring and measur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edia and presentation training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Most frequent source of new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3560" y="1328760"/>
          <a:ext cx="7246800" cy="51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560" y="1328760"/>
                    <a:ext cx="72468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876920" y="6417360"/>
            <a:ext cx="44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Source:British Market Research Bureau International 2002</a:t>
            </a:r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Most trusted source of new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25320" y="1104840"/>
          <a:ext cx="7869240" cy="50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5320" y="1104840"/>
                    <a:ext cx="786924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29320" y="6188760"/>
            <a:ext cx="38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Source: British Market Research Bureau International 2002</a:t>
            </a:r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Daily newspaper circulation February 2004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9720" y="1568520"/>
            <a:ext cx="592128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4562640"/>
            <a:ext cx="59212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079720" y="4062240"/>
            <a:ext cx="59212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2079720" y="3560760"/>
            <a:ext cx="59212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2079720" y="3070080"/>
            <a:ext cx="59212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2079720" y="2570040"/>
            <a:ext cx="59212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079720" y="2068560"/>
            <a:ext cx="59212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079720" y="156852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079720" y="1568520"/>
            <a:ext cx="5921280" cy="3495600"/>
          </a:xfrm>
          <a:prstGeom prst="rect">
            <a:avLst/>
          </a:prstGeom>
          <a:noFill/>
          <a:ln w="11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239920" y="1797120"/>
            <a:ext cx="217440" cy="32670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2778120" y="2765520"/>
            <a:ext cx="216000" cy="22986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314880" y="3168720"/>
            <a:ext cx="217440" cy="18954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181400"/>
            <a:ext cx="217440" cy="882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4214880"/>
            <a:ext cx="217440" cy="84924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925880" y="4235400"/>
            <a:ext cx="228600" cy="828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475240" y="4475160"/>
            <a:ext cx="21744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584600"/>
            <a:ext cx="217440" cy="479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550200" y="4638600"/>
            <a:ext cx="215640" cy="425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703760"/>
            <a:ext cx="217440" cy="3603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3000" y="4857840"/>
            <a:ext cx="217800" cy="2062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079720" y="1568520"/>
            <a:ext cx="1440" cy="34956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035080" y="5064120"/>
            <a:ext cx="4464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035080" y="4562640"/>
            <a:ext cx="4464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035080" y="4062240"/>
            <a:ext cx="4464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2035080" y="3560760"/>
            <a:ext cx="4464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2035080" y="3070080"/>
            <a:ext cx="4464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035080" y="2570040"/>
            <a:ext cx="4464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035080" y="2068560"/>
            <a:ext cx="4464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035080" y="1568520"/>
            <a:ext cx="4464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079720" y="5064120"/>
            <a:ext cx="59212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7972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61792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54320" y="5063760"/>
            <a:ext cx="180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9252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2928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76568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1504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51440" y="5063760"/>
            <a:ext cx="180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89640" y="5063760"/>
            <a:ext cx="180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2640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464600" y="5063760"/>
            <a:ext cx="1440" cy="428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001000" y="5063760"/>
            <a:ext cx="14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931760" y="4976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1518480" y="4475160"/>
            <a:ext cx="50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5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397160" y="397512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,0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397160" y="347328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,5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397160" y="298296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,0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397160" y="248292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,5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397160" y="198108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3,0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97160" y="148104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3,500,000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rot="18900000">
            <a:off x="1793880" y="5334120"/>
            <a:ext cx="55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The Sun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rot="18900000">
            <a:off x="2243520" y="5368680"/>
            <a:ext cx="64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Mail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rot="18900000">
            <a:off x="2674800" y="5405040"/>
            <a:ext cx="78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Mirror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rot="18900000">
            <a:off x="2967480" y="5505120"/>
            <a:ext cx="104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Telegraph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rot="18900000">
            <a:off x="3645720" y="5433840"/>
            <a:ext cx="91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Express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rot="18900000">
            <a:off x="4403880" y="5359320"/>
            <a:ext cx="64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Star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rot="18900000">
            <a:off x="5159160" y="5268600"/>
            <a:ext cx="40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Times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 rot="18900000">
            <a:off x="5298840" y="54255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aily Record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 rot="18900000">
            <a:off x="6424200" y="520380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FT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 rot="18900000">
            <a:off x="6579720" y="5346720"/>
            <a:ext cx="61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Guardian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 rot="18900000">
            <a:off x="6924240" y="5422680"/>
            <a:ext cx="83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Independent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607640" y="6153120"/>
            <a:ext cx="1038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Newspaper title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42680" y="3126960"/>
            <a:ext cx="73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Circulation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639680" y="6400440"/>
            <a:ext cx="410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Source: British Market Research Bureau International 2002</a:t>
            </a:r>
            <a:endParaRPr b="0" lang="en-US" sz="11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elevision rating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6400080"/>
            <a:ext cx="32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Source: British Market Research Bureau International 2002 </a:t>
            </a:r>
            <a:endParaRPr b="0" lang="en-US" sz="1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219320"/>
          <a:ext cx="8059680" cy="52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059680" cy="52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Launch of Census 2001 population figur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6880" y="1295280"/>
            <a:ext cx="7810560" cy="5207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oday’s sess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iss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Family Spending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78280" y="1308240"/>
            <a:ext cx="3373560" cy="5176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927520" y="1308240"/>
            <a:ext cx="1796760" cy="2744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38240" y="1306440"/>
            <a:ext cx="1789200" cy="2746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066680" y="4108320"/>
            <a:ext cx="36529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Media monitoring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516400" y="12186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tal coverag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805120" y="2011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0" r="8873" b="0"/>
          <a:stretch/>
        </p:blipFill>
        <p:spPr>
          <a:xfrm>
            <a:off x="990720" y="1752480"/>
            <a:ext cx="6192720" cy="4651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0" t="0" r="8873" b="0"/>
          <a:stretch/>
        </p:blipFill>
        <p:spPr>
          <a:xfrm>
            <a:off x="1066680" y="1676520"/>
            <a:ext cx="6193080" cy="4651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727360" y="217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340000" y="1916280"/>
            <a:ext cx="863640" cy="709200"/>
            <a:chOff x="2340000" y="1916280"/>
            <a:chExt cx="863640" cy="709200"/>
          </a:xfrm>
        </p:grpSpPr>
        <p:sp>
          <p:nvSpPr>
            <p:cNvPr id="201" name=""/>
            <p:cNvSpPr/>
            <p:nvPr/>
          </p:nvSpPr>
          <p:spPr>
            <a:xfrm>
              <a:off x="2340000" y="1916280"/>
              <a:ext cx="863640" cy="709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itive</a:t>
              </a:r>
              <a:endParaRPr b="0" lang="en-US" sz="1000" spc="-1" strike="noStrike">
                <a:solidFill>
                  <a:srgbClr val="0000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000" spc="-1" strike="noStrike">
                <a:solidFill>
                  <a:srgbClr val="0000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gative</a:t>
              </a:r>
              <a:endParaRPr b="0" lang="en-US" sz="1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87640" y="1989000"/>
              <a:ext cx="108000" cy="108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5840" y="2212920"/>
              <a:ext cx="108000" cy="108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87640" y="2440080"/>
              <a:ext cx="108000" cy="108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Finding real measures of public trus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dentifying the major influences on reput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stablishing a clear powerfully expressed brand ident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Working with an innately conservative cul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Reputa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d on trust and belief in an organisation’s good intentions and standards of behavi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ard to buil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sy to lo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Our rol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e help Government, business and the public to make sense of the world around them in order to make better decisions to improve life in Britai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rust is central to the business we are i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llecting information and keeping it confidentia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ucing an accurate picture of what is going on in the world around 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viding robust evidence to inform decis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abling citizens to judge the performance of their govern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67f"/>
                </a:solidFill>
                <a:latin typeface="Arial"/>
              </a:rPr>
              <a:t>Maintaining trust is getting more challenging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tatistics, especially on government performance are becoming politicised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he media, our main channel of communication is becoming more contentio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he world is getting more complicated and harder to mea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tatistics are playing a more important role in national lif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 a web world there is no hiding place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67f"/>
                </a:solidFill>
                <a:latin typeface="Arial"/>
              </a:rPr>
              <a:t>Building and maintaining reputa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09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ity and political independenc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National Statistics Code of Pract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High standards for methods and qua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fidentiality of personal d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re-announcement of publication da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ublication of pre-release access li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imed release of market sensitive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67f"/>
                </a:solidFill>
                <a:latin typeface="Arial"/>
              </a:rPr>
              <a:t>Issue managemen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Senior level involv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wareness of the potential for controvers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sk force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Honesty about acknowledging mistak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We </a:t>
            </a:r>
            <a:r>
              <a:rPr b="0" i="1" lang="en-GB" sz="2800" spc="-1" strike="noStrike">
                <a:solidFill>
                  <a:srgbClr val="000099"/>
                </a:solidFill>
                <a:latin typeface="Arial"/>
              </a:rPr>
              <a:t>always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fute unfounded criticis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Reputational incidents in the national media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1981080"/>
          <a:ext cx="6497640" cy="43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981080"/>
                    <a:ext cx="6497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3:07:27Z</dcterms:created>
  <dc:creator>Dragon</dc:creator>
  <dc:description/>
  <dc:language>en-US</dc:language>
  <cp:lastModifiedBy>Bev Williams</cp:lastModifiedBy>
  <cp:lastPrinted>2005-02-11T15:52:13Z</cp:lastPrinted>
  <dcterms:modified xsi:type="dcterms:W3CDTF">2005-02-11T16:50:22Z</dcterms:modified>
  <cp:revision>173</cp:revision>
  <dc:subject/>
  <dc:title>No Slide Title</dc:title>
</cp:coreProperties>
</file>