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B0D3-CAA4-447E-B2A9-DF6CC64D9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A732-B14A-4520-8D78-4F8A27AD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0435-AD9A-43D0-8DB1-9BEF87F3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1886-8A0E-48DE-92EC-743B140A7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44A9-A12B-4E7E-8E3E-BDE3934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14D3-F77C-4E28-A887-E4ABF97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77D6-6797-44FB-A5EA-8F5DC03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139F-4004-4DBB-BE7D-8C1826D8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F593-7C99-4334-8021-75618404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349E-1AB1-48C7-8933-82F1FB3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B7E8-CBE8-477A-ADD7-BA6B66C4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66B9-DFCE-418D-A59E-EE2758B7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2C89-1C53-4082-AEB2-A5141039D337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24000" cy="44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On and Off the Job Training</a:t>
            </a:r>
            <a:br>
              <a:rPr sz="3000"/>
            </a:b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 - Danish Experie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y Leon Østergaard, Statistics Den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UNECE/OECD Work S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on Statistical Dissemination and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14-15 February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Henley-on-Thames, 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2nd Strategy: Recurrent workshop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current offer to all Statistical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Not compulso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8-10 publications discussed in 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eads of divisions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Qualitative criticism as well 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quantitative facts on the use of th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ritten report on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f necessary, two or more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Disadvantag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ime-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emands meticulous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apacity 8-10 workshops a y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rresponding to 3-4 Statistical Divisions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3 years necessary to cover all Statistical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3rd Strategy: Internal Courses 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Introduction to dissemination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(half day)   - compulsory for new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Press course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(one day) - compulsory for staff dealing with th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Efficient written communication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(two days) - compulsory for all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To tell with statistics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(two days) - compulsory for statis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xternal courses is used only for communication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4th Strategy: Recruiting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 recruiting statisticians, communication skills might be regarded as an additional qualific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r even be requir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 suggestion is put forward in our draft language policy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d favourab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o tell with internal statistics…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naging change by making it quantitatively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asuring media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lating media coverage directly to each publication and each Statistica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mproving media coverage year by year - in each Statistica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gress monitored by intern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have to become better at telling the story behind the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tatisticians are not well equipped to do jus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not let journalists take over this task entir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nce, we have to train statisticians to conduct (part of)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Principle of Equal Professional Righ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the dissemination of statistical products - with particular reference to </a:t>
            </a:r>
            <a:r>
              <a:rPr b="0" i="1" lang="da-DK" sz="3200" spc="-1" strike="noStrike">
                <a:solidFill>
                  <a:srgbClr val="000000"/>
                </a:solidFill>
                <a:latin typeface="Arial"/>
              </a:rPr>
              <a:t>News from Statistics Denmark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- statistical professionalism and communication expertise are regarded as equally importa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tatistics Denmark Strateg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3d3c"/>
                </a:solidFill>
                <a:latin typeface="Arial"/>
              </a:rPr>
              <a:t>News from Statistics Denmark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1052640"/>
          <a:ext cx="3892680" cy="49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38926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88000" y="1054080"/>
          <a:ext cx="3867120" cy="4967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054080"/>
                    <a:ext cx="38671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3d3c"/>
                </a:solidFill>
                <a:latin typeface="Arial"/>
              </a:rPr>
              <a:t>News from Statistics Denmark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550 issues each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 issues on an average working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50 differen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media are the primary targe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vised guidelines issued rec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3d3c"/>
                </a:solidFill>
                <a:latin typeface="Arial"/>
              </a:rPr>
              <a:t>News from Statistics Denmark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tatistical Division writes first draft manu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ust have news focus, headline and one comprehensibl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warded to Dissemination Centre 10 a.m. on the day before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1st Strategy: Daily dialogue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professional suggests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ialogue via e-mail, telephone or 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munication professional </a:t>
            </a: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re-write parts of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ialogue continues until agreement is reached (by noon at the la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oth parties learn from the process, provided they argue thei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Procedure in case of disagree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f disagreement is a matter of princi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ead of Communication meets Head of Statistica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f disagreement can’t be settl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version of the Statistical Division is print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nd the involved parties are summoned on a later date to find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Disadvantag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short deadline (10 a.m. to noon) is not well suited for major changes in format, focu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short deadline makes it difficult  to produce new graph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05:22Z</dcterms:created>
  <dc:creator>Netværk</dc:creator>
  <dc:description/>
  <dc:language>en-US</dc:language>
  <cp:lastModifiedBy>Bev Williams</cp:lastModifiedBy>
  <dcterms:modified xsi:type="dcterms:W3CDTF">2005-02-11T15:11:07Z</dcterms:modified>
  <cp:revision>23</cp:revision>
  <dc:subject/>
  <dc:title>On and off the job training  - Danish experien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5472536</vt:r8>
  </property>
  <property fmtid="{D5CDD505-2E9C-101B-9397-08002B2CF9AE}" pid="3" name="_AuthorEmail">
    <vt:lpwstr>loe@dst.dk</vt:lpwstr>
  </property>
  <property fmtid="{D5CDD505-2E9C-101B-9397-08002B2CF9AE}" pid="4" name="_AuthorEmailDisplayName">
    <vt:lpwstr>Leon Østergaard</vt:lpwstr>
  </property>
  <property fmtid="{D5CDD505-2E9C-101B-9397-08002B2CF9AE}" pid="5" name="_EmailSubject">
    <vt:lpwstr>PP presentations for Work Session</vt:lpwstr>
  </property>
  <property fmtid="{D5CDD505-2E9C-101B-9397-08002B2CF9AE}" pid="6" name="_PreviousAdHocReviewCycleID">
    <vt:r8>-7463681</vt:r8>
  </property>
</Properties>
</file>