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EEC885-6ABB-4F8A-ACAD-35F1FAED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ercise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ercise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9B93-330A-4AF8-BAA2-54636865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B028-A6E3-4A0C-9BFF-6240D08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5271-1DC2-4CE8-9E77-CD52D4B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D730-60DE-4988-A295-44FA846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7F63-56FC-4D94-A0F5-F0F26C8D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AA5-85AA-42EE-8D91-F5CCB979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96D4-6125-47DB-9AE5-09FBD6C5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9BF2-7023-4140-AB27-C244306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C67-24FA-4D41-BA3A-5E3FA41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01A4-C752-4705-8FA1-164E11E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48B-E33F-4DCE-8232-946BF46A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1C7F-0791-4E54-89D2-131E578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934B-8F5A-49E8-B787-3B43C19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6A48-4BB8-46C1-AE30-A18F412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81E7-3B35-4374-8A6F-0D1BE22D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93FC-1134-48C2-B48C-F21A6E02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A3B-D94C-4EF3-9E17-F822C762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5CFD-0B94-4766-9848-7735978E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1FA6-44C9-44A7-9008-2DA6027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318D-6035-40A1-9BD3-9BE75F7E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1917-267C-4099-97BF-0DD64EC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2DED-4725-4E03-B78A-6AE78D2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C5EC-8B6F-4F4F-880A-30F01230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2C92-1D8A-4538-A4FB-056662E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F2D-B959-406A-A3BE-ADC81CDD49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95880" y="380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Tahoma"/>
              </a:rPr>
              <a:t>Telling the story UN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447920" y="6095880"/>
            <a:ext cx="376200" cy="457200"/>
            <a:chOff x="1447920" y="6095880"/>
            <a:chExt cx="376200" cy="457200"/>
          </a:xfrm>
        </p:grpSpPr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1447920" y="6095880"/>
              <a:ext cx="376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PlaceHolder 5"/>
            <p:cNvSpPr>
              <a:spLocks noGrp="1"/>
            </p:cNvSpPr>
            <p:nvPr>
              <p:ph type="dt" idx="3"/>
            </p:nvPr>
          </p:nvSpPr>
          <p:spPr>
            <a:xfrm>
              <a:off x="1447920" y="6095880"/>
              <a:ext cx="376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E899-6C23-449F-9291-5073B9F2F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19320" y="6095880"/>
            <a:ext cx="376200" cy="457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john.flanders@statcan.c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Telling the st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statis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t Statistics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E89-8A04-476F-B0DB-2A4FE5E32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dule 2: 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rks, what doe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llow a news release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raft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he Dail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media cove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ood learning experi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9CBB-CD90-474F-BF4A-610724740B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ead para in draft co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stimated 449,720 pregnancies ended during 2001, almost 15% fewer than the peak in 1990 (526,887) for the 28-year period 1974 to 2001. The corresponding pregnancy rate reached its peak in 1975 when there were 76.1 pregnancies for every 1,000 women aged 15 to 49 yea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1A6E-21CE-422B-97FB-6826857E24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ead para in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 The Daily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gnancy rates among teenagers in 2001 were down by one-third from where they were nearly three decades earlier, according to new data. Meanwhile women over the age of 30 were accounting for a much higher ra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2159-902E-4815-8F56-D38F64284B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ad para in media cove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 only are fewer teens becoming pregnant than three decades ago, but many Canadian women are waiting to start families until their careers are in place, a study from Statistics Canada sugges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5CC3-52A1-4096-B677-9DD62DC4D8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dule 3: Hands-on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lf a dozen para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itiques by cours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urnalistic style – did they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st way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7469-4EB9-4DB8-AE26-F84AE9F94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Numbers Ga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about data: Make it stick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A375-2178-4E4F-8DA2-04F8046EE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void proportions in bracke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seniors were also somewhat more likely than younger people to report unpaid family work in 2004 (12% versus 4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out 12% of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king seniors reported unpaid family work in 2004, three times the proportion of only 4% among young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DEA0-6C43-4669-95F5-C1AB8FB9A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t the story r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otal, spending in retail stores reached $246.8 billion in 2004. Of that amount, consumers spent $86.4 billion on motor vehicles and related products, and $59.3 billion on food and bever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D710-6A7B-440E-B643-84ABD3942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ere’s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s spent proportionally more on their cars in 2004 than they did on food and beverag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very $100 consumers spent in retail stores, $31 went to vehicles and related services such as gasoline and oil, compared with only $23 for food and bever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1642-EC4A-43C1-9F11-F646859935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s vs. propor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portion of seniors who were in the labour force rose from 15% in 2003 to 20% in 2004, a 5% increase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? WRO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0CCA-CCF5-4F59-8E31-72D053C68D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ree principal courses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for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countering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fo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The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EF3C-4751-42DB-B806-48B34A24E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eat these terms carefu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dian vs.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in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A5AB-95E4-4C62-BFE3-B152FA8963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The Numbers Gam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nt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urposes of this analysis, households were divided into five groups according to their income, with each group representing 20%, or one-fifth, of all households. The one-fifth of Canadian households with the lowest incomes spent over 51% of their budget on food, shelter and clothing in 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2802-4989-40DA-82A3-8F9305A7ED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ay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: professional journ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he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Journalistic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or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exts: clear, concise,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nvey data prope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: Follow-up one on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A06F-8D6E-4FFE-85C4-ACB14359B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Encountering the media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one-day course for official spoke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knowledge of news media and  techniques analysts can use to communicate effectively through interviews, such as bridging and deflec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exercises, simulated intervie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D363-70FC-4C1F-819F-91D0F0093B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the Web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-da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unique nature of writing effective material for a web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s, visits to websites and hands-on writing exerci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627A-C12F-4448-825B-4047615A63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UNECE – Telling the sto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hanks for your participa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hn F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ior media advi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istic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john.flanders@statca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613) 951-82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C013-0792-409C-BC9D-18D57CD9B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urse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 to the world of journalists: Meeting thei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ffective’ news release: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chniques of writing an effective news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AFB8-D885-4EC1-928D-84D4201EE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Effective release’: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s journalists a story to writ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s context, trends and relationships behind th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filtered coverage (direct qu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 chance of misinterpre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alysts spend less time on the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5C04-B91A-467D-A5D8-9D48112873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-da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i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centrates on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ing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, what,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when, where,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y should Canadians want to rea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F2C8-A67F-4790-A488-FDA7B190D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3. 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The Daily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istics Canada’s official release bulle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blished every working day, both offici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rget audience: General news journ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ten in journalistic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CCCF-AE0F-44C4-8BDC-D493253CE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ree mod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The basics: Writing for journ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Hands-on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20B6-D493-4072-A5DE-CA18BC8AB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journalists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ne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ng, complex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ving to dig for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cking in or “peeling the onion” (get to the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thora o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icated chart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8157-90A5-4CE0-8A71-BC54E279D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odule 1: Teaching the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S: A story line, major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stic style: Inverted pyramid, story lines, leads, strong sub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(clear, concise, si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imely data in understandabl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text and analysis – Answer the why and how,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ormation on trends, lows, hi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aphics with clear, visu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riting for </a:t>
            </a:r>
            <a:r>
              <a:rPr b="0" i="1" lang="en-CA" sz="4000" spc="-1" strike="noStrike">
                <a:solidFill>
                  <a:srgbClr val="333399"/>
                </a:solidFill>
                <a:latin typeface="Arial"/>
              </a:rPr>
              <a:t>The Dai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C676-85C0-498F-8A0D-30A8C9F72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7:56:29Z</dcterms:created>
  <dc:creator>walshea</dc:creator>
  <dc:description/>
  <dc:language>en-US</dc:language>
  <cp:lastModifiedBy>Bev Williams</cp:lastModifiedBy>
  <dcterms:modified xsi:type="dcterms:W3CDTF">2005-02-11T15:17:49Z</dcterms:modified>
  <cp:revision>182</cp:revision>
  <dc:subject/>
  <dc:title>Writing for The Dai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4007833</vt:r8>
  </property>
  <property fmtid="{D5CDD505-2E9C-101B-9397-08002B2CF9AE}" pid="3" name="_AuthorEmail">
    <vt:lpwstr>John.Flanders@statcan.ca</vt:lpwstr>
  </property>
  <property fmtid="{D5CDD505-2E9C-101B-9397-08002B2CF9AE}" pid="4" name="_AuthorEmailDisplayName">
    <vt:lpwstr>John Flanders</vt:lpwstr>
  </property>
  <property fmtid="{D5CDD505-2E9C-101B-9397-08002B2CF9AE}" pid="5" name="_EmailSubject">
    <vt:lpwstr>Powerpoint presentation</vt:lpwstr>
  </property>
  <property fmtid="{D5CDD505-2E9C-101B-9397-08002B2CF9AE}" pid="6" name="_PreviousAdHocReviewCycleID">
    <vt:r8>1299691129</vt:r8>
  </property>
</Properties>
</file>