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328680" y="382680"/>
          <a:ext cx="8558280" cy="609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680" y="382680"/>
                    <a:ext cx="8558280" cy="60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71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716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3004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3004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3004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40" y="79200"/>
            <a:ext cx="8975520" cy="66996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6320" y="74520"/>
            <a:ext cx="97128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uropa.eu.int/comm/eurostat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1240" y="1231920"/>
            <a:ext cx="8064360" cy="454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br>
              <a:rPr sz="41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gh-quality access to EU statistic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urostat’s mission is to provid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European Union with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high-quality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tistical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70160" y="317520"/>
            <a:ext cx="1982880" cy="1625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63640" y="1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V. Predefined t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3840" y="1725120"/>
            <a:ext cx="8134200" cy="389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or basic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ited set of indicators (1000 tables of which 300 euro-indicators, 100 structural indicat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essible in various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ey EU policy indicato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predefined tables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theme in the theme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in the database tree “main indicato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28880" y="15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3840" y="1433520"/>
            <a:ext cx="8134200" cy="389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online since 1 October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in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navigation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stat’s reference database, 4500 multidimensional tables, updated twice daily (11:00 and 23: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data on external trade between Member States and some 250 trading partners, for more than 11 000 products, updated once a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63640" y="1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. Data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3840" y="1433160"/>
            <a:ext cx="8265960" cy="500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for ‘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n-registered, anonymous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non-expert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access to the data via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extraction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‘registered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r range of tools but sam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 functionalit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e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data and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640" y="471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. Bulk downloa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3840" y="1433520"/>
            <a:ext cx="8134200" cy="389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heavy users: e.g. redistribu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ible via the navigation tree and directly via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 of the onlin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flat fi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taneou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ible via a specific http server and  ftp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word provided by the central support of Euro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. Copyright and lic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ence for commercial re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Licence contract required (zero c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Contracts managed by Publications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Includes all disseminated data, except non-E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ata and detailed Austrian external trad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63640" y="1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I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3840" y="1433520"/>
            <a:ext cx="8134200" cy="389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ology and updat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ible via the navigation tre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ology also directly accessible via homep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monised, basic information according to the IMF standard (SDD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3600" y="699840"/>
            <a:ext cx="800100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II. Data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49080" y="1539360"/>
            <a:ext cx="813420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phasis on “Product and service improvemen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e of charg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basi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user support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 level support appro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fr-BE" sz="4000" spc="-1" strike="noStrike">
                <a:solidFill>
                  <a:srgbClr val="000000"/>
                </a:solidFill>
                <a:latin typeface="Times New Roman"/>
              </a:rPr>
              <a:t>VIII. User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23120" y="3808440"/>
            <a:ext cx="217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rently 18 national statistical instit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30440" y="4354560"/>
            <a:ext cx="3999240" cy="191916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2959200" y="2387160"/>
            <a:ext cx="39600" cy="177660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980720" y="4240080"/>
            <a:ext cx="662040" cy="33192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714320" y="3644640"/>
            <a:ext cx="1626840" cy="73476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354480" y="2273400"/>
            <a:ext cx="1027080" cy="185256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240000" y="1790280"/>
            <a:ext cx="2398680" cy="24368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33840" y="4481640"/>
            <a:ext cx="1801800" cy="15764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30440" y="4354560"/>
            <a:ext cx="849600" cy="2300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560" y="4456080"/>
            <a:ext cx="735120" cy="17924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282320" y="4430880"/>
            <a:ext cx="2033640" cy="10936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278160" y="2476440"/>
            <a:ext cx="2449440" cy="16876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151080" y="3454200"/>
            <a:ext cx="1725840" cy="77292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290760" y="4165200"/>
            <a:ext cx="709920" cy="21420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14800" y="4138560"/>
            <a:ext cx="849240" cy="23040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30440" y="4354560"/>
            <a:ext cx="3999240" cy="191916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30440" y="4354560"/>
            <a:ext cx="3999240" cy="191916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30440" y="4354560"/>
            <a:ext cx="3999240" cy="191916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33840" y="4481640"/>
            <a:ext cx="1801800" cy="15764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560" y="4456080"/>
            <a:ext cx="735120" cy="17924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82320" y="4430880"/>
            <a:ext cx="2033640" cy="10936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3840" y="4481640"/>
            <a:ext cx="1801800" cy="15764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0440" y="4354560"/>
            <a:ext cx="849600" cy="2300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560" y="4456080"/>
            <a:ext cx="735120" cy="17924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282320" y="4430880"/>
            <a:ext cx="2033640" cy="10936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76640" y="4456080"/>
            <a:ext cx="49320" cy="6364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240000" y="1790280"/>
            <a:ext cx="2398680" cy="24368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278160" y="2476440"/>
            <a:ext cx="2449440" cy="16876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354480" y="2273400"/>
            <a:ext cx="1027080" cy="185256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51080" y="3454200"/>
            <a:ext cx="1725840" cy="77292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90760" y="4165200"/>
            <a:ext cx="709920" cy="21420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14800" y="4138560"/>
            <a:ext cx="849240" cy="23040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30440" y="4354560"/>
            <a:ext cx="379440" cy="29376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3840" y="4481640"/>
            <a:ext cx="1801800" cy="15764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30440" y="4354560"/>
            <a:ext cx="849600" cy="2300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560" y="4456080"/>
            <a:ext cx="735120" cy="17924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282320" y="4430880"/>
            <a:ext cx="2033640" cy="10936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240000" y="1790280"/>
            <a:ext cx="2398680" cy="24368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278160" y="2476440"/>
            <a:ext cx="2449440" cy="16876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151080" y="3454200"/>
            <a:ext cx="1725840" cy="77292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290760" y="4165200"/>
            <a:ext cx="709920" cy="21420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14800" y="4138560"/>
            <a:ext cx="849240" cy="23040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30440" y="4354560"/>
            <a:ext cx="849600" cy="2300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278160" y="2476440"/>
            <a:ext cx="2449440" cy="16876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51080" y="3454200"/>
            <a:ext cx="1725840" cy="77292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290760" y="4165200"/>
            <a:ext cx="709920" cy="21420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14800" y="4138560"/>
            <a:ext cx="849240" cy="23040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40000" y="1790280"/>
            <a:ext cx="2398680" cy="24368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78160" y="2476440"/>
            <a:ext cx="2449440" cy="16876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51080" y="3454200"/>
            <a:ext cx="1725840" cy="77292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290760" y="4165200"/>
            <a:ext cx="709920" cy="21420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14800" y="4138560"/>
            <a:ext cx="849240" cy="23040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44680" y="5092560"/>
            <a:ext cx="1270080" cy="39852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National ESDS</a:t>
            </a:r>
            <a:br>
              <a:rPr sz="1000"/>
            </a:b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ITALY (Rome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1480" y="3224160"/>
            <a:ext cx="1270080" cy="39852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National ESDS</a:t>
            </a:r>
            <a:br>
              <a:rPr sz="1000"/>
            </a:b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UK (London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9880" y="4559400"/>
            <a:ext cx="1270080" cy="39852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National ESDS</a:t>
            </a:r>
            <a:br>
              <a:rPr sz="1000"/>
            </a:b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FRANCE (Paris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19440" y="3619440"/>
            <a:ext cx="1270080" cy="55080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National ESDS</a:t>
            </a:r>
            <a:br>
              <a:rPr sz="1000"/>
            </a:b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GERMANY (Berlin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2832120"/>
            <a:ext cx="1269720" cy="55080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National ESDS</a:t>
            </a:r>
            <a:br>
              <a:rPr sz="1000"/>
            </a:b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DENMARK (Copenhagen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42000" y="6143760"/>
            <a:ext cx="1498680" cy="39852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National ESDS </a:t>
            </a:r>
            <a:br>
              <a:rPr sz="1000"/>
            </a:b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CYPRU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(Nicosi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17920" y="6283440"/>
            <a:ext cx="1270080" cy="39852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National ESDS</a:t>
            </a:r>
            <a:br>
              <a:rPr sz="1000"/>
            </a:b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MALTA (Valetta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22640" y="4227480"/>
            <a:ext cx="1270080" cy="39852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National ESDS</a:t>
            </a:r>
            <a:br>
              <a:rPr sz="1000"/>
            </a:b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CZECH (Prague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19640" y="1295280"/>
            <a:ext cx="1270080" cy="55080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National ESDS</a:t>
            </a:r>
            <a:br>
              <a:rPr sz="1000"/>
            </a:b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FINLAND (Helsinki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43680" y="2120760"/>
            <a:ext cx="1600200" cy="39852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National ESDS</a:t>
            </a:r>
            <a:br>
              <a:rPr sz="1000"/>
            </a:b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ESTONIA (Tallinn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91040" y="6019920"/>
            <a:ext cx="1270080" cy="39852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National ESDS</a:t>
            </a:r>
            <a:br>
              <a:rPr sz="1000"/>
            </a:b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GREECE (Athens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9840" y="3537000"/>
            <a:ext cx="1270080" cy="55080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cc"/>
                </a:solidFill>
                <a:latin typeface="Arial"/>
              </a:rPr>
              <a:t>National ESDS</a:t>
            </a:r>
            <a:br>
              <a:rPr sz="1000"/>
            </a:br>
            <a:r>
              <a:rPr b="1" lang="en-GB" sz="1000" spc="-1" strike="noStrike">
                <a:solidFill>
                  <a:srgbClr val="0000cc"/>
                </a:solidFill>
                <a:latin typeface="Arial"/>
              </a:rPr>
              <a:t>NETHERLANDS (Voorbur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41680" y="2057400"/>
            <a:ext cx="1270080" cy="39852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National ESDS</a:t>
            </a:r>
            <a:br>
              <a:rPr sz="1000"/>
            </a:b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NORWAY (Oslo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62360" y="4665600"/>
            <a:ext cx="1876320" cy="39852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National ESDS</a:t>
            </a:r>
            <a:br>
              <a:rPr sz="1000"/>
            </a:b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SLOVENIA (Ljubljan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36960" y="1689120"/>
            <a:ext cx="1270080" cy="55080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National ESDS</a:t>
            </a:r>
            <a:br>
              <a:rPr sz="1000"/>
            </a:b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SWEDEN (Stockholm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2440" y="5524560"/>
            <a:ext cx="1269720" cy="39852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National ESDS</a:t>
            </a:r>
            <a:br>
              <a:rPr sz="1000"/>
            </a:b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SPAIN</a:t>
            </a:r>
            <a:r>
              <a:rPr b="0" lang="en-US" sz="1000" spc="-1" strike="noStrike">
                <a:solidFill>
                  <a:srgbClr val="0000cc"/>
                </a:solidFill>
                <a:latin typeface="Arial"/>
              </a:rPr>
              <a:t> (Madri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92880" y="2587680"/>
            <a:ext cx="1474560" cy="39852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National ESDS </a:t>
            </a:r>
            <a:br>
              <a:rPr sz="1000"/>
            </a:b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LATVIA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(Rig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89520" y="3083040"/>
            <a:ext cx="1498680" cy="39852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National ESDS </a:t>
            </a:r>
            <a:br>
              <a:rPr sz="1000"/>
            </a:b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LITHUANIA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(Vilniu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63840" y="4160880"/>
            <a:ext cx="127008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ntral ESD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UROSTA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X. Webs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development of the web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2004: free dissemination &amp; technical pr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January 2004: predefined tables + publications in 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October 2004: databases + tree + meta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2005: usability &amp;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g 2005: redesign of the web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2005: redesign of data brow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3200" y="45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X. Webs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4 develo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echnological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look and feel but usability impr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ation of additional functions (search facili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matic orientation of data and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of databases on a single web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ation of user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ing system and quality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99920" y="699840"/>
            <a:ext cx="7988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ew Dissemination Polic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5720" y="1785960"/>
            <a:ext cx="8134560" cy="459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87320" indent="0">
              <a:spcBef>
                <a:spcPts val="774"/>
              </a:spcBef>
              <a:buNone/>
              <a:tabLst>
                <a:tab algn="l" pos="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787320" indent="-7873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ategic goal of the new dissemination policy of the European Commission: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“Broadest accessibility criteria based on the principle of public servic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87320" indent="-7873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mplies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ree and equal access to statistical data by all European citizen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984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X. Web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5 develo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reduction of the response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home style, up-to-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navigation/brow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mes as main gate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and topical statistics in the spotligh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ture Challeng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taining and improving access to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ing numbers 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use and user-friendl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ing user support and user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synergy within the ESS via interlinking of website pages of Eurostat and the N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ing coherency between statistical doma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5040" y="36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ree-of-charge a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2320" y="1615680"/>
            <a:ext cx="813420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ed January 2004, fully in operation since Octo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rything disseminated by Eurostat available free of charg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24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http://europa.eu.int/comm/eurostat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f-service approach: no  more tailor-made service 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maining on sa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urostat paper publications, CD-R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cro research (LFS, …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0680" y="826560"/>
            <a:ext cx="7988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urostat products and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23800" y="2115720"/>
            <a:ext cx="5213160" cy="429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87320" indent="-78732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87320" indent="-78732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87320" indent="-78732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 Rel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87320" indent="-78732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efined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87320" indent="-78732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87320" indent="-78732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87320" indent="-78732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87320" indent="-78732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87320" indent="-78732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. Information Me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779480"/>
            <a:ext cx="7772400" cy="367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site presentation of products and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-Boo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News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stat’s mini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References (2-3 issues a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sheets, fact 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hips in Information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 fairs and other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51040" y="2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ub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85720" y="2068560"/>
            <a:ext cx="8134560" cy="389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Eurostat publications (except CD-ROMs/DVDs) are produced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D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vailable online since January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stat still produces paper publications, CD-ROMs and DVDs which are sold via the Publication Office sale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890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. Pub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1752840" cy="251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68360" y="907920"/>
            <a:ext cx="4419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7000" indent="-297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istics in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norama of the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cket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tailed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ear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special compe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9400" y="1373040"/>
            <a:ext cx="1336680" cy="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79400" y="2575080"/>
            <a:ext cx="2013120" cy="180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862600" y="2025720"/>
            <a:ext cx="1263600" cy="1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5481720" y="3193560"/>
            <a:ext cx="1349280" cy="1148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516720" y="3860640"/>
            <a:ext cx="1932120" cy="2729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877080" y="836640"/>
            <a:ext cx="2031840" cy="2870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Image"/>
          <p:cNvPicPr/>
          <p:nvPr/>
        </p:nvPicPr>
        <p:blipFill>
          <a:blip r:embed="rId4"/>
          <a:stretch/>
        </p:blipFill>
        <p:spPr>
          <a:xfrm>
            <a:off x="971640" y="4149720"/>
            <a:ext cx="124128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. Pub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number of paper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ordinated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for electronic publication (P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hip publications per t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r role for Statistics in Focus (S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ion on English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monisation of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I. News Rel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16352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co-ordination with Commission Spokesman’s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-indicators - most important monthly / quarterly economic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-hoc - to announce the other interesting statistics on  economic and social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semin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 agencies under embargo (10:00 CE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website (11:00 CE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journalists via email (11:00 CE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daily press briefing of the European Commission (12:00 C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15:15:18Z</dcterms:created>
  <dc:creator>TOMM</dc:creator>
  <dc:description/>
  <dc:language>en-US</dc:language>
  <cp:lastModifiedBy>Bev Williams</cp:lastModifiedBy>
  <cp:lastPrinted>2003-04-01T15:14:24Z</cp:lastPrinted>
  <dcterms:modified xsi:type="dcterms:W3CDTF">2005-02-11T14:21:37Z</dcterms:modified>
  <cp:revision>279</cp:revision>
  <dc:subject>Quality</dc:subject>
  <dc:title>New Concept for User Support - WGM, July 2004</dc:title>
</cp:coreProperties>
</file>