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719-5214-4F1E-881E-829D2193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A63-711B-4FA9-AFA8-E7C8DE3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D7E-2968-4C75-9F64-9103C681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54E-8716-453C-8DA3-7725F057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C62-6687-4062-A919-73F17C2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BAE-BE8B-4472-A56E-E790826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A2D-3E7E-4A99-B374-3C2DC59B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4B5-2A5D-4D0C-90A6-9553AFC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5CF-8734-4AA3-815A-223B4A6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B3E-B99F-4FB5-B369-854CC7A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641-4E14-452F-A251-C4D6DF2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E1-C2BB-4CB5-9C15-F87723B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01D-2943-4629-89A4-6874CCE5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Joint UNECE/OECD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Work Session on Statistical Dissemination and Communication</a:t>
            </a:r>
            <a:br>
              <a:rPr sz="18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4-15 February 2005, Henley-on-Thames, United 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819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PUTATION MANAGEMENT AND TARGET AUDIENCE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epared by Andrey Maslyanenko and Natalia Pashintse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 of Russia (ROSST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new2" descr=""/>
          <p:cNvPicPr/>
          <p:nvPr/>
        </p:nvPicPr>
        <p:blipFill>
          <a:blip r:embed="rId1"/>
          <a:stretch/>
        </p:blipFill>
        <p:spPr>
          <a:xfrm>
            <a:off x="3613320" y="4419720"/>
            <a:ext cx="19159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&amp;D INSTITUTES, UNIVERSITIES, EDUCATIONAL ESTABLISH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2285640"/>
            <a:ext cx="5790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sors, teachers,  student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ost graduates, librarie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&amp;D institutes and scientific group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f universities and higher education establishment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SINESS CIRCLES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usually data are needed almost tomorr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s a rule data should be presented b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ub-sectors and in detailed nomencla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ime series are to be for a long peri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ata usually required  by regions 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y selected c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SINESS CIRC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ain probl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vailability at the federal and regional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nomencla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the timeliness often is a main probl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SINESS CIRC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putation is to be supported and managed both by patience and accuracy in relation with permanent clients and those who asked a question for the first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NEGAL 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ing role of statistical information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veryone needs reliable knowledge of the reality of  goods, labour and capital mar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733920"/>
            <a:ext cx="6781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ost citizens do not know much about the ROSSTAT activity but are interested in various social and economic phenome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et technology gives general public possibilities to learn m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NEGAL 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rs in Russia has been increased twi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two year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2002-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re than 17 mln.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5 % of population 18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17524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_new2" descr=""/>
          <p:cNvPicPr/>
          <p:nvPr/>
        </p:nvPicPr>
        <p:blipFill>
          <a:blip r:embed="rId3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ONCLUSION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-48276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putation and the trust in statistics may be ensured presenting people more knowledge on stat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putation of NSO depends on the general public opinion which learn statistics mainly from newspapers, radio and TV, i.e. from journal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 close and permanent contacts should 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ed with journal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 active professional position of statisticians in explaining statistical information general public is necessary to ensure the good reputation of 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6800" y="2971800"/>
            <a:ext cx="466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ssage from the Secretary-General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 the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ECD to World Forum on Key Indica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veryone agrees that reliable knowledge of the reality of markets, of economic and social developments, etc. is absolutely critical for the success of a government policy, a political strategy and even an individual enterprise…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olicy-makers require a great deal of knowledge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much of this being reliable statistics in order to make sound policy decision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od reputation and trust in statistics are closely connected with its qualit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4320" y="1294920"/>
            <a:ext cx="5715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y may be expressed in terms of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ccurac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liabil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imelin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ibil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mparabilit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04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Times New Roman"/>
              </a:rPr>
              <a:t>relevance of statistical data </a:t>
            </a:r>
            <a:br>
              <a:rPr sz="2600"/>
            </a:b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Times New Roman"/>
              </a:rPr>
              <a:t>to the needs of use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RGET AUDI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Government and other state power bo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ational organiz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ass 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ies, R&amp;D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education institu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circles, consulting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nd insurance companie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nk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257800" y="2438280"/>
            <a:ext cx="3581280" cy="3108600"/>
            <a:chOff x="5257800" y="2438280"/>
            <a:chExt cx="3581280" cy="3108600"/>
          </a:xfrm>
        </p:grpSpPr>
        <p:sp>
          <p:nvSpPr>
            <p:cNvPr id="55" name=""/>
            <p:cNvSpPr/>
            <p:nvPr/>
          </p:nvSpPr>
          <p:spPr>
            <a:xfrm>
              <a:off x="5257800" y="3911760"/>
              <a:ext cx="3581280" cy="1635120"/>
            </a:xfrm>
            <a:custGeom>
              <a:avLst/>
              <a:gdLst/>
              <a:ahLst/>
              <a:rect l="l" t="t" r="r" b="b"/>
              <a:pathLst>
                <a:path w="376" h="161">
                  <a:moveTo>
                    <a:pt x="323" y="58"/>
                  </a:moveTo>
                  <a:cubicBezTo>
                    <a:pt x="339" y="57"/>
                    <a:pt x="352" y="45"/>
                    <a:pt x="352" y="29"/>
                  </a:cubicBezTo>
                  <a:cubicBezTo>
                    <a:pt x="352" y="13"/>
                    <a:pt x="339" y="0"/>
                    <a:pt x="323" y="0"/>
                  </a:cubicBezTo>
                  <a:cubicBezTo>
                    <a:pt x="306" y="0"/>
                    <a:pt x="293" y="13"/>
                    <a:pt x="293" y="29"/>
                  </a:cubicBezTo>
                  <a:cubicBezTo>
                    <a:pt x="293" y="44"/>
                    <a:pt x="306" y="57"/>
                    <a:pt x="321" y="58"/>
                  </a:cubicBezTo>
                  <a:lnTo>
                    <a:pt x="289" y="88"/>
                  </a:lnTo>
                  <a:lnTo>
                    <a:pt x="256" y="58"/>
                  </a:lnTo>
                  <a:cubicBezTo>
                    <a:pt x="271" y="57"/>
                    <a:pt x="284" y="45"/>
                    <a:pt x="284" y="29"/>
                  </a:cubicBezTo>
                  <a:cubicBezTo>
                    <a:pt x="284" y="13"/>
                    <a:pt x="271" y="0"/>
                    <a:pt x="255" y="0"/>
                  </a:cubicBezTo>
                  <a:cubicBezTo>
                    <a:pt x="239" y="0"/>
                    <a:pt x="226" y="13"/>
                    <a:pt x="226" y="29"/>
                  </a:cubicBezTo>
                  <a:cubicBezTo>
                    <a:pt x="226" y="44"/>
                    <a:pt x="238" y="57"/>
                    <a:pt x="254" y="58"/>
                  </a:cubicBezTo>
                  <a:lnTo>
                    <a:pt x="221" y="88"/>
                  </a:lnTo>
                  <a:lnTo>
                    <a:pt x="189" y="58"/>
                  </a:lnTo>
                  <a:cubicBezTo>
                    <a:pt x="204" y="57"/>
                    <a:pt x="217" y="45"/>
                    <a:pt x="217" y="29"/>
                  </a:cubicBezTo>
                  <a:cubicBezTo>
                    <a:pt x="217" y="13"/>
                    <a:pt x="204" y="0"/>
                    <a:pt x="188" y="0"/>
                  </a:cubicBezTo>
                  <a:cubicBezTo>
                    <a:pt x="172" y="0"/>
                    <a:pt x="159" y="13"/>
                    <a:pt x="159" y="29"/>
                  </a:cubicBezTo>
                  <a:cubicBezTo>
                    <a:pt x="159" y="44"/>
                    <a:pt x="171" y="57"/>
                    <a:pt x="187" y="58"/>
                  </a:cubicBezTo>
                  <a:lnTo>
                    <a:pt x="154" y="88"/>
                  </a:lnTo>
                  <a:lnTo>
                    <a:pt x="121" y="58"/>
                  </a:lnTo>
                  <a:cubicBezTo>
                    <a:pt x="137" y="57"/>
                    <a:pt x="150" y="45"/>
                    <a:pt x="150" y="29"/>
                  </a:cubicBezTo>
                  <a:cubicBezTo>
                    <a:pt x="150" y="13"/>
                    <a:pt x="136" y="0"/>
                    <a:pt x="120" y="0"/>
                  </a:cubicBezTo>
                  <a:cubicBezTo>
                    <a:pt x="104" y="0"/>
                    <a:pt x="91" y="13"/>
                    <a:pt x="91" y="29"/>
                  </a:cubicBezTo>
                  <a:cubicBezTo>
                    <a:pt x="91" y="44"/>
                    <a:pt x="104" y="57"/>
                    <a:pt x="119" y="58"/>
                  </a:cubicBezTo>
                  <a:lnTo>
                    <a:pt x="87" y="88"/>
                  </a:lnTo>
                  <a:lnTo>
                    <a:pt x="54" y="58"/>
                  </a:lnTo>
                  <a:cubicBezTo>
                    <a:pt x="69" y="57"/>
                    <a:pt x="82" y="45"/>
                    <a:pt x="82" y="29"/>
                  </a:cubicBezTo>
                  <a:cubicBezTo>
                    <a:pt x="82" y="13"/>
                    <a:pt x="69" y="0"/>
                    <a:pt x="53" y="0"/>
                  </a:cubicBezTo>
                  <a:cubicBezTo>
                    <a:pt x="37" y="0"/>
                    <a:pt x="24" y="13"/>
                    <a:pt x="24" y="29"/>
                  </a:cubicBezTo>
                  <a:cubicBezTo>
                    <a:pt x="24" y="44"/>
                    <a:pt x="36" y="57"/>
                    <a:pt x="52" y="58"/>
                  </a:cubicBezTo>
                  <a:lnTo>
                    <a:pt x="0" y="106"/>
                  </a:lnTo>
                  <a:lnTo>
                    <a:pt x="31" y="106"/>
                  </a:lnTo>
                  <a:lnTo>
                    <a:pt x="31" y="161"/>
                  </a:lnTo>
                  <a:lnTo>
                    <a:pt x="75" y="161"/>
                  </a:lnTo>
                  <a:lnTo>
                    <a:pt x="75" y="106"/>
                  </a:lnTo>
                  <a:lnTo>
                    <a:pt x="99" y="106"/>
                  </a:lnTo>
                  <a:lnTo>
                    <a:pt x="99" y="161"/>
                  </a:lnTo>
                  <a:lnTo>
                    <a:pt x="142" y="161"/>
                  </a:lnTo>
                  <a:lnTo>
                    <a:pt x="142" y="106"/>
                  </a:lnTo>
                  <a:lnTo>
                    <a:pt x="166" y="106"/>
                  </a:lnTo>
                  <a:lnTo>
                    <a:pt x="166" y="161"/>
                  </a:lnTo>
                  <a:lnTo>
                    <a:pt x="210" y="161"/>
                  </a:lnTo>
                  <a:lnTo>
                    <a:pt x="210" y="106"/>
                  </a:lnTo>
                  <a:lnTo>
                    <a:pt x="233" y="106"/>
                  </a:lnTo>
                  <a:lnTo>
                    <a:pt x="233" y="161"/>
                  </a:lnTo>
                  <a:lnTo>
                    <a:pt x="277" y="161"/>
                  </a:lnTo>
                  <a:lnTo>
                    <a:pt x="277" y="106"/>
                  </a:lnTo>
                  <a:lnTo>
                    <a:pt x="301" y="106"/>
                  </a:lnTo>
                  <a:lnTo>
                    <a:pt x="301" y="161"/>
                  </a:lnTo>
                  <a:lnTo>
                    <a:pt x="344" y="161"/>
                  </a:lnTo>
                  <a:lnTo>
                    <a:pt x="344" y="106"/>
                  </a:lnTo>
                  <a:lnTo>
                    <a:pt x="376" y="106"/>
                  </a:lnTo>
                  <a:lnTo>
                    <a:pt x="323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91120" y="3413160"/>
              <a:ext cx="390600" cy="42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62440" y="3413160"/>
              <a:ext cx="390600" cy="42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4760" y="3413160"/>
              <a:ext cx="399960" cy="42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86720" y="3413160"/>
              <a:ext cx="390240" cy="42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62640" y="3057480"/>
              <a:ext cx="266760" cy="28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05520" y="3057480"/>
              <a:ext cx="266760" cy="28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39040" y="3057480"/>
              <a:ext cx="266400" cy="28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96000" y="2733840"/>
              <a:ext cx="15228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19800" y="2733840"/>
              <a:ext cx="15228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91200" y="2438280"/>
              <a:ext cx="85680" cy="10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VERNMENTAL BO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ments: comprehensive, reliabl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nd trustworthy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ole of the ROSSTAT Methodological Council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Government trusts ROSST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OSSTAT position and estimates are independent of outside influ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ATIONAL ORGANIZ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 cooperation with international organizations and national statistical offices is considered by ROSSTAT as one of priority directions of its activ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OSSTAT replies to questionnaires of more than twenty international organizations including UN Secretariat, OECD, EUROSTAT, UN ECE, ILO, the World bank, IMF, etc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SS MEDIA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15238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ost important aud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i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penn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ass media often reflects the interest of general 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SS 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ole of regional offices of ROSST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ress and Internet conferences are import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 necessity to improve contact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f our communicators with mas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edia and allow journalist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o learn statistics be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396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more than 450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braries among our subscri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trict schedule of publications to be issu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gular supply of pub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y of printing and image of pub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esign of the cover and use of the logo to ensure a publication is easily recogni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303880"/>
            <a:ext cx="6153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  <a:ea typeface="Times New Roman"/>
              </a:rPr>
              <a:t>Hard copies or electronic versions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0840" y="65070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ederal State Statistic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_new2" descr=""/>
          <p:cNvPicPr/>
          <p:nvPr/>
        </p:nvPicPr>
        <p:blipFill>
          <a:blip r:embed="rId1"/>
          <a:stretch/>
        </p:blipFill>
        <p:spPr>
          <a:xfrm>
            <a:off x="8610480" y="6532560"/>
            <a:ext cx="381240" cy="19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7:14:10Z</dcterms:created>
  <dc:creator>Масляненко</dc:creator>
  <dc:description/>
  <dc:language>en-US</dc:language>
  <cp:lastModifiedBy>Bev Williams</cp:lastModifiedBy>
  <dcterms:modified xsi:type="dcterms:W3CDTF">2005-02-11T14:28:56Z</dcterms:modified>
  <cp:revision>52</cp:revision>
  <dc:subject/>
  <dc:title>Joint UNECE/OECD  Work Session on Statistical Dissemination and Communication 14-15 February 2005, Henley-on-Thames, United Kingdom     </dc:title>
</cp:coreProperties>
</file>