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D7AE-2C13-4A46-A9F8-F42FA6A66F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01680" y="4714920"/>
            <a:ext cx="62690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Increasing availability of statistical databases on the web (gender, housing, macroeconomic, tran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Gender and housing on Internet, macroeconomic to be there by 18 Febru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In these conditions what is the added value of a public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General UN policy of reducing paper 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 question of general environment - Page limits reduced all the time; Requirement to review the publication programmes and cut dow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On the other hand the relevance of UNECE statistics has to be proved by publishing mor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Resource constraints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Trends were always published using “extra” resources, which are no longer available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Internal resources have also decre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029200"/>
            <a:ext cx="5867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limit to data that is available in-house or to collect additional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limited to in-house data, should cut the topics by half, then not a logic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ini-Tren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s a by-product of the big publication – relatively easy to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d by the users and by E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 publication would be stopped altogether, we would still have to do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ini-Tren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ich would be much mor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 is a pub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ublication was extended from paper to electronic publications (CD-ROM, websites,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y-made selection, specific release date, clearly specified content, common visual design, a package with simultaneous use of different presentation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products instead – however, probably a simple database access will not be still admitted in this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per format has its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 is not comfortable for reading, often the electronic publications are print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more comfortable to work with – can make notes on paper, will not get l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sier arch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the other hand we should admit that the great advantage of electronic products is that they provide search and browsing cap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have a system of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ccess point from Internet should be s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ing the paper and electronic products (standalone and Inte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per products fewer, slimmer and nic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will not disappear but it has its specific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more targeted to this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storytelling and picture-sh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flashy, attractive, using graphs, maps,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w attention to particularly interesting fi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serve as a pointer to more information (in databases, on websites, etc.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generally this can be extended to all standalone products (printed, CD ROM, …), as they are in the same position in relation to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0A1-EEF5-445A-8B89-6A4E3C8D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05468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F49-2830-4A27-9154-40D9ED61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268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949-46B4-42A2-90D9-1D7D6503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8080" y="16682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0520" y="16682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05468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8080" y="405468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0520" y="405468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9C7-4E8F-40E3-AFB2-8A036F32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16682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105-4C3A-4934-A1C1-DFDA0C60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582-643C-44DE-A41C-49221BFF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9CD-C73A-4C6C-84E6-BD72A7B0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768-42B0-4EB2-9709-8DDA9DA8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5640" y="476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554-053E-4117-B7C0-09A20079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39D-E1E1-4548-AB4D-73DD5219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268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595-F323-4756-A42F-A0306A0D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05468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E2F-EAD5-4066-8137-5B2082DF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-3117600" y="3120120"/>
            <a:ext cx="6742440" cy="505080"/>
          </a:xfrm>
          <a:prstGeom prst="rect">
            <a:avLst/>
          </a:prstGeom>
          <a:gradFill rotWithShape="0">
            <a:gsLst>
              <a:gs pos="0">
                <a:srgbClr val="66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1440"/>
            <a:ext cx="91425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55640" y="16682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0103-1252-467D-8F9A-E3DFADD32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9600" y="55440"/>
          <a:ext cx="47628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55440"/>
                    <a:ext cx="4762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 txBox="1"/>
          <p:nvPr/>
        </p:nvSpPr>
        <p:spPr>
          <a:xfrm rot="16200000">
            <a:off x="-2876760" y="3486960"/>
            <a:ext cx="6192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99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ECE Statistics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6699cc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 Narrow"/>
              </a:rPr>
              <a:t>Reviewing the concept of the UNECE Statistical Yearbook</a:t>
            </a:r>
            <a:endParaRPr b="1" lang="en-US" sz="4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7619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ina Luige, Juraj Rieca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ECE Statistical Divisio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Work Session on Statistical Dissemination and Communication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14-15 February 2005, Henley-on-Thames, United Kingdom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Reasons for reviewing the concep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Increasing availability of UNECE statistical databases on the web</a:t>
            </a:r>
            <a:r>
              <a:rPr b="1" lang="en-GB" sz="3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2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macroeconomic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housing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gender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transport</a:t>
            </a:r>
            <a:endParaRPr b="0" lang="en-US" sz="3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General UN policy favouring electronic to paper dissemination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 Narrow"/>
              </a:rPr>
              <a:t>documents, publications, …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Resource constraints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Considerations 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Contents - how extensive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There is an audience for such kind of a product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Wide range of topics appreciated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Requires a lot of resources to produce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Format: paper, Internet (database or Excel), CD-ROM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The promotional role of the paper format – </a:t>
            </a:r>
            <a:r>
              <a:rPr b="0" i="1" lang="en-GB" sz="2600" spc="-1" strike="noStrike">
                <a:solidFill>
                  <a:srgbClr val="333399"/>
                </a:solidFill>
                <a:latin typeface="Arial Narrow"/>
              </a:rPr>
              <a:t>Mini-Trends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What is primary – electronic or paper version?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Possibilities offered by electronic media – e.g. maps, interactive graphs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No decision yet 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 Narrow"/>
              </a:rPr>
              <a:t>Midi-Trends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 (+ CD-ROM) experiment in 2005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Some questions on the future of publications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3304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What is a publication?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speak about dissemination products instead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distinguish from a simple data access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Paper format has its advantages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… and its faithful reader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To have a system of products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finding the right combination of paper, electronic, ready-made tables, access to databases, graphs, maps, etc.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 Narrow"/>
              </a:rPr>
              <a:t>primary a (common) database, all other products outputs from this</a:t>
            </a:r>
            <a:endParaRPr b="0" lang="en-US" sz="26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Paper products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3000" spc="-1" strike="noStrike">
                <a:solidFill>
                  <a:srgbClr val="333399"/>
                </a:solidFill>
                <a:latin typeface="Arial Narrow"/>
              </a:rPr>
              <a:t>fewer, slimmer and nicer</a:t>
            </a:r>
            <a:endParaRPr b="0" lang="en-US" sz="3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0:40:31Z</dcterms:created>
  <dc:creator>Juraj Riecan</dc:creator>
  <dc:description/>
  <dc:language>en-US</dc:language>
  <cp:lastModifiedBy>Bev Williams</cp:lastModifiedBy>
  <dcterms:modified xsi:type="dcterms:W3CDTF">2005-02-11T15:08:17Z</dcterms:modified>
  <cp:revision>130</cp:revision>
  <dc:subject/>
  <dc:title>Slide 1</dc:title>
</cp:coreProperties>
</file>