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15D0-6586-4289-B6F4-BADFC5C150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301680" y="4714920"/>
            <a:ext cx="62690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 Narrow"/>
              </a:rPr>
              <a:t>Increasing availability of statistical databases on the web (gender, housing, macroeconomic, trans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Gender and housing on Internet, macroeconomic to be there by 18 Febru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In these conditions what is the added value of a publica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 Narrow"/>
              </a:rPr>
              <a:t>General UN policy of reducing paper doc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A question of general environment - Page limits reduced all the time; Requirement to review the publication programmes and cut down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On the other hand the relevance of UNECE statistics has to be proved by publishing mor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 Narrow"/>
              </a:rPr>
              <a:t>Resource constraints</a:t>
            </a:r>
            <a:br>
              <a:rPr sz="1400"/>
            </a:br>
            <a:r>
              <a:rPr b="0" lang="en-GB" sz="1400" spc="-1" strike="noStrike">
                <a:solidFill>
                  <a:srgbClr val="3333cc"/>
                </a:solidFill>
                <a:latin typeface="Arial Narrow"/>
              </a:rPr>
              <a:t>Trends were always published using “extra” resources, which are no longer available</a:t>
            </a:r>
            <a:br>
              <a:rPr sz="1400"/>
            </a:br>
            <a:r>
              <a:rPr b="0" lang="en-GB" sz="1400" spc="-1" strike="noStrike">
                <a:solidFill>
                  <a:srgbClr val="3333cc"/>
                </a:solidFill>
                <a:latin typeface="Arial Narrow"/>
              </a:rPr>
              <a:t>Internal resources have also decre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5029200"/>
            <a:ext cx="5867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limit to data that is available in-house or to collect additional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limited to in-house data, should cut the topics by half, then not a logic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ini-Tren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s a by-product of the big publication – relatively easy to 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d by the users and by E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he publication would be stopped altogether, we would still have to do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ini-Tren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ich would be much more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hat is a publ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tion of publication was extended from paper to electronic publications (CD-ROM, websites,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y-made selection, specific release date, clearly specified content, common visual design, a package with simultaneous use of different presentation form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der products instead – however, probably a simple database access will not be still admitted in this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per format has its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 is not comfortable for reading, often the electronic publications are print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more comfortable to work with – can make notes on paper, will not get l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sier arch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the other hand we should admit that the great advantage of electronic products is that they provide search and browsing cap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 have a system of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ccess point from Internet should be s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ing the paper and electronic products (standalone and Inter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per products fewer, slimmer and nic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will not disappear but it has its specific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more targeted to this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storytelling and picture-sh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flashy, attractive, using graphs, maps,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w attention to particularly interesting fi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serve as a pointer to more information (in databases, on websites, etc.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generally this can be extended to all standalone products (printed, CD ROM, …), as they are in the same position in relation to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99A-56AB-4092-94C4-4925CD6F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5640" y="405468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DFA-FCE3-4E5A-B4B6-3EBDB2BD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2680" y="16682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640" y="405468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2680" y="405468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445-C3A3-4315-96F9-38C50C6A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8080" y="16682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0520" y="16682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5640" y="405468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8080" y="405468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0520" y="405468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5D6-79BF-4806-92B3-C096B217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5640" y="166824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D99-1F09-4195-AB41-15508E16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29A-CE01-4A0F-9DE0-521945A8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2680" y="166824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05A-D255-4E0A-A530-FAEB9003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C53-6948-4C20-A46E-09F8F2C2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55640" y="476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B82D-5F05-4083-B4E6-870160E2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2680" y="166824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405468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8D1-103A-498F-A077-68C70F7A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2680" y="16682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2680" y="405468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E4F-E641-43D2-B29D-7CD2CE9A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2680" y="16682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405468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9D9-9F5D-4FD0-8CE1-87E3066D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400000">
            <a:off x="-3117600" y="3120120"/>
            <a:ext cx="6742440" cy="505080"/>
          </a:xfrm>
          <a:prstGeom prst="rect">
            <a:avLst/>
          </a:prstGeom>
          <a:gradFill rotWithShape="0">
            <a:gsLst>
              <a:gs pos="0">
                <a:srgbClr val="66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1440"/>
            <a:ext cx="914256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55640" y="166824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E108-6A13-401B-90B6-D0372C068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39600" y="55440"/>
          <a:ext cx="476280" cy="4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55440"/>
                    <a:ext cx="47628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 txBox="1"/>
          <p:nvPr/>
        </p:nvSpPr>
        <p:spPr>
          <a:xfrm rot="16200000">
            <a:off x="-2876760" y="3486960"/>
            <a:ext cx="619272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699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NECE Statistics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6699cc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Arial Narrow"/>
              </a:rPr>
              <a:t>Reviewing the concept of the UNECE Statistical Yearbook</a:t>
            </a:r>
            <a:endParaRPr b="1" lang="en-US" sz="4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76197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indent="0" algn="ctr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iina Luige, Juraj Riecan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indent="0" algn="ctr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ECE Statistical Division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Work Session on Statistical Dissemination and Communication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14-15 February 2005, Henley-on-Thames, United Kingdom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 Narrow"/>
              </a:rPr>
              <a:t>Reasons for reviewing the concept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Increasing availability of UNECE statistical databases on the web</a:t>
            </a:r>
            <a:r>
              <a:rPr b="1" lang="en-GB" sz="3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32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macroeconomic</a:t>
            </a: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housing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gender</a:t>
            </a: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transport</a:t>
            </a:r>
            <a:endParaRPr b="0" lang="en-US" sz="3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General UN policy favouring electronic to paper dissemination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 Narrow"/>
              </a:rPr>
              <a:t>documents, publications, …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Resource constraints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 Narrow"/>
              </a:rPr>
              <a:t>Considerations 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Contents - how extensive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There is an audience for such kind of a product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Wide range of topics appreciated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Requires a lot of resources to produce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Format: paper, Internet (database or Excel), CD-ROM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The promotional role of the paper format – </a:t>
            </a:r>
            <a:r>
              <a:rPr b="0" i="1" lang="en-GB" sz="2600" spc="-1" strike="noStrike">
                <a:solidFill>
                  <a:srgbClr val="333399"/>
                </a:solidFill>
                <a:latin typeface="Arial Narrow"/>
              </a:rPr>
              <a:t>Mini-Trends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What is primary – electronic or paper version?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Possibilities offered by electronic media – e.g. maps, interactive graphs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No decision yet 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 Narrow"/>
              </a:rPr>
              <a:t>Midi-Trends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 (+ CD-ROM) experiment in 2005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 Narrow"/>
              </a:rPr>
              <a:t>Some questions on the future of publications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3304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What is a publication?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speak about dissemination products instead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distinguish from a simple data access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Paper format has its advantages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… and its faithful reader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To have a system of products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finding the right combination of paper, electronic, ready-made tables, access to databases, graphs, maps, etc.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primary a (common) database, all other products outputs from this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Paper products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fewer, slimmer and nicer</a:t>
            </a:r>
            <a:endParaRPr b="0" lang="en-US" sz="3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20:40:31Z</dcterms:created>
  <dc:creator>Juraj Riecan</dc:creator>
  <dc:description/>
  <dc:language>en-US</dc:language>
  <cp:lastModifiedBy>Bev Williams</cp:lastModifiedBy>
  <dcterms:modified xsi:type="dcterms:W3CDTF">2005-02-11T15:08:17Z</dcterms:modified>
  <cp:revision>130</cp:revision>
  <dc:subject/>
  <dc:title>Slide 1</dc:title>
</cp:coreProperties>
</file>