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672-96C1-4049-9104-C91FEF44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445-61E0-40A7-938D-462A8706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3E93-9C0E-412B-AF31-6C64F35A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E71-AC0A-4ADD-BB92-8F1FF8B2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F30F-E1EA-4033-AFAE-8F8E472E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2D59-06F8-4FD9-8ACD-A9F1845E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349C-9814-4C69-BFFF-A7081FBD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C96E-6556-40AC-A267-E1B29B24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B850-34F4-4AC0-881B-CC683950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2CB9-6638-46E9-B441-5C70977A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7B63-BD86-4C50-A169-1E35A74B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262-457D-4F9E-ABF4-619AB5C3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8E93-9434-4661-8D32-A1C22738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6769-9445-41C7-8D3A-413277D2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22DB-4A65-4066-A477-817FB7FF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5484-B832-4B36-97CA-E7F043E8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990B-CC06-4304-8656-D55C8DB7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330-D112-47DE-9B06-590712E1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58E-7099-4967-A630-53AC32C7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F9E-797E-4B16-ADB6-43E4E8C4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BE20-5F05-4E66-9E26-BD09E2C4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C96-77ED-4E0D-A449-5CB19091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ABD-F80A-4238-B443-61ACA126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2A6C-F1C7-4AEC-B7D3-EA3581D4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DA6B-570F-4E97-B73A-BA9F37B38B66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EF78-18CC-473E-8DDB-3BEB1B9F4CB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Moving Away From the Big Paper Repor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lleen Blessin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U.S. Energy Information Administr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ebruary 2005  Henley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fferent Paths Away From Paper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rite the report for paper and duplicate it on the web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rite the report for paper but also develop a tailored web version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reate an entirely new product specifically for the web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motional Impacts of Leaving Pap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ill I still have a job?  What do I hand out at conferences?  What is the product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Incentives to make the change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Not first but not las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Web hits competi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ow customer resistan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reative outle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Interesting Consequences:  Updates and Expect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hen is it finished?  How do we update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ingle package vs. rolling updat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ustomer Expectation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ependence on the in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ssumptions about availability and timelines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ntingency plan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7:42:10Z</dcterms:created>
  <dc:creator>Collen Blessing</dc:creator>
  <dc:description/>
  <dc:language>en-US</dc:language>
  <cp:lastModifiedBy>Bev Williams</cp:lastModifiedBy>
  <dcterms:modified xsi:type="dcterms:W3CDTF">2005-02-11T14:30:05Z</dcterms:modified>
  <cp:revision>2</cp:revision>
  <dc:subject/>
  <dc:title>Moving Away From the Big Paper Report</dc:title>
</cp:coreProperties>
</file>