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64DA836-9479-46EB-88FF-64580BA6A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rcebook - Published by BJS, produced by University of Alba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30 year history as critical resource in criminal justice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Statistics from range of sources: BJS, other government agencies, non-government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Over 600 ta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Book, CD-ROM, and website  Most expensive item we publish and Traditional resource in the fie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asons for the stud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Maturing of web technologies related to information dissemination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- Mandates for increased access to government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Questions of role of a statistical abstract in this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udy, conducted by Dr. Carol Hert, Information Scientist from Syracuse 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n for about 15 months and concluded Summer 2004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. A. Provides most commonly used statistics in one spo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. Provides useful starting point for understanding a domain’s statistic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. Points to other sources with more detailed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. Predictable format increases access to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II. A. PDF versions of files challenging to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. CD-ROM’s not used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. Organizational structure utilized in paper did not “add value” in usability tasks.  However, being able to link to earlier versions of tables was a plu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V. A. Metadata in con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. Different presentation options (charts, graphs)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. Enhanced indexing at table column/row level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. Downloadable datasets for manipu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ed to break or unlink the print and the web versions.  Not enough resources to do both.  Web is the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89E5-1964-4867-8CC0-A90E8D0AB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6857-B680-4EBD-89D6-891952AB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D1B7-83A0-44F6-9581-67C5C67A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4E07-3AF9-4550-A58E-026F61D2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0356-2E5E-42F1-9AC8-F1CD8539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094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83C8-B098-4715-B380-1FB7D491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445E-212B-4D54-9ADF-E67852BF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C12D-479D-426E-8F99-A7412F2A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6567-7D49-4466-81BD-094FACE9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9516-50D2-486D-B1DC-A47CD99A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CEAE-7D29-47E5-8B63-ECF396A31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232B-6073-4EE1-9743-AC1B20AB7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0320" y="6261120"/>
            <a:ext cx="3346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Bureau of Justice Statistic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BC7C-1EB6-418C-AE66-766A396CBD4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22AB-56B3-45B9-BC09-D2C78F3D57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6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28440" y="2057400"/>
            <a:ext cx="6553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 is the Future of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atistical Compendia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n the 21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st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ianne W. Zawitz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. Bureau of Justice 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udy of BJS Sourcebook of Criminal Justice Statistic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ermine current knowledge about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cument analysis, site visits, focus group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phi stud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find consensus on the future and on requirements for achieving that missio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ility stu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look at a compendium in the information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verall Study Finding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749"/>
              </a:spcAft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ill a recognized need for the functions of a statistical compend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749"/>
              </a:spcAft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ge online impacted by general usability issues, behavior of users of the web, and lag of data from original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ormation media have different “affordances” and may not be transfer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ire for new features that use current techno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JS decisions about the future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f Sourceboo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xt edition will be last printed edition and no more CD-ROM’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bsite will be improved based on usability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JS data will not be repurposed.  May use web services so latest data will be available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data standard will be developed by BJ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7T20:24:06Z</dcterms:created>
  <dc:creator>OJP Laptop</dc:creator>
  <dc:description/>
  <dc:language>en-US</dc:language>
  <cp:lastModifiedBy>Bev Williams</cp:lastModifiedBy>
  <dcterms:modified xsi:type="dcterms:W3CDTF">2005-02-11T15:12:23Z</dcterms:modified>
  <cp:revision>72</cp:revision>
  <dc:subject/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74307298</vt:r8>
  </property>
  <property fmtid="{D5CDD505-2E9C-101B-9397-08002B2CF9AE}" pid="3" name="_AuthorEmail">
    <vt:lpwstr>Marianne.Zawitz@usdoj.gov</vt:lpwstr>
  </property>
  <property fmtid="{D5CDD505-2E9C-101B-9397-08002B2CF9AE}" pid="4" name="_AuthorEmailDisplayName">
    <vt:lpwstr>Zawitz, Marianne</vt:lpwstr>
  </property>
  <property fmtid="{D5CDD505-2E9C-101B-9397-08002B2CF9AE}" pid="5" name="_EmailSubject">
    <vt:lpwstr>WS on Statistical Dissemination and Communication (14-15 February, Henley-on-Thames, UK)</vt:lpwstr>
  </property>
</Properties>
</file>