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576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7044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8108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576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7044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81080" y="91404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2576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7044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8108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2576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7044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1080" y="91404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62000" y="0"/>
            <a:ext cx="7182000" cy="343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62000" y="6515280"/>
            <a:ext cx="7182000" cy="342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981080" y="6858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419040"/>
            <a:ext cx="64008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Lucida Sans"/>
              </a:rPr>
              <a:t>Presenting Data and Statistical Web Site Guide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0"/>
            <a:ext cx="7162920" cy="257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Lucida Sans"/>
              </a:rPr>
              <a:t>UNECE Work Session on Statistical Dissemination and Communication          14-15 February 2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Lucida Sans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"/>
          <p:cNvSpPr/>
          <p:nvPr/>
        </p:nvSpPr>
        <p:spPr>
          <a:xfrm>
            <a:off x="1981080" y="6553080"/>
            <a:ext cx="5181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and Statistical Web Site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7619760" y="65527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5C55-2A98-47E1-9D6C-A82633A3BAA3}" type="slidenum">
              <a:rPr b="1" lang="en-GB" sz="14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62000" y="0"/>
            <a:ext cx="7182000" cy="35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itle%20slide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43280" y="6477120"/>
            <a:ext cx="7200720" cy="380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0"/>
            <a:ext cx="7162920" cy="35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1599840"/>
            <a:ext cx="670536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  <a:p>
            <a:pPr lvl="1" marL="457200" indent="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326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326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326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326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326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720" y="1599840"/>
            <a:ext cx="670536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Presenting Data - Basic principles of dissemination of official statistics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114800"/>
            <a:ext cx="6705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Lucida Sans"/>
              </a:rPr>
              <a:t>Ed Swires-Hennes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Lucida Sans"/>
              </a:rPr>
              <a:t>Main Areas</a:t>
            </a:r>
            <a:endParaRPr b="1" lang="en-US" sz="44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"/>
              </a:rPr>
              <a:t>Quantification – Tabl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"/>
              </a:rPr>
              <a:t>Illustration – Chart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"/>
              </a:rPr>
              <a:t>Geography – Maps (cloropleths)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"/>
              </a:rPr>
              <a:t>Description - Tex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Lucida Sans"/>
              </a:rPr>
              <a:t>Understanding</a:t>
            </a:r>
            <a:endParaRPr b="1" lang="en-US" sz="44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80 per cent of the public are number bli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95 per cent of media personnel are number bli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t always an easy mess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atistician ‘expert’ – precision, in tables and terminolog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ipient – not ‘expert’ but needs mess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Lucida Sans"/>
              </a:rPr>
              <a:t>Rationale</a:t>
            </a:r>
            <a:endParaRPr b="1" lang="en-US" sz="44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Messages not new but need re-enforcem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Computers don’t always help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Principles apply to all output media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rust, reliability and honesty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Remember the user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5:36:41Z</dcterms:created>
  <dc:creator>Ed Swires-Hennessy</dc:creator>
  <dc:description/>
  <dc:language>en-US</dc:language>
  <cp:lastModifiedBy>Consultant</cp:lastModifiedBy>
  <dcterms:modified xsi:type="dcterms:W3CDTF">2005-02-14T14:09:04Z</dcterms:modified>
  <cp:revision>35</cp:revision>
  <dc:subject/>
  <dc:title>Presenting Data</dc:title>
</cp:coreProperties>
</file>