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576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7044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8108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576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7044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81080" y="91404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2576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70440" y="243792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8108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2576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70440" y="4308840"/>
            <a:ext cx="223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91404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34280" y="430884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4280" y="2437920"/>
            <a:ext cx="3383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81080" y="43088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62000" y="0"/>
            <a:ext cx="7182000" cy="343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62000" y="6515280"/>
            <a:ext cx="7182000" cy="34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81080" y="6858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419040"/>
            <a:ext cx="64008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Lucida Sans"/>
              </a:rPr>
              <a:t>Presenting Data and Statistical Web Site Guid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0"/>
            <a:ext cx="7162920" cy="257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Lucida Sans"/>
              </a:rPr>
              <a:t>UNECE Work Session on Statistical Dissemination and Communication          14-15 February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Lucida Sans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"/>
          <p:cNvSpPr/>
          <p:nvPr/>
        </p:nvSpPr>
        <p:spPr>
          <a:xfrm>
            <a:off x="1981080" y="6553080"/>
            <a:ext cx="5181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and Statistical Web Site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7619760" y="65527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0F6E-EE7F-4DCD-B0DF-88C60430220C}" type="slidenum">
              <a:rPr b="1" lang="en-GB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62000" y="0"/>
            <a:ext cx="7182000" cy="35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itle%20slide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43280" y="6477120"/>
            <a:ext cx="7200720" cy="380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0"/>
            <a:ext cx="7162920" cy="35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326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326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326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Guidelines for presenting statistics on web sites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114800"/>
            <a:ext cx="67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Lucida Sans"/>
              </a:rPr>
              <a:t>Ed Swires-Henne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Development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Started reviews in 1998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ritten for UK colleagues but made freely available on web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Saw many difficulti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eveloped guidelin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Today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1080" y="24379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views highlight user perspectiv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Points are specific to a particular site but …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dea is to provoke questions of readers’ web sit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Promote change and improvem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Good practice sites</a:t>
            </a:r>
            <a:endParaRPr b="1" lang="en-US" sz="4400" spc="-1" strike="noStrike">
              <a:solidFill>
                <a:srgbClr val="8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20570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New Zealand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celand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Lucida Sans"/>
              </a:rPr>
              <a:t>Sites for impr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495680"/>
            <a:ext cx="693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UK – not 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lgeria – too many graphics and no upd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5:36:41Z</dcterms:created>
  <dc:creator>Ed Swires-Hennessy</dc:creator>
  <dc:description/>
  <dc:language>en-US</dc:language>
  <cp:lastModifiedBy>Consultant</cp:lastModifiedBy>
  <dcterms:modified xsi:type="dcterms:W3CDTF">2005-02-14T14:08:27Z</dcterms:modified>
  <cp:revision>35</cp:revision>
  <dc:subject/>
  <dc:title>Presenting Data</dc:title>
</cp:coreProperties>
</file>