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81080" y="9140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81080" y="2437920"/>
            <a:ext cx="6934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981080" y="4308840"/>
            <a:ext cx="6934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81080" y="9140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Lucida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81080" y="2437920"/>
            <a:ext cx="33836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534280" y="2437920"/>
            <a:ext cx="33836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981080" y="4308840"/>
            <a:ext cx="33836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534280" y="4308840"/>
            <a:ext cx="33836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81080" y="9140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Lucida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981080" y="2437920"/>
            <a:ext cx="2232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325760" y="2437920"/>
            <a:ext cx="2232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70440" y="2437920"/>
            <a:ext cx="2232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981080" y="4308840"/>
            <a:ext cx="2232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325760" y="4308840"/>
            <a:ext cx="2232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70440" y="4308840"/>
            <a:ext cx="2232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81080" y="9140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981080" y="2437920"/>
            <a:ext cx="693432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81080" y="9140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Lucid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81080" y="2437920"/>
            <a:ext cx="69343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81080" y="9140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81080" y="2437920"/>
            <a:ext cx="33836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34280" y="2437920"/>
            <a:ext cx="33836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81080" y="9140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981080" y="914040"/>
            <a:ext cx="701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81080" y="9140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981080" y="2437920"/>
            <a:ext cx="33836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534280" y="2437920"/>
            <a:ext cx="33836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981080" y="4308840"/>
            <a:ext cx="33836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81080" y="9140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981080" y="2437920"/>
            <a:ext cx="693432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81080" y="9140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981080" y="2437920"/>
            <a:ext cx="33836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534280" y="2437920"/>
            <a:ext cx="33836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534280" y="4308840"/>
            <a:ext cx="33836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81080" y="9140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981080" y="2437920"/>
            <a:ext cx="33836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534280" y="2437920"/>
            <a:ext cx="33836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981080" y="4308840"/>
            <a:ext cx="6934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81080" y="9140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Lucid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981080" y="2437920"/>
            <a:ext cx="6934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981080" y="4308840"/>
            <a:ext cx="6934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81080" y="9140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81080" y="2437920"/>
            <a:ext cx="33836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534280" y="2437920"/>
            <a:ext cx="33836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981080" y="4308840"/>
            <a:ext cx="33836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534280" y="4308840"/>
            <a:ext cx="33836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81080" y="9140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Lucid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981080" y="2437920"/>
            <a:ext cx="2232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325760" y="2437920"/>
            <a:ext cx="2232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670440" y="2437920"/>
            <a:ext cx="2232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981080" y="4308840"/>
            <a:ext cx="2232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325760" y="4308840"/>
            <a:ext cx="2232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670440" y="4308840"/>
            <a:ext cx="2232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81080" y="9140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81080" y="2437920"/>
            <a:ext cx="69343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81080" y="9140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981080" y="2437920"/>
            <a:ext cx="33836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534280" y="2437920"/>
            <a:ext cx="33836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81080" y="9140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81080" y="914040"/>
            <a:ext cx="701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81080" y="9140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81080" y="2437920"/>
            <a:ext cx="33836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34280" y="2437920"/>
            <a:ext cx="33836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81080" y="4308840"/>
            <a:ext cx="33836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81080" y="9140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81080" y="2437920"/>
            <a:ext cx="33836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34280" y="2437920"/>
            <a:ext cx="33836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534280" y="4308840"/>
            <a:ext cx="33836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81080" y="9140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81080" y="2437920"/>
            <a:ext cx="33836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34280" y="2437920"/>
            <a:ext cx="33836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981080" y="4308840"/>
            <a:ext cx="6934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962000" y="0"/>
            <a:ext cx="7182000" cy="3430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962000" y="6515280"/>
            <a:ext cx="7182000" cy="342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981080" y="6858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981080" y="419040"/>
            <a:ext cx="640080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Lucida Sans"/>
              </a:rPr>
              <a:t>Presenting Data and Statistical Web Site Guidel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81080" y="0"/>
            <a:ext cx="7162920" cy="2570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Lucida Sans"/>
              </a:rPr>
              <a:t>UNECE Work Session on Statistical Dissemination and Communication          14-15 February 200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81080" y="9140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Lucida Sans"/>
              </a:rPr>
              <a:t>Click to edit the title text format</a:t>
            </a:r>
            <a:endParaRPr b="1" lang="en-US" sz="2000" spc="-1" strike="noStrike">
              <a:solidFill>
                <a:srgbClr val="800000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981080" y="2437920"/>
            <a:ext cx="69343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33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"/>
          <p:cNvSpPr/>
          <p:nvPr/>
        </p:nvSpPr>
        <p:spPr>
          <a:xfrm>
            <a:off x="1981080" y="6553080"/>
            <a:ext cx="51818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senting Data and Statistical Web Site Guide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7619760" y="6552720"/>
            <a:ext cx="15238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Arial Unicode MS"/>
              </a:defRPr>
            </a:lvl1pPr>
          </a:lstStyle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A49A9-C1F4-4C33-AD8D-FC0DF873A507}" type="slidenum">
              <a:rPr b="1" lang="en-GB" sz="1400" spc="-1" strike="noStrike">
                <a:solidFill>
                  <a:srgbClr val="ffffff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962000" y="0"/>
            <a:ext cx="7182000" cy="3581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Title%20slide%20copy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943280" y="6477120"/>
            <a:ext cx="7200720" cy="3808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0"/>
            <a:ext cx="7162920" cy="3581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33720" y="1599840"/>
            <a:ext cx="6705360" cy="1143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27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Lucida Sans"/>
            </a:endParaRPr>
          </a:p>
          <a:p>
            <a:pPr lvl="1" marL="457200" indent="0" algn="ct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  <a:p>
            <a:pPr lvl="2" marL="914400" algn="ctr">
              <a:spcBef>
                <a:spcPts val="326"/>
              </a:spcBef>
              <a:buClr>
                <a:srgbClr val="000000"/>
              </a:buClr>
              <a:buFont typeface="Lucida San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  <a:p>
            <a:pPr lvl="3" marL="1371600" algn="ctr">
              <a:spcBef>
                <a:spcPts val="326"/>
              </a:spcBef>
              <a:buClr>
                <a:srgbClr val="000000"/>
              </a:buClr>
              <a:buFont typeface="Lucida San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  <a:p>
            <a:pPr lvl="4" marL="1828800" algn="ctr">
              <a:spcBef>
                <a:spcPts val="326"/>
              </a:spcBef>
              <a:buClr>
                <a:srgbClr val="000000"/>
              </a:buClr>
              <a:buFont typeface="Lucida San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  <a:p>
            <a:pPr lvl="5" marL="1828800">
              <a:spcBef>
                <a:spcPts val="326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  <a:p>
            <a:pPr lvl="6" marL="1828800">
              <a:spcBef>
                <a:spcPts val="326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33720" y="1599840"/>
            <a:ext cx="6705360" cy="1143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</a:rPr>
              <a:t>Guidelines for presenting statistics on web sites</a:t>
            </a:r>
            <a:endParaRPr b="1" lang="en-US" sz="36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8" name=""/>
          <p:cNvSpPr/>
          <p:nvPr/>
        </p:nvSpPr>
        <p:spPr>
          <a:xfrm>
            <a:off x="2133720" y="4114800"/>
            <a:ext cx="6705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Lucida Sans"/>
              </a:rPr>
              <a:t>Ed Swires-Henness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81080" y="9140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Lucida Sans"/>
              </a:rPr>
              <a:t>Development</a:t>
            </a:r>
            <a:endParaRPr b="1" lang="en-US" sz="4400" spc="-1" strike="noStrike">
              <a:solidFill>
                <a:srgbClr val="800000"/>
              </a:solidFill>
              <a:latin typeface="Lucida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981080" y="2437920"/>
            <a:ext cx="69343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Started reviews in 1998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Written for UK colleagues but made freely available on web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Saw many difficulties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Developed guidelines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81080" y="9140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Lucida Sans"/>
              </a:rPr>
              <a:t>Today</a:t>
            </a:r>
            <a:endParaRPr b="1" lang="en-US" sz="4400" spc="-1" strike="noStrike">
              <a:solidFill>
                <a:srgbClr val="800000"/>
              </a:solidFill>
              <a:latin typeface="Lucida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981080" y="2437920"/>
            <a:ext cx="69343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Reviews highlight user perspective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Points are specific to a particular site but …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Idea is to provoke questions of readers’ web sites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Promote change and improvement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81080" y="9140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Lucida Sans"/>
              </a:rPr>
              <a:t>Good practice sites</a:t>
            </a:r>
            <a:endParaRPr b="1" lang="en-US" sz="4400" spc="-1" strike="noStrike">
              <a:solidFill>
                <a:srgbClr val="800000"/>
              </a:solidFill>
              <a:latin typeface="Lucida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81080" y="2057040"/>
            <a:ext cx="6934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New Zealand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Iceland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" name=""/>
          <p:cNvSpPr/>
          <p:nvPr/>
        </p:nvSpPr>
        <p:spPr>
          <a:xfrm>
            <a:off x="1981080" y="3352680"/>
            <a:ext cx="701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Lucida Sans"/>
              </a:rPr>
              <a:t>Sites for improv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4495680"/>
            <a:ext cx="69343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51"/>
              </a:spcBef>
              <a:buClr>
                <a:srgbClr val="33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UK – not user friendl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51"/>
              </a:spcBef>
              <a:buClr>
                <a:srgbClr val="33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Algeria – too many graphics and no upd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4T15:36:41Z</dcterms:created>
  <dc:creator>Ed Swires-Hennessy</dc:creator>
  <dc:description/>
  <dc:language>en-US</dc:language>
  <cp:lastModifiedBy>Consultant</cp:lastModifiedBy>
  <dcterms:modified xsi:type="dcterms:W3CDTF">2005-02-14T14:08:27Z</dcterms:modified>
  <cp:revision>35</cp:revision>
  <dc:subject/>
  <dc:title>Presenting Data</dc:title>
</cp:coreProperties>
</file>