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B1E-3C09-4D87-BE9C-9ABE5B48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EB4-6201-4001-A20A-C634DFF2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747-BC21-428A-BC03-85BBA991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A15-2436-41D5-A8A4-1DD34BBB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3A4-BCC6-4556-BC2A-F0BEE520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E68-DAC9-47BE-BE81-7144DE23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84B-BA5F-4BE9-B3FA-DB511457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2BF-FA51-430D-BE3A-F62D5DEF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9DB-C88E-4D50-8A62-4FE168BD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AB9-3FC8-412D-88D9-DB374A7A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139-A1DD-4C9F-AC3E-5D0288B9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B11-6263-4D89-989F-6711EB6A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7FA19E-E92E-4510-8E17-7A10BA83ACD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35120" y="882360"/>
            <a:ext cx="728352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The dissemination of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Statistics–the next steps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Statistics Netherland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87800" y="537336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Sebastian van den Elshou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31880" y="477720"/>
            <a:ext cx="734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Statistics Netherlands-dissemination chan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52120" y="1773360"/>
            <a:ext cx="6883560" cy="4872600"/>
            <a:chOff x="1752120" y="1773360"/>
            <a:chExt cx="6883560" cy="4872600"/>
          </a:xfrm>
        </p:grpSpPr>
        <p:sp>
          <p:nvSpPr>
            <p:cNvPr id="48" name=""/>
            <p:cNvSpPr/>
            <p:nvPr/>
          </p:nvSpPr>
          <p:spPr>
            <a:xfrm>
              <a:off x="2298600" y="2108160"/>
              <a:ext cx="5040" cy="37591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03560" y="5329080"/>
              <a:ext cx="63259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03560" y="4794120"/>
              <a:ext cx="63259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3560" y="4255920"/>
              <a:ext cx="6325920" cy="1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03560" y="3719520"/>
              <a:ext cx="6325920" cy="3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3560" y="3182760"/>
              <a:ext cx="63259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3560" y="2646360"/>
              <a:ext cx="632592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3560" y="2108160"/>
              <a:ext cx="6325920" cy="46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3560" y="5867280"/>
              <a:ext cx="63259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298600" y="5867280"/>
              <a:ext cx="5040" cy="154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868560" y="5867280"/>
              <a:ext cx="3240" cy="154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5415120" y="5867280"/>
              <a:ext cx="2880" cy="154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981840" y="5867280"/>
              <a:ext cx="4680" cy="154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84480" y="2432160"/>
              <a:ext cx="4660920" cy="1823760"/>
            </a:xfrm>
            <a:custGeom>
              <a:avLst/>
              <a:gdLst/>
              <a:ahLst/>
              <a:rect l="l" t="t" r="r" b="b"/>
              <a:pathLst>
                <a:path w="208" h="153">
                  <a:moveTo>
                    <a:pt x="0" y="153"/>
                  </a:moveTo>
                  <a:lnTo>
                    <a:pt x="69" y="108"/>
                  </a:lnTo>
                  <a:lnTo>
                    <a:pt x="139" y="45"/>
                  </a:lnTo>
                  <a:lnTo>
                    <a:pt x="208" y="0"/>
                  </a:lnTo>
                </a:path>
              </a:pathLst>
            </a:custGeom>
            <a:noFill/>
            <a:ln w="572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84480" y="4255920"/>
              <a:ext cx="4660920" cy="83520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0" y="0"/>
                  </a:moveTo>
                  <a:lnTo>
                    <a:pt x="69" y="36"/>
                  </a:lnTo>
                  <a:lnTo>
                    <a:pt x="139" y="49"/>
                  </a:lnTo>
                  <a:lnTo>
                    <a:pt x="208" y="7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84480" y="4255920"/>
              <a:ext cx="4660920" cy="1239840"/>
            </a:xfrm>
            <a:custGeom>
              <a:avLst/>
              <a:gdLst/>
              <a:ahLst/>
              <a:rect l="l" t="t" r="r" b="b"/>
              <a:pathLst>
                <a:path w="208" h="104">
                  <a:moveTo>
                    <a:pt x="0" y="0"/>
                  </a:moveTo>
                  <a:lnTo>
                    <a:pt x="69" y="38"/>
                  </a:lnTo>
                  <a:lnTo>
                    <a:pt x="139" y="54"/>
                  </a:lnTo>
                  <a:lnTo>
                    <a:pt x="208" y="104"/>
                  </a:ln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08840" y="4794120"/>
              <a:ext cx="2030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55040" y="5043600"/>
              <a:ext cx="2016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87840" y="57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87840" y="5210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7840" y="467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7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52120" y="4137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2120" y="3598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2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52120" y="3062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120" y="2525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7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52120" y="1989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42920" y="59976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95600" y="59976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0880" y="59976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7080" y="59976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25440" y="1773360"/>
              <a:ext cx="108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Arial"/>
                </a:rPr>
                <a:t>2001=1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88120" y="6308640"/>
              <a:ext cx="163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NL" sz="1600" spc="-1" strike="noStrike">
                  <a:solidFill>
                    <a:srgbClr val="ffff00"/>
                  </a:solidFill>
                  <a:latin typeface="Arial"/>
                </a:rPr>
                <a:t>Visits to websi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9080" y="630864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NL" sz="1600" spc="-1" strike="noStrike">
                  <a:solidFill>
                    <a:srgbClr val="ffff00"/>
                  </a:solidFill>
                  <a:latin typeface="Arial"/>
                </a:rPr>
                <a:t>Public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61080" y="6308640"/>
              <a:ext cx="197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NL" sz="1600" spc="-1" strike="noStrike">
                  <a:solidFill>
                    <a:srgbClr val="ffff00"/>
                  </a:solidFill>
                  <a:latin typeface="Arial"/>
                </a:rPr>
                <a:t>Telephone reques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8920" y="6524640"/>
              <a:ext cx="36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00720" y="6524640"/>
              <a:ext cx="36036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00400" y="6524640"/>
              <a:ext cx="36036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528040" y="5877000"/>
              <a:ext cx="4680" cy="154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49160" y="44280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Telephone reques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220500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01: 67,000      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04: 28,00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entralisation of infoservi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ow-profile infoservi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ncouraging people to find the information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themselv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ovision of links to StatLin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emium rate phone number (0,50 Euro per minute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31880" y="236160"/>
            <a:ext cx="705960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Evaluation of printed publication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44480" y="2236320"/>
            <a:ext cx="7212240" cy="378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001: 80 titles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004: 49 titel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eriodicals containing tables: discontinu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eriodicals containing context: new editorial forma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ime-critical periodicals: electronic publica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context publications: continu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63560" y="4442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Website next step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50960" y="2222640"/>
            <a:ext cx="7313760" cy="35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01: 2.0 million visitors   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04: 3.7 mill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ke the meta-data unifor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nhance usabilit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inue development of electronic publica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25400" y="3045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Economic compas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52480" y="922320"/>
            <a:ext cx="6204240" cy="56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31880" y="28548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Household consumpt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907920"/>
            <a:ext cx="3843360" cy="568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8T12:53:59Z</dcterms:created>
  <dc:creator>RNO / RTV</dc:creator>
  <dc:description/>
  <dc:language>en-US</dc:language>
  <cp:lastModifiedBy>Consultant</cp:lastModifiedBy>
  <cp:lastPrinted>2002-02-13T10:39:24Z</cp:lastPrinted>
  <dcterms:modified xsi:type="dcterms:W3CDTF">2005-02-15T09:42:55Z</dcterms:modified>
  <cp:revision>537</cp:revision>
  <dc:subject/>
  <dc:title>Geen dia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5201289</vt:r8>
  </property>
  <property fmtid="{D5CDD505-2E9C-101B-9397-08002B2CF9AE}" pid="3" name="_AuthorEmail">
    <vt:lpwstr>BELT@CBS.nl</vt:lpwstr>
  </property>
  <property fmtid="{D5CDD505-2E9C-101B-9397-08002B2CF9AE}" pid="4" name="_AuthorEmailDisplayName">
    <vt:lpwstr>Elshout, drs S. van den</vt:lpwstr>
  </property>
  <property fmtid="{D5CDD505-2E9C-101B-9397-08002B2CF9AE}" pid="5" name="_EmailSubject">
    <vt:lpwstr>PTT slides WP 13</vt:lpwstr>
  </property>
  <property fmtid="{D5CDD505-2E9C-101B-9397-08002B2CF9AE}" pid="6" name="_PreviousAdHocReviewCycleID">
    <vt:r8>-351157</vt:r8>
  </property>
</Properties>
</file>