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660F7-B80F-4B67-84CF-E694700392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A6302-0B1C-43E2-AD0B-C8468BE7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DBFE8-F82F-4C90-853C-48134491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78452-3706-4529-AAA3-19BCB61C65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1832-21C6-4B5B-8A79-478A34CB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40F0-C743-4B22-B80F-0F751191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DAFE7-0CED-4B7A-A506-A7525C33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23954-C793-4C95-BE61-EB2030A9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EFDF-CB6C-471D-8314-773179AC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98FAC-41C0-4C08-B9E8-6BB2474E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C6EF-589B-44FF-B719-FC35CFE2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89260-AFB3-4516-AC19-48A56F8A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020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936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530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ruary 15th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01240" y="6552720"/>
            <a:ext cx="552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F078-86BD-4C97-87B8-4DF2D36F3F0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459400" y="6516720"/>
            <a:ext cx="4446720" cy="36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82600" y="304920"/>
            <a:ext cx="30700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373800" y="279360"/>
            <a:ext cx="37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97600" y="189000"/>
            <a:ext cx="28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WER NUMBERS, MORE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392880" y="0"/>
            <a:ext cx="289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97600" y="-171360"/>
            <a:ext cx="716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367240" y="6576840"/>
            <a:ext cx="1746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ija.metsa-pauri@stat.f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267080" cy="760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6361200"/>
            <a:ext cx="9926640" cy="573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556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18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2100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76160" y="1773000"/>
            <a:ext cx="86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UTLINING A FUTURE  STATISTICAL PUBL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WER NUMBERS, MO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esentation of supporting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ted by Statistics Finl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pared by Special Editor Maija Metsä-Paur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aija.metsa-pauri@stat.f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8680" y="1053720"/>
            <a:ext cx="842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dea of the pres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int out how changes in operating environment challenge dissemination and bring pressure to produc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lighten a bit Statistics Finland’s new product development proced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its first results by reviewing the experiences of the ‘pilot case’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en-Year Re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light the need for continuous innovative process of outlining a future statistical publication and its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44880" y="2852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3D4D0-AEF3-4923-B2EE-4C2BB685813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6.200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llenges due to changing operating environment  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44880" y="2852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676520"/>
            <a:ext cx="8420040" cy="42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5760" indent="-185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84320">
              <a:lnSpc>
                <a:spcPct val="80000"/>
              </a:lnSpc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technology constitute challenges and opportunities for new publication formu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84320">
              <a:lnSpc>
                <a:spcPct val="80000"/>
              </a:lnSpc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endium-type publications/magazines survive as print publications? - if they succeed in offering value added to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84320">
              <a:lnSpc>
                <a:spcPct val="80000"/>
              </a:lnSpc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o-economic changes more profound and complex  -  growing demand for analysis and intepretation: telling the story behind the numb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84320">
              <a:lnSpc>
                <a:spcPct val="80000"/>
              </a:lnSpc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t development and marketing strategies needed to encounter the challeng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01E7-5492-4036-B760-B5B6F350DD3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6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58680" y="1053720"/>
            <a:ext cx="842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duct development procedu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f Statistics Finland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lnSpc>
                <a:spcPct val="80000"/>
              </a:lnSpc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s the process by providing a specified procedure to help gathering different views on the potential of the product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lnSpc>
                <a:spcPct val="80000"/>
              </a:lnSpc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es the plan inside the organisation and  encourages discussion to find the best co-operation teams and to support the co-ord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lnSpc>
                <a:spcPct val="80000"/>
              </a:lnSpc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res that the plans for marketing, allocation of resources and technical solutions are made car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lnSpc>
                <a:spcPct val="80000"/>
              </a:lnSpc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en-Year Review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ed as a “pilot case”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44880" y="2852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252D7-0681-41E0-8000-185E6685CFD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6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 of the product development of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en-Year Review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65200" indent="-184320">
              <a:lnSpc>
                <a:spcPct val="80000"/>
              </a:lnSpc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s into all the key areas of Finnish economy and society (17 statistical topics) and shows ten-year trends via intelligible grap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lnSpc>
                <a:spcPct val="80000"/>
              </a:lnSpc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a special theme o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trepreneu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lnSpc>
                <a:spcPct val="80000"/>
              </a:lnSpc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s the customer value added in the form of in-depth but journalistic art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lnSpc>
                <a:spcPct val="80000"/>
              </a:lnSpc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supplemented with a CD-ROM containing more detailed time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lnSpc>
                <a:spcPct val="80000"/>
              </a:lnSpc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ers comparable data on Finland and other EU countries (EU-15)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lnSpc>
                <a:spcPct val="80000"/>
              </a:lnSpc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lity is improved by the new production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lnSpc>
                <a:spcPct val="80000"/>
              </a:lnSpc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more details on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en-Year Revie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ease contact Project Manage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aakko Autio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jaakko.autio@stat.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44880" y="2852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FFA90-302F-4774-93C3-538AEE18BDF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6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3:10:24Z</dcterms:created>
  <dc:creator>Maija Metsä-Pauri</dc:creator>
  <dc:description/>
  <dc:language>en-US</dc:language>
  <cp:lastModifiedBy>Bev Williams</cp:lastModifiedBy>
  <cp:lastPrinted>2005-02-11T11:46:31Z</cp:lastPrinted>
  <dcterms:modified xsi:type="dcterms:W3CDTF">2005-02-11T15:11:51Z</dcterms:modified>
  <cp:revision>30</cp:revision>
  <dc:subject/>
  <dc:title>Statistics Finland’s mission</dc:title>
</cp:coreProperties>
</file>