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05BC8-4367-45D1-B17D-450426D3ED3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C26BC-B64F-4D6C-8EB9-7E4FE1D5F99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78BB8-1352-43B5-924A-D2B8637B305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F04FF-8C81-41EA-9C6E-1D6357BECEA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0BF9A-AAB7-4B59-B045-BACFAA088A1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87000" y="340920"/>
            <a:ext cx="6913800" cy="42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65400" y="1143000"/>
            <a:ext cx="692784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65400" y="3571200"/>
            <a:ext cx="692784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87000" y="340920"/>
            <a:ext cx="6913800" cy="42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65400" y="1143000"/>
            <a:ext cx="33807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15720" y="1143000"/>
            <a:ext cx="33807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65400" y="3571200"/>
            <a:ext cx="33807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15720" y="3571200"/>
            <a:ext cx="33807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87000" y="340920"/>
            <a:ext cx="6913800" cy="42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65400" y="1143000"/>
            <a:ext cx="2230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07920" y="1143000"/>
            <a:ext cx="2230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50440" y="1143000"/>
            <a:ext cx="2230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65400" y="3571200"/>
            <a:ext cx="2230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07920" y="3571200"/>
            <a:ext cx="2230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50440" y="3571200"/>
            <a:ext cx="2230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87000" y="340920"/>
            <a:ext cx="6913800" cy="42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65400" y="1143000"/>
            <a:ext cx="69278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87000" y="340920"/>
            <a:ext cx="6913800" cy="42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5400" y="1143000"/>
            <a:ext cx="692784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87000" y="340920"/>
            <a:ext cx="6913800" cy="42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65400" y="1143000"/>
            <a:ext cx="338076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15720" y="1143000"/>
            <a:ext cx="338076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87000" y="340920"/>
            <a:ext cx="6913800" cy="42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287000" y="340920"/>
            <a:ext cx="6913800" cy="195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87000" y="340920"/>
            <a:ext cx="6913800" cy="42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65400" y="1143000"/>
            <a:ext cx="33807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15720" y="1143000"/>
            <a:ext cx="338076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65400" y="3571200"/>
            <a:ext cx="33807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87000" y="340920"/>
            <a:ext cx="6913800" cy="42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65400" y="1143000"/>
            <a:ext cx="338076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15720" y="1143000"/>
            <a:ext cx="33807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15720" y="3571200"/>
            <a:ext cx="33807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87000" y="340920"/>
            <a:ext cx="6913800" cy="42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65400" y="1143000"/>
            <a:ext cx="33807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15720" y="1143000"/>
            <a:ext cx="33807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65400" y="3571200"/>
            <a:ext cx="692784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033560"/>
            <a:ext cx="9144000" cy="4790880"/>
          </a:xfrm>
          <a:prstGeom prst="rect">
            <a:avLst/>
          </a:prstGeom>
          <a:solidFill>
            <a:srgbClr val="d4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87000" y="340920"/>
            <a:ext cx="6913800" cy="42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65400" y="1143000"/>
            <a:ext cx="692784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EIU_S" descr=""/>
          <p:cNvPicPr/>
          <p:nvPr/>
        </p:nvPicPr>
        <p:blipFill>
          <a:blip r:embed="rId2"/>
          <a:stretch/>
        </p:blipFill>
        <p:spPr>
          <a:xfrm>
            <a:off x="5651640" y="6211800"/>
            <a:ext cx="3117600" cy="27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istical publications - the librarian’s 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ul Pedl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87000" y="340920"/>
            <a:ext cx="6913800" cy="42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on-official statistic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5400" y="1143000"/>
            <a:ext cx="692784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rket research compan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de associ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de jour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ademic instit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nancial instit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87000" y="340920"/>
            <a:ext cx="6913800" cy="42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n-official statistic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5400" y="1143000"/>
            <a:ext cx="692784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det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-to-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types of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sis and comment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87000" y="340920"/>
            <a:ext cx="6913800" cy="42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on-official statistic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65400" y="1143000"/>
            <a:ext cx="692784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equen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87000" y="340920"/>
            <a:ext cx="6913800" cy="42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usiness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65400" y="1143000"/>
            <a:ext cx="692784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b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-off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y as you 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87000" y="340920"/>
            <a:ext cx="6913800" cy="42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ustom researc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65400" y="1143000"/>
            <a:ext cx="692784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untry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isk Assess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icing Surve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nchmarking and Competitive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ategic Industry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ta, Modelling and Foreca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rket Entry and Pla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sues Trac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87000" y="340920"/>
            <a:ext cx="6913800" cy="42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pdat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65400" y="1143000"/>
            <a:ext cx="692784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-a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a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e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a f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87000" y="340920"/>
            <a:ext cx="6913800" cy="42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ebStat, Statistics Finlan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65400" y="1143000"/>
            <a:ext cx="692784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80880" y="3048120"/>
            <a:ext cx="3873600" cy="24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81960" indent="-381960">
              <a:lnSpc>
                <a:spcPct val="95000"/>
              </a:lnSpc>
              <a:spcBef>
                <a:spcPts val="1650"/>
              </a:spcBef>
              <a:buClr>
                <a:srgbClr val="000000"/>
              </a:buClr>
              <a:buFont typeface="Estrangelo Edess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conomist Intelligence Unit’s role within the Grou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1960" indent="-381960">
              <a:lnSpc>
                <a:spcPct val="95000"/>
              </a:lnSpc>
              <a:spcBef>
                <a:spcPts val="1650"/>
              </a:spcBef>
              <a:buClr>
                <a:srgbClr val="000000"/>
              </a:buClr>
              <a:buFont typeface="Estrangelo Edess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iggest part of the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1960" indent="-381960">
              <a:lnSpc>
                <a:spcPct val="95000"/>
              </a:lnSpc>
              <a:spcBef>
                <a:spcPts val="1650"/>
              </a:spcBef>
              <a:buClr>
                <a:srgbClr val="000000"/>
              </a:buClr>
              <a:buFont typeface="Estrangelo Edess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2B 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1960" indent="-381960">
              <a:lnSpc>
                <a:spcPct val="95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1960" indent="-381960">
              <a:lnSpc>
                <a:spcPct val="95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54440" y="3857760"/>
            <a:ext cx="453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654440" y="4430880"/>
            <a:ext cx="444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5276880" y="2212920"/>
            <a:ext cx="2546280" cy="2903760"/>
            <a:chOff x="5276880" y="2212920"/>
            <a:chExt cx="2546280" cy="2903760"/>
          </a:xfrm>
        </p:grpSpPr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5307120" y="2212920"/>
              <a:ext cx="942840" cy="47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"/>
            <p:cNvPicPr/>
            <p:nvPr/>
          </p:nvPicPr>
          <p:blipFill>
            <a:blip r:embed="rId2"/>
            <a:srcRect l="0" t="0" r="19108" b="0"/>
            <a:stretch/>
          </p:blipFill>
          <p:spPr>
            <a:xfrm>
              <a:off x="5295960" y="2859120"/>
              <a:ext cx="252720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3"/>
            <a:srcRect l="0" t="0" r="21833" b="0"/>
            <a:stretch/>
          </p:blipFill>
          <p:spPr>
            <a:xfrm>
              <a:off x="5305320" y="3200400"/>
              <a:ext cx="213696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4"/>
            <a:stretch/>
          </p:blipFill>
          <p:spPr>
            <a:xfrm>
              <a:off x="5303880" y="3660840"/>
              <a:ext cx="96516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5"/>
            <a:srcRect l="0" t="0" r="22077" b="0"/>
            <a:stretch/>
          </p:blipFill>
          <p:spPr>
            <a:xfrm>
              <a:off x="5315040" y="4203720"/>
              <a:ext cx="2219400" cy="41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" descr=""/>
            <p:cNvPicPr/>
            <p:nvPr/>
          </p:nvPicPr>
          <p:blipFill>
            <a:blip r:embed="rId6"/>
            <a:stretch/>
          </p:blipFill>
          <p:spPr>
            <a:xfrm>
              <a:off x="5276880" y="4753080"/>
              <a:ext cx="1925640" cy="363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" name=""/>
          <p:cNvSpPr/>
          <p:nvPr/>
        </p:nvSpPr>
        <p:spPr>
          <a:xfrm>
            <a:off x="4626000" y="2328840"/>
            <a:ext cx="498600" cy="11160"/>
          </a:xfrm>
          <a:custGeom>
            <a:avLst/>
            <a:gdLst/>
            <a:ahLst/>
            <a:rect l="l" t="t" r="r" b="b"/>
            <a:pathLst>
              <a:path w="314" h="7">
                <a:moveTo>
                  <a:pt x="0" y="7"/>
                </a:moveTo>
                <a:lnTo>
                  <a:pt x="31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87000" y="340920"/>
            <a:ext cx="6913800" cy="42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conomist Grou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044800" y="1841400"/>
            <a:ext cx="3070080" cy="3149640"/>
          </a:xfrm>
          <a:custGeom>
            <a:avLst/>
            <a:gdLst/>
            <a:ahLst/>
            <a:rect l="l" t="t" r="r" b="b"/>
            <a:pathLst>
              <a:path w="1934" h="1984">
                <a:moveTo>
                  <a:pt x="0" y="0"/>
                </a:moveTo>
                <a:lnTo>
                  <a:pt x="0" y="313"/>
                </a:lnTo>
                <a:lnTo>
                  <a:pt x="1642" y="313"/>
                </a:lnTo>
                <a:lnTo>
                  <a:pt x="1642" y="1984"/>
                </a:lnTo>
                <a:lnTo>
                  <a:pt x="1934" y="198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641840" y="3157560"/>
            <a:ext cx="22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63960" y="3009960"/>
            <a:ext cx="254160" cy="304920"/>
          </a:xfrm>
          <a:custGeom>
            <a:avLst/>
            <a:gdLst/>
            <a:ahLst/>
            <a:rect l="l" t="t" r="r" b="b"/>
            <a:pathLst>
              <a:path w="88" h="192">
                <a:moveTo>
                  <a:pt x="88" y="0"/>
                </a:moveTo>
                <a:lnTo>
                  <a:pt x="0" y="0"/>
                </a:lnTo>
                <a:lnTo>
                  <a:pt x="0" y="192"/>
                </a:lnTo>
                <a:lnTo>
                  <a:pt x="84" y="18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7"/>
          <a:stretch/>
        </p:blipFill>
        <p:spPr>
          <a:xfrm>
            <a:off x="793800" y="1549440"/>
            <a:ext cx="7048440" cy="38088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87000" y="340920"/>
            <a:ext cx="6913800" cy="42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65400" y="1143000"/>
            <a:ext cx="692784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cribe to around 1500 jour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tain material for each country fro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national statistical off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entral ba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ministries of fi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international organis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ommercial publis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87000" y="340920"/>
            <a:ext cx="6913800" cy="42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65400" y="1143000"/>
            <a:ext cx="692784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ntry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dustry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lecomms &amp;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od, beverages, tobac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sumer markets and retai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ur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nancial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utomo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althcare &amp; pharmaceutic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siness environment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modities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87000" y="340920"/>
            <a:ext cx="6913800" cy="42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ma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5400" y="1143000"/>
            <a:ext cx="692784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jour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direc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lectr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online data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CD-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ejou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MS 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MS Exc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87000" y="340920"/>
            <a:ext cx="6913800" cy="42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bases/online sour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65400" y="1143000"/>
            <a:ext cx="692784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s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ited Nations Common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urceOE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S On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eign direct investment database (UNCT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87000" y="340920"/>
            <a:ext cx="6913800" cy="42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l international statistic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65400" y="1143000"/>
            <a:ext cx="692784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ECD - main economic indic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ECD - economic outl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- statistical year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ld Bank - World Development Indic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P - Human Development Indic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ld Bank - Global Development Fin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CTAD - World Investment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F - International Financial 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87000" y="340920"/>
            <a:ext cx="6913800" cy="42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ational organis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65400" y="1143000"/>
            <a:ext cx="692784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exp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rical s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l estab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87000" y="340920"/>
            <a:ext cx="6913800" cy="42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 with official statistic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65400" y="1143000"/>
            <a:ext cx="692784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isation of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pretation of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i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7T10:40:28Z</dcterms:created>
  <dc:creator>Paul Pedley</dc:creator>
  <dc:description/>
  <dc:language>en-US</dc:language>
  <cp:lastModifiedBy>Bev Williams</cp:lastModifiedBy>
  <cp:lastPrinted>2005-01-31T11:16:29Z</cp:lastPrinted>
  <dcterms:modified xsi:type="dcterms:W3CDTF">2005-02-11T15:13:09Z</dcterms:modified>
  <cp:revision>28</cp:revision>
  <dc:subject/>
  <dc:title>Statistical publications - the librarian’s view</dc:title>
</cp:coreProperties>
</file>