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6A1E-4F7D-43CE-B0FA-826EB9776F9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BB5-1A21-46C6-BE90-A46FA858C42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3A5-AE4A-4672-881F-81B4EAB1BFD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A31-2855-4F5B-9182-BEA4E890916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ТРАНЗИТНАЯ МИГРАЦИЯ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нетт Скурл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082520"/>
            <a:ext cx="767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ЧЕТВЕРГ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5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3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сточники данных и анализ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орговли людьми, нелегальной миграции и транзитной мигр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Информация по транзитной миграции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87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уществует только частичная информац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пользуются те же источники, что и при исследовании торговли людьми, контрабанды людей и нелегальной мигр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Задержания на границе: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%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лиц, являющихся гражданами несопредельных государст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 т.ч., по оценкам исследован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ICMPD : 100,000-120,000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елегальных мигрантов ежегодно пересекают Средиземное  мор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5,000 (29%)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з региона Суб-Сахары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0,000 (25%)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транзитом из других регионо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55,000 (46%)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граждане из сопредельных государст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Данные о задержаниях на границе также используются для описания маршрутов и (мигрантских) сетей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Другие источники данных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бследования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сследование миграции, проведенное 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urostat/NIDI :  18%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енегальцев в Испании указали, что до прибытия в Испанию они проезжали транзитом через  другие страны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Западная Африка, Европа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ачественные исследования-например, серия докладов МОМ по транзитной миграции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ередина 1990-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5-06T17:05:03Z</dcterms:modified>
  <cp:revision>310</cp:revision>
  <dc:subject>BuZa werkconferentie 25-02-2004</dc:subject>
  <dc:title>OS en migratie</dc:title>
</cp:coreProperties>
</file>