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EEE0-5F59-40BE-97C6-BBE778B2E9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7C2-5184-43BA-B03D-09EE1CA73C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4D64-FE4C-4EA5-86D8-8CD62DBF8A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F57-8E57-4E20-A4AA-3D1E043DF2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RANSIT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082520"/>
            <a:ext cx="7391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UESDAY January 25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3: Data sources and analysis of trafficking, irregular migration and transit migr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transit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artial information on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same sources as for trafficking / smuggling and irregular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Apprehension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 % that are citizens from non-neighbouring countri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.g. ICMPD study: estimates 100,000-120,000 irregular migrants crossing the Mediterranean annually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5,000 (29%) Sub-Sahara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0,000 (25%) in transit from other region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55,000 (46%) citizens from neighbour countri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pprehension data also used to help describe routes and network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ther data source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urvey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urostat/NIDI survey study on migration:  18% of Senegalese in Spain reported they had transited through other countries (West-Africa, Europe) before reaching Spai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qualitative studi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.g. IOM series of reports on transit migration, mid 1990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Jeannette Schoorl</cp:lastModifiedBy>
  <cp:lastPrinted>2004-02-25T07:11:58Z</cp:lastPrinted>
  <dcterms:modified xsi:type="dcterms:W3CDTF">2005-01-25T12:58:52Z</dcterms:modified>
  <cp:revision>305</cp:revision>
  <dc:subject>BuZa werkconferentie 25-02-2004</dc:subject>
  <dc:title>OS en migratie</dc:title>
</cp:coreProperties>
</file>