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8160" y="747720"/>
            <a:ext cx="4919760" cy="368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EF261-0B40-4922-A3E0-EA346AEEBAB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90A21-E3F4-430E-AEA8-663F8250C37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495F1-4BBB-49C4-9484-A048618802B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EFEA8-CDF6-4F41-B711-DC65E27AEBA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295280" y="533520"/>
            <a:ext cx="7696440" cy="0"/>
          </a:xfrm>
          <a:prstGeom prst="line">
            <a:avLst/>
          </a:prstGeom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" name="nidilogt1" descr=""/>
          <p:cNvPicPr/>
          <p:nvPr/>
        </p:nvPicPr>
        <p:blipFill>
          <a:blip r:embed="rId2"/>
          <a:stretch/>
        </p:blipFill>
        <p:spPr>
          <a:xfrm>
            <a:off x="76320" y="152280"/>
            <a:ext cx="1098360" cy="86688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219320" y="152280"/>
            <a:ext cx="792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66"/>
                </a:solidFill>
                <a:latin typeface="Arial"/>
              </a:rPr>
              <a:t>UNFPA/UNECE/NIDI Training programme on international migration, Geneva, 24-28/01/2005 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819520"/>
            <a:ext cx="8153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TRANSIT MIGRATION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1082520"/>
            <a:ext cx="73915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TUESDAY January 25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Session 3: Data sources and analysis of trafficking, irregular migration and transit migration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66"/>
                </a:solidFill>
                <a:latin typeface="Arial"/>
              </a:rPr>
              <a:t>Draft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ff66"/>
                </a:solidFill>
                <a:uFillTx/>
                <a:latin typeface="Arial"/>
              </a:rPr>
              <a:t>Information on transit migration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Partial information only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The same sources as for trafficking / smuggling and irregular migration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20720" indent="-277200">
              <a:spcBef>
                <a:spcPts val="75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ffff99"/>
                </a:solidFill>
                <a:latin typeface="Arial"/>
              </a:rPr>
              <a:t>Apprehensions</a:t>
            </a:r>
            <a:r>
              <a:rPr b="0" lang="en-GB" sz="3000" spc="-1" strike="noStrike">
                <a:solidFill>
                  <a:srgbClr val="ffff99"/>
                </a:solidFill>
                <a:latin typeface="Arial"/>
              </a:rPr>
              <a:t>: % that are citizens from non-neighbouring countries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e.g. ICMPD study: estimates 100,000-120,000 irregular migrants crossing the Mediterranean annually: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3" marL="15519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99"/>
                </a:solidFill>
                <a:latin typeface="Arial"/>
              </a:rPr>
              <a:t>35,000 (29%) Sub-Saharan</a:t>
            </a: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  <a:p>
            <a:pPr lvl="3" marL="15519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99"/>
                </a:solidFill>
                <a:latin typeface="Arial"/>
              </a:rPr>
              <a:t>30,000 (25%) in transit from other regions</a:t>
            </a: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  <a:p>
            <a:pPr lvl="3" marL="15519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99"/>
                </a:solidFill>
                <a:latin typeface="Arial"/>
              </a:rPr>
              <a:t>55,000 (46%) citizens from neighbour countries</a:t>
            </a: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99"/>
                </a:solidFill>
                <a:latin typeface="Arial"/>
              </a:rPr>
              <a:t>Apprehension data also used to help describe routes and networks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Other data sources: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Arial"/>
              </a:rPr>
              <a:t>surveys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99"/>
                </a:solidFill>
                <a:latin typeface="Arial"/>
              </a:rPr>
              <a:t>Eurostat/NIDI survey study on migration:  18% of Senegalese in Spain reported they had transited through other countries (West-Africa, Europe) before reaching Spain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Arial"/>
              </a:rPr>
              <a:t>qualitative studies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99"/>
                </a:solidFill>
                <a:latin typeface="Arial"/>
              </a:rPr>
              <a:t>e.g. IOM series of reports on transit migration, mid 1990s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4T07:19:21Z</dcterms:created>
  <dc:creator>Jeannette Schoorl</dc:creator>
  <dc:description/>
  <dc:language>en-US</dc:language>
  <cp:lastModifiedBy>Jeannette Schoorl</cp:lastModifiedBy>
  <cp:lastPrinted>2004-02-25T07:11:58Z</cp:lastPrinted>
  <dcterms:modified xsi:type="dcterms:W3CDTF">2005-01-25T12:58:52Z</dcterms:modified>
  <cp:revision>305</cp:revision>
  <dc:subject>BuZa werkconferentie 25-02-2004</dc:subject>
  <dc:title>OS en migratie</dc:title>
</cp:coreProperties>
</file>