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A54-B409-413B-A82F-582A309D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9D6-900E-4F97-8B0C-406E706E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7BC-7A5D-42EA-BAB0-3DAC87E8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CC5-E880-481F-9721-74F54422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B0DE-925B-4DE0-A892-9669D675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4BF0-5E8F-4E8B-B27B-688AB2D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56C6-859F-45F5-B360-65FEC2AE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E2C1-16A0-4144-B367-0DB75F36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6760-13AF-4D8A-BE9C-741FE31D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1FA3-CF15-4FB1-9AA2-B800F5F5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70E1-8CC4-46E7-BE21-9FDEEC1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19F-4A6A-40AC-9EA3-F380D860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F167-AB73-4582-8DDF-517B84F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BBFF-865B-43C9-8933-48C0E39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A2D8-3838-4E46-A3C5-704C317B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7CAC-3BBD-4926-B582-05183982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42C1-C5B1-4866-80E3-337D0677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816-D693-499C-9621-0702B79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3A6-CE43-4CBE-9B68-EB22B42C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46A-ECB2-41D8-8D1D-C65882D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B9B-B4B2-4C2D-9089-94368971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296-EE81-453A-9D66-66C2DDB2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D09-BECA-41A1-91CD-9968CCD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1E4-9C05-4488-B25B-C1F146F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0F31-252B-4126-AD34-964B4498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3A15-82B1-4BAE-966A-4DA8F83C7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133720" y="19810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Международная организация по миг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27560" y="609480"/>
            <a:ext cx="140328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43400" y="1905120"/>
            <a:ext cx="13716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1905120"/>
            <a:ext cx="42879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666880"/>
            <a:ext cx="7238880" cy="2287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Торговля людьми и статистика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современное состоя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5029200"/>
            <a:ext cx="51814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ейкки Маттила</a:t>
            </a:r>
            <a:r>
              <a:rPr b="1" lang="fr-CH" sz="18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дел исследований и публик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М Женева</a:t>
            </a:r>
            <a:r>
              <a:rPr b="1" lang="fr-CH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вейца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6483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99"/>
                </a:solidFill>
                <a:latin typeface="Times New Roman"/>
              </a:rPr>
              <a:t>Виды данных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-374760">
              <a:lnSpc>
                <a:spcPct val="150000"/>
              </a:lnSpc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Индикаторы</a:t>
            </a:r>
            <a:r>
              <a:rPr b="0" lang="fr-CH" sz="3200" spc="-1" strike="noStrike">
                <a:solidFill>
                  <a:srgbClr val="3366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число жер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374760">
              <a:lnSpc>
                <a:spcPct val="150000"/>
              </a:lnSpc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Маршруты</a:t>
            </a:r>
            <a:r>
              <a:rPr b="0" lang="fr-CH" sz="32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характеристики и способы действия торговцев людь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374760">
              <a:lnSpc>
                <a:spcPct val="150000"/>
              </a:lnSpc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Характеристики жер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943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99"/>
                </a:solidFill>
                <a:latin typeface="Times New Roman"/>
              </a:rPr>
              <a:t>Текущий сбор данных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-56196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ласти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общественные, полицейские, иммиграционные, судеб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56196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Административные данные по лицам, получившим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56196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Неправительственные организации межправительственные организации: случаи оказания помо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-56196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Исследования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ыборочные обслед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9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51055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99"/>
                </a:solidFill>
                <a:latin typeface="Times New Roman"/>
              </a:rPr>
              <a:t>Трудности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0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Феномен скрыт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Доступ к жертвам траффикинга затрудн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Нежелание жертв сообщать о фактах нас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ножество участников процесса («игроков»)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фрагментарность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Трудности в разделении на практике контрабанды людей, других форм  эксплуатации и про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Табу (запре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Отсутствие правовой основы для обращения за сбором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Сопоставимость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азличия в разделении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57780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Сопоставимость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: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отсутствие систематического обмена информацией между организациями и стран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41672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99"/>
                </a:solidFill>
                <a:latin typeface="Times New Roman"/>
              </a:rPr>
              <a:t>База данных Офиса ООН по наркотикам и преступности (</a:t>
            </a:r>
            <a:r>
              <a:rPr b="0" lang="en-US" sz="3200" spc="-1" strike="noStrike">
                <a:solidFill>
                  <a:srgbClr val="330099"/>
                </a:solidFill>
                <a:latin typeface="Times New Roman"/>
              </a:rPr>
              <a:t>UN ODC)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7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Источники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атистика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исследования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данные неправительственных организаций,  С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500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 источников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 4,500 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примеров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Виды торговли людьми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раны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характеристики жертв и  «обидчиков»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атистика привлечения к ответствен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рана происхождения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Украина, Россия, Нигерия, Албания, Румы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трана назначения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;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ША, страны Евросоюза, Япония, страны Центральной и Восточной Европы,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Азии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Афри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Жертвы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: 83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женщины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4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мужчины</a:t>
            </a:r>
            <a:r>
              <a:rPr b="0" lang="fr-CH" sz="2600" spc="-1" strike="noStrike">
                <a:solidFill>
                  <a:srgbClr val="3366ff"/>
                </a:solidFill>
                <a:latin typeface="Times New Roman"/>
              </a:rPr>
              <a:t>, 48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де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Виды эксплуатации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: 92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сексуальная эксплуатация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en-GB" sz="2600" spc="-1" strike="noStrike">
                <a:solidFill>
                  <a:srgbClr val="3366ff"/>
                </a:solidFill>
                <a:latin typeface="Times New Roman"/>
              </a:rPr>
              <a:t>   21% </a:t>
            </a:r>
            <a:r>
              <a:rPr b="0" lang="ru-RU" sz="2600" spc="-1" strike="noStrike">
                <a:solidFill>
                  <a:srgbClr val="3366ff"/>
                </a:solidFill>
                <a:latin typeface="Times New Roman"/>
              </a:rPr>
              <a:t>принудительный тру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57913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99"/>
                </a:solidFill>
                <a:latin typeface="Times New Roman"/>
              </a:rPr>
              <a:t>База данных МОМ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езультаты к июлю 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2791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жер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35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национальностей (видов граждан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7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наиболее многочисленных национальностей (гражданской принадлежности): Молдавия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Румыния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Украина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Белоруссия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Болгария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Доминиканская республика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 Ро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Возраст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13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олож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18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лет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/ 72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олож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24/ 90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олож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50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абот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45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зарабатывали мене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$50/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в мес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57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зарабатывали мене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 $100/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в мес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10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состоят  в брак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 17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азведены или живут отдельно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, 61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не  состоят в бра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атери-одиночки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Из Молдавии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26.50%,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из Украины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32.3%,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из Доминиканской респ.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: 72.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297000">
              <a:lnSpc>
                <a:spcPct val="8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46%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всех известных вербовщиков - женщ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Лучший анализ существующих данных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Лучшее определение индика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Содействие и создание возможностей для более систематического сбора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Инструкции по согласованию (гармонизации) данных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Национальные координа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5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егиональная координ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228600"/>
            <a:ext cx="42670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99"/>
                </a:solidFill>
                <a:latin typeface="Times New Roman"/>
              </a:rPr>
              <a:t>Предло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Данные о нелегальной миграции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240" y="1371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Источники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37440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Данные о задержаниях на границ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37440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Статистика установленных фактов торговли людь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37440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Данные кампаний по регуляризации и амнист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37440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Данные о высылке и депор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Данные о нелегальной миграции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84200" indent="-484200">
              <a:lnSpc>
                <a:spcPct val="120000"/>
              </a:lnSpc>
              <a:buClr>
                <a:srgbClr val="33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Чистая иммиграция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(EU &amp; Efta 2003): 1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илли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buClr>
                <a:srgbClr val="33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Потоки нелегалов в страны Евросоюза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15 (2001): 808,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buClr>
                <a:srgbClr val="33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Регуляризации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EU – 15 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1995 – 2002: 2,5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иллиона</a:t>
            </a:r>
            <a:br>
              <a:rPr sz="2400"/>
            </a:b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1973 - 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: &lt; 4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илли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Задержания на границе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Долгосрочные тенденции в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транах Центральной и Восточной Европы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, 1999 - 200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012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90720" y="1981080"/>
          <a:ext cx="7848360" cy="450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81080"/>
                    <a:ext cx="78483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Задержания на границе </a:t>
            </a:r>
            <a:br>
              <a:rPr sz="4000"/>
            </a:b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(пример Германии)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0012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6705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228600"/>
            <a:ext cx="7583400" cy="1039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Кампании по регуляризации в странах </a:t>
            </a:r>
            <a:r>
              <a:rPr b="0" lang="fr-CH" sz="4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ОЭСР (</a:t>
            </a:r>
            <a:r>
              <a:rPr b="0" lang="en-US" sz="4000" spc="-1" strike="noStrike">
                <a:solidFill>
                  <a:srgbClr val="3366ff"/>
                </a:solidFill>
                <a:latin typeface="Times New Roman"/>
              </a:rPr>
              <a:t>OEC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240" y="1371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14400" y="1447920"/>
          <a:ext cx="8001000" cy="519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80010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5715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Глобальные оценки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74760" indent="296640">
              <a:lnSpc>
                <a:spcPct val="11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Отчет Госдепартамента США о торговле людьми -   (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U.S. State Department, Trafficking in Persons Report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) 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2004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600,000 – 800,000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ужчин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женщин и детей становятся ежегодно жертвами трафф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Данные Европейской комиссии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2001: 120,000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человек</a:t>
            </a: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переправляются по каналам траффика в страны Евросоюза ежегод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296640">
              <a:lnSpc>
                <a:spcPct val="11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Организация по безопасности и сотрудничеству в Европе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(OSCE) 2000: 200,000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женщин и детей переправляются по каналам траффика в страны ОБСЕ ежегод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296640">
              <a:lnSpc>
                <a:spcPct val="110000"/>
              </a:lnSpc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66ff"/>
                </a:solidFill>
                <a:latin typeface="Times New Roman"/>
              </a:rPr>
              <a:t>ILO 2002: 1.2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</a:rPr>
              <a:t>миллиона детей стали жертвами траффика по всему ми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5715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23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3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413000"/>
            <a:ext cx="784872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«Торговля людьми»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лжна обозначать вербовку, перевозку, передачу, укрывательство или получение человека  посредством угрозы или применения насилия или иных форм принуждения,  насильственного похищения,  обмана, мошенничества, превышения полномочий или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спользования зависимого положения, или посредством предоставления или приобретения  выгоды для получения согласия лица, имеющего власть (контроль) над другим лицом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с целью эксплуа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«Эксплуатация» включает в себя, как минимум, использование занятия проституцией другими лицами и иные формы сексуальной эксплуатации, принудительный труд или услуги, рабский труд или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актики сходные с рабством,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одневольное состояние или изъятие орга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228240"/>
            <a:ext cx="756108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Проблемы и</a:t>
            </a:r>
            <a:r>
              <a:rPr b="0" lang="fr-CH" sz="4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66ff"/>
                </a:solidFill>
                <a:latin typeface="Times New Roman"/>
              </a:rPr>
              <a:t>сферы деятельности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Бедность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Безработ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У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авенство п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Преступ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Миг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Глобал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ынк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Права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8440" cy="682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371600"/>
            <a:ext cx="8229600" cy="5257800"/>
          </a:xfrm>
          <a:custGeom>
            <a:avLst/>
            <a:gdLst/>
            <a:ahLst/>
            <a:rect l="l" t="t" r="r" b="b"/>
            <a:pathLst>
              <a:path w="4848" h="3888">
                <a:moveTo>
                  <a:pt x="4848" y="0"/>
                </a:moveTo>
                <a:lnTo>
                  <a:pt x="0" y="0"/>
                </a:lnTo>
                <a:lnTo>
                  <a:pt x="0" y="3888"/>
                </a:lnTo>
              </a:path>
            </a:pathLst>
          </a:custGeom>
          <a:noFill/>
          <a:ln w="9360">
            <a:solidFill>
              <a:srgbClr val="33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7:17:02Z</dcterms:created>
  <dc:creator>ITS</dc:creator>
  <dc:description/>
  <dc:language>en-US</dc:language>
  <cp:lastModifiedBy>user</cp:lastModifiedBy>
  <dcterms:modified xsi:type="dcterms:W3CDTF">2005-04-26T13:40:50Z</dcterms:modified>
  <cp:revision>27</cp:revision>
  <dc:subject/>
  <dc:title>PowerPoint Presentation</dc:title>
</cp:coreProperties>
</file>