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DC5-0D4B-4AE4-97FF-5EC65DBB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1CD-14C9-424B-83AE-C8DD3585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265-1A87-4EED-B759-E7D67240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A7C-858E-4473-98F3-E9C31AC4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34D-3AF4-40A6-98B1-8D7B2AB3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B34-4A67-4E3C-B873-BD8C5DF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4823-A821-4EB6-A2C1-19EC264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D48-136D-4D10-81F1-FC2E51B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3D69-0B2E-4DB4-8129-E8256E8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F125-8AD8-4C01-86D9-34D24157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420-5847-47BD-804D-F5648C1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66C-98D1-495F-A92F-6C5E45E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64BC-5BA8-4EBE-9A19-798D384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8C8-79A0-4952-B8F1-021E45F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98C-3FC5-4264-A44F-7988FA10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E39B-1417-4759-A4A3-E4B2AAFC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4E5-1E48-4280-86F3-3B6339A2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F51-F126-45EF-9F80-0F580D10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BF9-01E2-4875-AF81-6A78808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85E-7C9F-4B9D-BF09-05375716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5DA-C29E-41A1-B453-45A1E1C9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49B-4B05-48A9-AB54-CFFC6A7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454-E4C0-42A2-ACBE-1A79A6E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F74-1E27-49B6-97F6-987BEE0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583-7E01-47B4-AAEC-53C99CA8B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249-0A4B-45AA-961C-88E2A6B7F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133720" y="1981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Международная организация по миг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27560" y="609480"/>
            <a:ext cx="140328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43400" y="1905120"/>
            <a:ext cx="13716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1905120"/>
            <a:ext cx="42879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666880"/>
            <a:ext cx="7238880" cy="2287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орговля людьми и статистика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современное состоя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029200"/>
            <a:ext cx="51814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ейкки Маттила</a:t>
            </a:r>
            <a:r>
              <a:rPr b="1" lang="fr-CH" sz="1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ел исследований и публ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М Женева</a:t>
            </a:r>
            <a:r>
              <a:rPr b="1" lang="fr-CH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Виды данных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Индикаторы</a:t>
            </a: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число жер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Маршруты</a:t>
            </a: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характеристики и способы действия торговцев люд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Характеристики жер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943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99"/>
                </a:solidFill>
                <a:latin typeface="Times New Roman"/>
              </a:rPr>
              <a:t>Текущий сбор данных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ласти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общественные, полицейские, иммиграционные, судеб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Административные данные по лицам, получившим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еправительственные организации межправительственные организации: случаи оказания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сследования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ыборочные об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51055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Трудности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0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Феномен скрыт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Доступ к жертвам траффикинга затруд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ежелание жертв сообщать о фактах на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ножество участников процесса («игроков»)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фрагментарность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Трудности в разделении на практике контрабанды людей, других форм  эксплуатации и про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Табу (запре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сутствие правовой основы для обращения за сбором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поставимость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зличия в разделении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поставимость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сутствие систематического обмена информацией между организациями и стра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4167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99"/>
                </a:solidFill>
                <a:latin typeface="Times New Roman"/>
              </a:rPr>
              <a:t>База данных Офиса ООН по наркотикам и преступности (</a:t>
            </a: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UN ODC)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Источник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атистика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исследова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данные неправительственных организаций,  С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500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 источников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 4,500 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примеров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Виды торговли людьм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характеристики жертв и  «обидчиков»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атистика привлечения к ответствен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а происхожде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Украина, Россия, Нигерия, Албания, Румы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а назначе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ША, страны Евросоюза, Япония, страны Центральной и Восточной Европы,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Ази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Афри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Жертв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83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женщи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4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мужчи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48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д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Виды эксплуатации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: 92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ексуальная эксплуатация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   21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принудительный тру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5791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База данных МОМ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езультаты к июлю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2791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жер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35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ациональностей (видов граждан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7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аиболее многочисленных национальностей (гражданской принадлежности): Молдав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Румын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Украина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Белорусс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Болгар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Доминиканская республика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Ро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озраст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13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18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лет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/ 72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24/ 9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5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бот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45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зарабатывали мене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$50/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 мес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57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зарабатывали мене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$100/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 мес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1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стоят  в брак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 17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зведены или живут отдельно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 61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е  состоят в бра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атери-одиночки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Молдавии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26.50%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Украины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32.3%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Доминиканской респ.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72.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46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сех известных вербовщиков - женщ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Лучший анализ существующих данных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Лучшее определение индика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Содействие и создание возможностей для более систематического сбор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нструкции по согласованию (гармонизации) данных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ациональные координа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егиональная координ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228600"/>
            <a:ext cx="42670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Предло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Данные о нелегальной миграции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сточники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о задержаниях на границ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Статистика установленных фактов торговли людь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кампаний по регуляризации и амнист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о высылке и депор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Данные о нелегальной миграции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Чистая иммиграция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(EU &amp; Efta 2003): 1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Потоки нелегалов в страны Евросоюза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15 (2001): 808,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егуляризации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EU – 15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1995 – 2002: 2,5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а</a:t>
            </a:r>
            <a:br>
              <a:rPr sz="2400"/>
            </a:b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1973 -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: &lt; 4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Задержания на границе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Долгосрочные тенденции в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транах Центральной и Восточной Европы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, 1999 - 200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012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1981080"/>
          <a:ext cx="7848360" cy="450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78483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Задержания на границе </a:t>
            </a:r>
            <a:br>
              <a:rPr sz="4000"/>
            </a:b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(пример Германии)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012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6705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228600"/>
            <a:ext cx="7583400" cy="103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Кампании по регуляризации в странах </a:t>
            </a:r>
            <a:r>
              <a:rPr b="0" lang="fr-CH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ОЭСР (</a:t>
            </a: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OEC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1447920"/>
          <a:ext cx="8001000" cy="519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80010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Глобальные оценк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чет Госдепартамента США о торговле людьми -   (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U.S. State Department, Trafficking in Persons Report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)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2004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600,000 – 80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ужчин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женщин и детей становятся ежегодно жертвами трафф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Данные Европейской комиссии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2001: 12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человек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переправляются по каналам траффика в страны Евросоюза ежегод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Организация по безопасности и сотрудничеству в Европ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(OSCE) 2000: 20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женщин и детей переправляются по каналам траффика в страны ОБСЕ ежегод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ILO 2002: 1.2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а детей стали жертвами траффика по всему ми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23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3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413000"/>
            <a:ext cx="78487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«Торговля людьми»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лжна обозначать вербовку, перевозку, передачу, укрывательство или получение человека  посредством угрозы или применения насилия или иных форм принуждения,  насильственного похищения,  обмана, мошенничества, превышения полномочий или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спользования зависимого положения, или посредством предоставления или приобретения  выгоды для получения согласия лица, имеющего власть (контроль) над другим лицом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 целью эксплуа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«Эксплуатация» включает в себя, как минимум, использование занятия проституцией другими лицами и иные формы сексуальной эксплуатации, принудительный труд или услуги, рабский труд или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актики сходные с рабством,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дневольное состояние или изъятие орга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228240"/>
            <a:ext cx="756108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Проблемы и</a:t>
            </a:r>
            <a:r>
              <a:rPr b="0" lang="fr-CH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сферы деятельности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дность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зработ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У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авенство п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реступ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Миг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Глоб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ынк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рава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17:02Z</dcterms:created>
  <dc:creator>ITS</dc:creator>
  <dc:description/>
  <dc:language>en-US</dc:language>
  <cp:lastModifiedBy>user</cp:lastModifiedBy>
  <dcterms:modified xsi:type="dcterms:W3CDTF">2005-04-26T13:40:50Z</dcterms:modified>
  <cp:revision>27</cp:revision>
  <dc:subject/>
  <dc:title>PowerPoint Presentation</dc:title>
</cp:coreProperties>
</file>