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32000" y="6237360"/>
            <a:ext cx="2743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CE Statistica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PlaceHolder 4"/>
            <p:cNvSpPr>
              <a:spLocks noGrp="1"/>
            </p:cNvSpPr>
            <p:nvPr>
              <p:ph type="dt" idx="2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Международная миграция</a:t>
            </a: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: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рактики переписей Раунда 2000 г.</a:t>
            </a: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 и  вопросы к 2010 г.</a:t>
            </a: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43434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Энрико Бизонь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Европейская экономическая комиссия О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дел стат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UNFPA-UNECE-NIDI Training Programme on International Migration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fr-CH" sz="2000" spc="-1" strike="noStrike">
                <a:solidFill>
                  <a:srgbClr val="dddddd"/>
                </a:solidFill>
                <a:latin typeface="Times New Roman"/>
              </a:rPr>
              <a:t>24-28 Januar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24000" y="1341360"/>
          <a:ext cx="8569080" cy="4667400"/>
        </p:xfrm>
        <a:graphic>
          <a:graphicData uri="http://schemas.openxmlformats.org/drawingml/2006/table">
            <a:tbl>
              <a:tblPr/>
              <a:tblGrid>
                <a:gridCol w="2089080"/>
                <a:gridCol w="1582560"/>
                <a:gridCol w="1486080"/>
                <a:gridCol w="1466640"/>
                <a:gridCol w="995400"/>
                <a:gridCol w="94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оянное нас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ичное нас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селение не подс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енные иностранные рабо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оянно проживающие иностранцы без легального стат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ца, ищущие убеж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жен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енно отсутству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008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Особые группы и методы подсчета населения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Беженцы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омендации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.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ключ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остоянное население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ы считали их постоянными ж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076640"/>
            <a:ext cx="7467480" cy="206712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ы с определениями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: 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а беженц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195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Женевская конв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манитарные  бежен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овое переме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Иностранцы без легального статуса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омендации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 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т специального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енный в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резвычайно разнообразные подходы в разных стран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писей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20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.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 ли общее мнение?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ход 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 fact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ридически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Потоки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а разных подх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Вы постоянно проживали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?  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31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рана, Раунд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 2000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Вы переехали сюда на жительство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29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ран,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унд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 2000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Для чего нужны данные переписей о потоках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нутренняя миг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я о местах выхода и в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миг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мониторинга отсутству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 миграции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ость прожи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Вопросы типа А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ют подробности относительно места выхода/в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ует информация о том, когда миграция имела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Вопросы типа 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B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 точны в отношении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764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т информ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месте вых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происхожде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Применение этих вопросов в Раунде переписей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 2010</a:t>
            </a: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 г.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просы типа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 подходят для внутренней миг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просы типа В лучше  подходят для международной миг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комбинация обоих  подход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Вы переехали на жительство в этот муниципалитет и отку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Вы переехали на жительство в эту страну и отку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Причина миграции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поминается в рекомендациях 2000 г.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 включили этот в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ование со стороны пользователей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удовая миграция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Вопросы для Рекомендаций  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2010</a:t>
            </a: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 г.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ий вопрос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ий от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200400"/>
            <a:ext cx="7543800" cy="2835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ее детализированные вопросы</a:t>
            </a: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ициальная причина, если таковая име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еление причин и ц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а выбора именно этой стр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План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сло мигрантов в стр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  для определения числа иммигрантов в стра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я отдельных груп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вопрос (вопросы) лучше всего позволяет уловить  миграц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а миг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Некоторые вопросы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вопросы, по Вашему мнению будут включены в программу следующей переписи в Вашей стра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, по Вашему мнению, будут интерпретироваться особые подгруппы насел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 ли «связать» перепись с другими источник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комендациях 2000 г. отсутствуют четкие определения  этой катег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имание фокусируется на двух сопряженных переменных 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х тема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/страна рождения (44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ра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ключили этот вопрос в программу перепис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жданство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2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раны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Число иммигрантов</a:t>
            </a: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: </a:t>
            </a:r>
            <a:br>
              <a:rPr sz="4400"/>
            </a:br>
            <a:r>
              <a:rPr b="1" lang="ru-RU" sz="4400" spc="-1" strike="noStrike">
                <a:solidFill>
                  <a:srgbClr val="dddddd"/>
                </a:solidFill>
                <a:latin typeface="Garamond"/>
              </a:rPr>
              <a:t>определение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Место рождения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: </a:t>
            </a: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определение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сто жительства матери на момент ро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екомендации 2000 г.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3645000"/>
            <a:ext cx="7696440" cy="263916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которые тру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н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ли критерий фактического  мест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ный процент вопросов без от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Швейцарии</a:t>
            </a: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: 28%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и швейцарцев, родившихся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Для чего нужны данные о числе мигрантов в стране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9780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мониторинга численности и состава населения иностранного происхождения, имея в виду долгосрочную перспективу их интег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1584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Предположение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: </a:t>
            </a: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население с иностранным происхождением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09680"/>
            <a:ext cx="6400800" cy="1676520"/>
            <a:chOff x="1371600" y="2209680"/>
            <a:chExt cx="6400800" cy="1676520"/>
          </a:xfrm>
        </p:grpSpPr>
        <p:sp>
          <p:nvSpPr>
            <p:cNvPr id="59" name=""/>
            <p:cNvSpPr/>
            <p:nvPr/>
          </p:nvSpPr>
          <p:spPr>
            <a:xfrm>
              <a:off x="1371600" y="2209680"/>
              <a:ext cx="6248520" cy="1676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38680" y="2286000"/>
              <a:ext cx="21337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дившиеся за границей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1-е поколение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86400" y="2666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371600" y="3962520"/>
            <a:ext cx="6248520" cy="1676160"/>
            <a:chOff x="1371600" y="3962520"/>
            <a:chExt cx="6248520" cy="1676160"/>
          </a:xfrm>
        </p:grpSpPr>
        <p:sp>
          <p:nvSpPr>
            <p:cNvPr id="63" name=""/>
            <p:cNvSpPr/>
            <p:nvPr/>
          </p:nvSpPr>
          <p:spPr>
            <a:xfrm>
              <a:off x="1371600" y="3962520"/>
              <a:ext cx="6248520" cy="1676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2600" y="51055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-е покол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48120" y="2209680"/>
            <a:ext cx="2819160" cy="3429000"/>
            <a:chOff x="3048120" y="2209680"/>
            <a:chExt cx="2819160" cy="3429000"/>
          </a:xfrm>
        </p:grpSpPr>
        <p:grpSp>
          <p:nvGrpSpPr>
            <p:cNvPr id="66" name=""/>
            <p:cNvGrpSpPr/>
            <p:nvPr/>
          </p:nvGrpSpPr>
          <p:grpSpPr>
            <a:xfrm>
              <a:off x="3048120" y="2209680"/>
              <a:ext cx="2819160" cy="3429000"/>
              <a:chOff x="3048120" y="2209680"/>
              <a:chExt cx="2819160" cy="3429000"/>
            </a:xfrm>
          </p:grpSpPr>
          <p:sp>
            <p:nvSpPr>
              <p:cNvPr id="67" name=""/>
              <p:cNvSpPr/>
              <p:nvPr/>
            </p:nvSpPr>
            <p:spPr>
              <a:xfrm>
                <a:off x="3048120" y="2209680"/>
                <a:ext cx="2743200" cy="3429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048120" y="396252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8120" y="388620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32004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Какие вопросы следует включать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сто рождения род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тво при рожд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ба вопроса включены в рекомендации 2000 г. в качестве дополнительных (не обязательных)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306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Иммиграция из Центральной Европы во Францию</a:t>
            </a:r>
            <a:r>
              <a:rPr b="1" lang="fr-CH" sz="4000" spc="-1" strike="noStrike">
                <a:solidFill>
                  <a:srgbClr val="dddddd"/>
                </a:solidFill>
                <a:latin typeface="Garamond"/>
              </a:rPr>
              <a:t> (1999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остранцы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1104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вшиеся за границей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22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ца с иностран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схождением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3244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Garamond"/>
              </a:rPr>
              <a:t>Особые группы (категории) населения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 иностранные работники с легальным статус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роживающие иностранцы , не имеющие легального стату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ищущие убеж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енцы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 отсутствующие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user</cp:lastModifiedBy>
  <dcterms:modified xsi:type="dcterms:W3CDTF">2005-03-28T05:53:22Z</dcterms:modified>
  <cp:revision>244</cp:revision>
  <dc:subject/>
  <dc:title>THE STATUS OF STATISTICS ON WOMEN AND MEN’S  ENTREPRENEURSHIP IN THE      UNECE REGION </dc:title>
</cp:coreProperties>
</file>