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32000" y="6237360"/>
            <a:ext cx="2743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ECE Statistical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39640" y="6165720"/>
            <a:ext cx="544680" cy="457200"/>
            <a:chOff x="539640" y="6165720"/>
            <a:chExt cx="544680" cy="4572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544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PlaceHolder 4"/>
            <p:cNvSpPr>
              <a:spLocks noGrp="1"/>
            </p:cNvSpPr>
            <p:nvPr>
              <p:ph type="dt" idx="2"/>
            </p:nvPr>
          </p:nvSpPr>
          <p:spPr>
            <a:xfrm>
              <a:off x="539640" y="6165720"/>
              <a:ext cx="544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76960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a50021"/>
                </a:solidFill>
                <a:latin typeface="Times New Roman"/>
              </a:rPr>
              <a:t>International migration: </a:t>
            </a:r>
            <a:br>
              <a:rPr sz="4400"/>
            </a:br>
            <a:r>
              <a:rPr b="1" lang="fr-CH" sz="4400" spc="-1" strike="noStrike">
                <a:solidFill>
                  <a:srgbClr val="a50021"/>
                </a:solidFill>
                <a:latin typeface="Times New Roman"/>
              </a:rPr>
              <a:t>practices of 2000 Round </a:t>
            </a:r>
            <a:br>
              <a:rPr sz="4400"/>
            </a:br>
            <a:r>
              <a:rPr b="1" lang="fr-CH" sz="4400" spc="-1" strike="noStrike">
                <a:solidFill>
                  <a:srgbClr val="a50021"/>
                </a:solidFill>
                <a:latin typeface="Times New Roman"/>
              </a:rPr>
              <a:t>and issues for 2010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43434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nrico Biso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N Economic Commission for Eur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Statistical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720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UNFPA-UNECE-NIDI Training Programme on International Migration</a:t>
            </a:r>
            <a:r>
              <a:rPr b="1" lang="en-GB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fr-CH" sz="2000" spc="-1" strike="noStrike">
                <a:solidFill>
                  <a:srgbClr val="dddddd"/>
                </a:solidFill>
                <a:latin typeface="Times New Roman"/>
              </a:rPr>
              <a:t>24-28 January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Special groups and population count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2133720"/>
          <a:ext cx="807696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0769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Refugee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2000 Rec: </a:t>
            </a:r>
            <a:r>
              <a:rPr b="0" lang="fr-CH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clude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in resident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28 countries considered them as res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733920"/>
            <a:ext cx="7467480" cy="2348280"/>
          </a:xfrm>
          <a:prstGeom prst="rect">
            <a:avLst/>
          </a:prstGeom>
          <a:solidFill>
            <a:srgbClr val="8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Definitional problems: 3 types of refug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1951 Geneva Con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Humanitarian refug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Mass dis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Foreigners without legal statu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2000 Recomm: </a:t>
            </a:r>
            <a:r>
              <a:rPr b="0" lang="fr-CH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 specific pro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Sensitive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Very diverse approaches across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For 2010: is a common position pos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 facto or legal approa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Flow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Two different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Where were you resident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years ago?  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31 countries in 2000 Rou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When did you come to live here?          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29 countries in 2000 Rou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Why census data on flows?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al mi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Information on origin and dest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ational mi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o monitoring purpo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Migration date </a:t>
            </a: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duration of res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Type A question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Origin-destination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 information on when the migration occu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Type B question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y precise on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 information on ori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Implications for 2010 Round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Type A better fit for internal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Type B better fit for international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wo approaches can be comb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did you come to live in this municipality from 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did you come to live in this country and from 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Reason for migration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mentioned in 2000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11 countries included this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Demand from users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labour mig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Issues for 2010 Recommendation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General question, generic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200400"/>
            <a:ext cx="7543800" cy="234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More specific 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Official reason, if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Distinguish between causes and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Reason for selecting the 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Overview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to identify the stock of immi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of special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</a:rPr>
              <a:t>Fl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Which question(s) best capture migra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Reason for mi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a50021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What questions do you think will be included in the next census in your count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How do you think special population subgroups will be trea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Is it possible to ‘link’ the census with other sour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o clear definition of this group in the 2000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Focus on two related variables (core-to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Place/country of birth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44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Citizenship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42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Stock of immigrants: </a:t>
            </a:r>
            <a:br>
              <a:rPr sz="4400"/>
            </a:b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the definition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Place of birth: the definition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Mother’s residence at the time of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2000 Recommend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429000"/>
            <a:ext cx="7696080" cy="2348280"/>
          </a:xfrm>
          <a:prstGeom prst="rect">
            <a:avLst/>
          </a:prstGeom>
          <a:solidFill>
            <a:srgbClr val="8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Times New Roman"/>
              </a:rPr>
              <a:t>Some com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25 countries used the actual place of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Higher non-response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In Switzerland: 28% among CH born ab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Why data on stocks?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CH" sz="3600" spc="-1" strike="noStrike">
                <a:solidFill>
                  <a:srgbClr val="000000"/>
                </a:solidFill>
                <a:latin typeface="Times New Roman"/>
              </a:rPr>
              <a:t>Monitor size and composition of population with foreign 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</a:rPr>
              <a:t>having a long-term view on their integ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1240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A proposal: population with foreign background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84836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Which questions to include?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Place of births of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Citizenship at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both included in 2000 Recommendations as non-core to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Immigrants from Central Europe in France (1999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Foreigners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1104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Foreign-born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2283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Persons with foreign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3244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back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Special population group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foreign workers with legal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ent foreigners without legal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lum see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uge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ily absent pers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9:32:39Z</dcterms:created>
  <dc:creator>Giovannelli</dc:creator>
  <dc:description/>
  <dc:language>en-US</dc:language>
  <cp:lastModifiedBy>unece</cp:lastModifiedBy>
  <dcterms:modified xsi:type="dcterms:W3CDTF">2005-01-25T08:16:43Z</dcterms:modified>
  <cp:revision>231</cp:revision>
  <dc:subject/>
  <dc:title>THE STATUS OF STATISTICS ON WOMEN AND MEN’S  ENTREPRENEURSHIP IN THE      UNECE REGION </dc:title>
</cp:coreProperties>
</file>