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6071-F560-473A-9C14-26D11ED1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AC65-0EBF-4993-A726-338D9A8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3F4B-4C11-4CF5-94E1-33209347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9967-F2B7-40FE-85C6-5786DC96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3E7E-15A4-4398-8563-B29E854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C2F3-C0D5-4BC9-BE0D-7A03ABAA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3DB9-4C3A-453C-A6B0-FCB30F0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566A-D60C-4B4B-B398-DD41851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591A-6E3B-4471-A1ED-0AC415B0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77E5-10F0-4608-881E-615B0DF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5319-3C46-4474-9947-0E8EBA5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704F-D55A-4519-8F8B-6E8B1404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CF0-1B06-47E8-A463-C1E955AB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6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Наличие и полнота официальных данных по некоторым аспектам международной миг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76000" y="4436640"/>
            <a:ext cx="62960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рико Бизо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экономическая комиссия  ООН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 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7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31760" y="852480"/>
            <a:ext cx="94075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50920" y="520560"/>
          <a:ext cx="8424720" cy="57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20560"/>
                    <a:ext cx="842472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3: Страны, разрабатывающ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числу мигрантов в стра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аланс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5399640"/>
            <a:ext cx="41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2492280"/>
          <a:ext cx="6765480" cy="2449080"/>
        </p:xfrm>
        <a:graphic>
          <a:graphicData uri="http://schemas.openxmlformats.org/drawingml/2006/table">
            <a:tbl>
              <a:tblPr/>
              <a:tblGrid>
                <a:gridCol w="3424320"/>
                <a:gridCol w="334116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по числу мигра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1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ser</cp:lastModifiedBy>
  <dcterms:modified xsi:type="dcterms:W3CDTF">2005-03-26T20:53:58Z</dcterms:modified>
  <cp:revision>137</cp:revision>
  <dc:subject/>
  <dc:title>A shared approach to defining migrant populations: an uthopia?</dc:title>
</cp:coreProperties>
</file>