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0AD0C-70A2-47F2-ABD5-D6155696B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3F216-6CCA-43AF-8BE4-17F5EE06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02356-3663-45AC-8153-0AD5D6E81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1EBDA-0F8A-42C9-8AA5-1027D8A75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51FFE-26D2-4BDD-B90D-B9FA9B08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F186E-C86F-4C57-B67C-101D4A5A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35AE1-AF8F-409E-ABCE-61209A8B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29C1A-7808-4F85-A845-D2E587F9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74DD3-359C-4499-8FCB-911EA9AA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48BF5-3C13-4093-AF26-9A36669B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8A11E-5ED5-47EB-80FE-29094042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071E7-90D2-4ED6-B765-8E55A2E6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un.org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7034-06C8-4C5F-BD59-EFA3BF552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-360" y="6552720"/>
            <a:ext cx="3809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CH" sz="10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000" spc="-1" strike="noStrike">
                <a:solidFill>
                  <a:srgbClr val="003399"/>
                </a:solidFill>
                <a:latin typeface="Arial"/>
              </a:rPr>
              <a:t>International migration: definitions and current pract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672320" y="6400800"/>
            <a:ext cx="1471320" cy="425520"/>
            <a:chOff x="7672320" y="6400800"/>
            <a:chExt cx="1471320" cy="425520"/>
          </a:xfrm>
        </p:grpSpPr>
        <p:pic>
          <p:nvPicPr>
            <p:cNvPr id="6" name="" descr="United Nations Economic Commission for Europe"/>
            <p:cNvPicPr/>
            <p:nvPr/>
          </p:nvPicPr>
          <p:blipFill>
            <a:blip r:embed="rId2"/>
            <a:stretch/>
          </p:blipFill>
          <p:spPr>
            <a:xfrm>
              <a:off x="8100360" y="6443640"/>
              <a:ext cx="1043280" cy="3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unlogo" descr="United Nations">
              <a:hlinkClick r:id="rId3"/>
            </p:cNvPr>
            <p:cNvPicPr/>
            <p:nvPr/>
          </p:nvPicPr>
          <p:blipFill>
            <a:blip r:embed="rId4">
              <a:lum bright="2000"/>
            </a:blip>
            <a:stretch/>
          </p:blipFill>
          <p:spPr>
            <a:xfrm>
              <a:off x="7672320" y="6400800"/>
              <a:ext cx="426240" cy="3585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un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320" y="24379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Наличие и полнота официальных данных по некоторым аспектам международной мигр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76000" y="4436640"/>
            <a:ext cx="62960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нрико Бизонь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вропейская экономическая комиссия  ООН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дел стат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United Nations Economic Commission for Europe"/>
          <p:cNvPicPr/>
          <p:nvPr/>
        </p:nvPicPr>
        <p:blipFill>
          <a:blip r:embed="rId1"/>
          <a:stretch/>
        </p:blipFill>
        <p:spPr>
          <a:xfrm>
            <a:off x="7238880" y="533520"/>
            <a:ext cx="1857600" cy="680760"/>
          </a:xfrm>
          <a:prstGeom prst="rect">
            <a:avLst/>
          </a:prstGeom>
          <a:ln w="0">
            <a:noFill/>
          </a:ln>
        </p:spPr>
      </p:pic>
      <p:pic>
        <p:nvPicPr>
          <p:cNvPr id="47" name="unlogo" descr="United Nations">
            <a:hlinkClick r:id="rId2"/>
          </p:cNvPr>
          <p:cNvPicPr/>
          <p:nvPr/>
        </p:nvPicPr>
        <p:blipFill>
          <a:blip r:embed="rId3">
            <a:lum bright="2000"/>
          </a:blip>
          <a:stretch/>
        </p:blipFill>
        <p:spPr>
          <a:xfrm>
            <a:off x="6477120" y="457200"/>
            <a:ext cx="758880" cy="638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65240" y="42609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131760" y="852480"/>
            <a:ext cx="940752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50920" y="520560"/>
          <a:ext cx="8424720" cy="578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520560"/>
                    <a:ext cx="8424720" cy="57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блица 3: Страны, разрабатывающ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е по числу мигрантов в стран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баланс нас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32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5399640"/>
            <a:ext cx="41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estionn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85800" y="2492280"/>
          <a:ext cx="6765480" cy="2449080"/>
        </p:xfrm>
        <a:graphic>
          <a:graphicData uri="http://schemas.openxmlformats.org/drawingml/2006/table">
            <a:tbl>
              <a:tblPr/>
              <a:tblGrid>
                <a:gridCol w="3424320"/>
                <a:gridCol w="3341160"/>
              </a:tblGrid>
              <a:tr h="75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р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ные по числу мигран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 насел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8137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8569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16:51:34Z</dcterms:created>
  <dc:creator>bisogno enrico</dc:creator>
  <dc:description/>
  <dc:language>en-US</dc:language>
  <cp:lastModifiedBy>user</cp:lastModifiedBy>
  <dcterms:modified xsi:type="dcterms:W3CDTF">2005-03-26T20:53:58Z</dcterms:modified>
  <cp:revision>137</cp:revision>
  <dc:subject/>
  <dc:title>A shared approach to defining migrant populations: an uthopia?</dc:title>
</cp:coreProperties>
</file>