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0A0D-71AC-42C4-B6D0-AF78FFEB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0EE2-5451-4D55-9FB5-D737A0C7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6E21-EE78-4D0E-BD4E-42B86E0B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D1AA-0D3B-47F4-93C3-2AF03DFA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B90E-295C-406F-AB11-6CD85BBB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1939-9C9C-4638-A8F0-92E200B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6018-A1CF-47CF-A701-0F49EB7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4499-3204-47E2-A868-961EEFA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E76C-A424-4C09-8D11-284EC39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C485-DAB8-4116-9451-59DED787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2BB7-7A2C-4728-AF5B-8A744CBA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DA70-7ACA-43EA-ACEC-6009A8FB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EB1-96AA-4665-88F3-7B89552E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6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Availability and coverage of official data on selected aspects of international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7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841320"/>
            <a:ext cx="67024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1000" y="2286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17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505320"/>
            <a:ext cx="45720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029200"/>
            <a:ext cx="1371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137160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105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2120" y="1528920"/>
            <a:ext cx="8159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2120" y="1281240"/>
            <a:ext cx="81597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nece</cp:lastModifiedBy>
  <dcterms:modified xsi:type="dcterms:W3CDTF">2005-01-25T07:57:10Z</dcterms:modified>
  <cp:revision>125</cp:revision>
  <dc:subject/>
  <dc:title>A shared approach to defining migrant populations: an uthopia?</dc:title>
</cp:coreProperties>
</file>