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AF8A-289B-4E37-8159-38AE510460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дающийся французский демограф Роланд Пресса еще более 30 лет назад  писал, что «статистические данные о внутренних миграциях отсутствуют часто даже в таких странах, где демографическая статистика хорошо поставлена,… международные миграции измеряются очень приближенно, а миграция внутри страны учитывается еще хуже» (Пресса Р., с.1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какой степени это утверждение может считаться актуальным сегодн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ожалению, и сейчас в силу объективных причин проблемы миграционной статистики не менее актуальны. Развитие миграционных процессов, появление новых форм и видов территориальной подвижности населения предъявляют все новые требования к методикам определения объемов и состава миграционных потоков.</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ожалению, и сейчас в силу объективных причин проблемы миграционной статистики не менее актуальн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0" lang="ru-RU" sz="1000" spc="-1" strike="noStrike">
                <a:solidFill>
                  <a:srgbClr val="000000"/>
                </a:solidFill>
                <a:latin typeface="Arial"/>
              </a:rPr>
              <a:t>Учет миграции является одним из наиболее трудных видов сбора данных о населении и вызывает у специалистов наибольшее число замечаний. Основная проблема состоит в процедуре «идентификации мигранта».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Times New Roman"/>
              </a:rPr>
              <a:t>“</a:t>
            </a:r>
            <a:r>
              <a:rPr b="1" i="1" lang="en-US" sz="1000" spc="-1" strike="noStrike">
                <a:solidFill>
                  <a:srgbClr val="000099"/>
                </a:solidFill>
                <a:latin typeface="Times New Roman"/>
              </a:rPr>
              <a:t>Comparability of international statistics is so low that it frequently stops the development of a correct analysis”. </a:t>
            </a:r>
            <a:endParaRPr b="0" lang="en-US" sz="10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99"/>
                </a:solidFill>
                <a:latin typeface="Times New Roman"/>
              </a:rPr>
              <a:t>(Poulain M., Perrin N.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99"/>
                </a:solidFill>
                <a:latin typeface="Times New Roman"/>
              </a:rPr>
              <a:t>Is the measurement of international migration flows improving in Europe?  2001)</a:t>
            </a: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поставимость международной статистики настолько низка, что часто является препятствием для проведения корректного анализа</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 ясно, как определяется цель поездки – вряд ли по визе, т.к. более 60% поездок осуществляется из стран с безвизовым режимо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уществует риск того, что  в основном ЦБД будет приспособлен в основном для поиска индивидуальных сведений о конкретных лицах. Насколько ЦБД будет адаптирован для работы в качестве базы данных – не известно.</a:t>
            </a:r>
            <a:r>
              <a:rPr b="0" lang="en-US" sz="1000" spc="-1" strike="noStrike">
                <a:solidFill>
                  <a:srgbClr val="000000"/>
                </a:solidFill>
                <a:latin typeface="Arial"/>
              </a:rPr>
              <a:t>   </a:t>
            </a:r>
            <a:r>
              <a:rPr b="0" lang="ru-RU" sz="1000" spc="-1" strike="noStrike">
                <a:solidFill>
                  <a:srgbClr val="000000"/>
                </a:solidFill>
                <a:latin typeface="Arial"/>
              </a:rPr>
              <a:t>Разработка ЦБД закрыта для обсуждения с представителями гражданской науки и статистик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словам  А.А Чекалина, введение единого банка данных позволит "не упустить ни одной информации о каждом конкретном иностранце", а также постоянно контролировать миграционные процессы в РФ</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меститель председателя ФМС, И. Юнаш  также делает акцент на этой функции банка данных, в одном из интервью он сказал, что:   «к концу 2005 года будет создана единая электронная база данных на иностранцев и лиц без гражданства, находящихся на территории РФ. </a:t>
            </a:r>
            <a:r>
              <a:rPr b="1" lang="ru-RU" sz="1000" spc="-1" strike="noStrike">
                <a:solidFill>
                  <a:srgbClr val="000000"/>
                </a:solidFill>
                <a:latin typeface="Arial"/>
              </a:rPr>
              <a:t>Тогда любой милиционер, остановивший иностранца, сможет за считанные минуты проверить: когда он въехал в Россию, есть ли у него разрешение на работу, регистрация, вид на жительство.»</a:t>
            </a:r>
            <a:r>
              <a:rPr b="0" lang="ru-RU"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Arial"/>
              </a:rPr>
              <a:t>К разработке банка данных привлечены ведомства, в основном далекие от  традиционной статистики населения[1].  Закрытость этой темы для обсуждения в кругу специалистов в области учета населения, ученых и практиков,  не позволяет оценить, насколько этот банк данных будет приспособлен для статистической обработки информации, как  будет происходить  корректировка ввода, оценка  его качества и т.д.  Не имея представления о процедурах сбора и обработки данных, нельзя этим данным доверять.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Arial"/>
              </a:rPr>
              <a:t>[1]См.  Приказ МВД РФ, МНС РФ, МИД РФ, МПС РФ, Минсвязи РФ, Минтранса РФ,  Минтруда РФ, ГТК РФ и ФСБ РФот 28 июля 2003 г. N 512/ БГ-3-09/379/8867/53/82/157/163/725/433 "О проведении организационно-практических мероприятий по созданию центрального банка данных по учету иностранных граждан, временно пребывающих и проживающих в Российской Федерац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днако, прошло уже достаточно времени для того, чтобы эти причины преодолеть. Этого, к сожалению не происходит.  Поэтому,  мы полагаем, что в настоящее время главными причинами кризиса в области учета миграции, как внешней, так и внутренней,  выступают обстоятельства скорее субъективные, чем объективные: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тсутствие координации в деятельности ведомств, ведущих различные системы учета международной и внутренней мобильности населения 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понимание лицами,  принимающими решения в области учета мигрантов,  что статистика миграции не ведомственное, а общегосударственное дело, игнорирование мнения гражданских специалистов в вопросах статистики мигр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ножественность инструкций, регламентирующих процедуру регистрации, частая смена кадров ,за нее отвечающих, все это вносит значительную путаницу в процедуру учета мигрантов. Необходим срочный пересмотр  и  приведение в порядок нормативной базы в области сбора, ,обработки и распространения статистической информации о мобильном населе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сложившихся условиях  миграционная политика оказалась лишенной четких ориентиров в отношении объемов  и состава миграционных потоков внутренней и международной миграции, или эти ориентиры искажены.  Научное сообщество не имеет основы для анализа миграционных процессов и выработки рекомендаций  в отношении миграционной политики.  Труд ученых и статистиков лишается моральных стимулов, поскольку связан с обработкой заведомо некорректных данных. Образуются  невосполнимые «провалы» в данных, нарушаются ряды наблюдения.  Снижаются требования к качеству научных исследований.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000000"/>
                </a:solidFill>
                <a:uFillTx/>
                <a:latin typeface="Arial"/>
              </a:rPr>
              <a:t>Два сегмента данных административных источников (это норма)</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000000"/>
                </a:solidFill>
                <a:uFillTx/>
                <a:latin typeface="Arial"/>
              </a:rPr>
              <a:t>Публикуемая и для служебного пользовани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  </a:t>
            </a:r>
            <a:r>
              <a:rPr b="0" i="1" lang="ru-RU" sz="1000" spc="-1" strike="noStrike">
                <a:solidFill>
                  <a:srgbClr val="000000"/>
                </a:solidFill>
                <a:latin typeface="Arial"/>
              </a:rPr>
              <a:t>У </a:t>
            </a:r>
            <a:r>
              <a:rPr b="0" lang="ru-RU" sz="1000" spc="-1" strike="noStrike">
                <a:solidFill>
                  <a:srgbClr val="000000"/>
                </a:solidFill>
                <a:latin typeface="Arial"/>
              </a:rPr>
              <a:t>кого-то может сложиться впечатление, что наше стремление  «всех посчитать» каким-то образом ущемляет права граждан на свободу передвижения  или иные права. Но так воспринимают проблему учета  либо не специалисты,  либо люди, не желающие эту проблему решать.   Пока что паспортная система у нас не отменена, регистрация тоже.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граждане России, и иностранцы, намеревающиеся оставаться на новом месте длительное время должны так или иначе зарегистрировать свое пребывание. То есть,  нет  никаких видимых препятствий к тому, чтобы в момент подобной регистрации  включить таких мигрантов в статистическое наблюдение- всего лишь составить на них форму 1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сколько мне известно, никто пока  также не предложил никакой реальной  альтернативной системы статистики миграции.  Центральный банк данных по учету иностранных граждан пока что существует только на словах,  каким он будет – никому не известно и его создание окружено тайной. Кроме того, он не решит проблему учета внутренней миграции.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чем отвергать или разрушать жизнеспособную и нормальную систему статистического учета, не создав еще ничего взамен?</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c0000"/>
                </a:solidFill>
                <a:latin typeface="Arial"/>
              </a:rPr>
              <a:t>О ПОЗИЦИИ СТАТИСТИКОВ И МВД – АКТИВНОЕ И КОНСТРУКТИВНОЕ СОТРУДНИЧЕСТВ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c0000"/>
                </a:solidFill>
                <a:latin typeface="Arial"/>
              </a:rPr>
              <a:t>25 дек. 1950 г.  Письмо «начальнику главного управления милиции   МГБ СССР тов. Овчинникову А.М. от зам. Начальника ЦСУ СССР И.Писарева  -с описанием недостатков и просьбой принять меры.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040"/>
            <a:ext cx="5486400" cy="46213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В настоящее время, когда регулирование миграционных процессов заявлено в качестве одного из государственных приоритетов:</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Когда практикам или исследователям требуется получить представление о  миграционной обстановке в нашей стране, узнать, к примеру, сколько в Россию прибыло мигрантов, сколько выбыло за ее пределы, каким был объем внутренней миграции и так далее,  они  в первую очередь обращаются  к официальным публикациям Федеральной службы государственной статистики.</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колько таблиц, какие сочетания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440" y="4343400"/>
            <a:ext cx="5638680" cy="44956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начала учет и граждан РФ и иностранцев осуществлялся по одной и той же методике, с исп. Одинаковых учетных форм.</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енная мной информация показывает, как  изменения  критериев идентификации мигранта приводят к искажению собираемой статистики и отдалению получаемых данных от действительност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роки временной регистрации – от 3 месяцев  до полугода. В Москве был период, когда регистрацию разрешили на срок до пяти лет, теперь опять – 6 месяцев</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УБЛИКАЦИЯ МЕТОДОЛОГИЙ= изменения остаются практически без комментариев. Даже указание на то, что учтены зарегистрированные по месту жительства, несведущему человеку мало что объясняе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яснения Росстата –не им. Права публиковать неофициальные сведени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c3300"/>
                </a:solidFill>
                <a:latin typeface="Arial"/>
              </a:rPr>
              <a:t>Ситуация осложняется тем, что в России отсутствуют </a:t>
            </a:r>
            <a:r>
              <a:rPr b="1" i="1" lang="ru-RU" sz="1000" spc="-1" strike="noStrike">
                <a:solidFill>
                  <a:srgbClr val="cc3300"/>
                </a:solidFill>
                <a:latin typeface="Arial"/>
              </a:rPr>
              <a:t>традиции (в них, видимо, не было нужды ранее) пересчета, переоценки данных при смене методологии получения первичной информации. Кроме того, при таких переменах вообще трудно оценить масштабы недоучета и такую переоценку сделать.</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00"/>
                </a:solidFill>
                <a:uFillTx/>
                <a:latin typeface="Arial"/>
              </a:rPr>
              <a:t>Нельзя даже высказать критики в адрес статистиков по поводу того, что они не публикуют в своих ежегодниках сведений об изменении методологии учета, так как сами не имеют доступа к такой информации. МВД, как правило, не сообщает статистикам о введении новых правил или практик учета мигрантов, значительная часть информации добывается с помощью личных связей и неформальных консультаций. Поэтому публиковать такие сведения Росстат, видимо, просто не може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рушаются ряды данных,   происходит неверная интерпретация публикуемой статистической информации, делаются ложные вывод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уд статистиков и исследователей лишается моральных стимулов.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CCD68-F553-4824-BB67-053DC69A7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867A0-A6F0-4424-B0A0-3C3924F3F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43142-B6E7-4274-AC75-7B7679DF4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F78C6-1281-4E1D-8075-3C428BB65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7BEE5-6820-42F2-947C-4756DFEA1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56B1D-C03E-4AFC-BB2B-866F91BAB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35030-0193-4EF2-B689-BEBA399C4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59521-BFC5-4A6A-842B-61E63BD62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4D8D7-3B76-4759-8AEA-00C7FEFB5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E86DD-0FE6-44BF-B22C-EA0CF26D1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AB719-1B32-477F-AD34-1D4093427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4E09-4350-4280-8B90-C06F0336F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9DA0-CE37-4655-8821-B7A2B8AACA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efefe"/>
            </a:gs>
            <a:gs pos="100000">
              <a:srgbClr val="ffcc66"/>
            </a:gs>
          </a:gsLst>
          <a:lin ang="5400000"/>
        </a:gradFill>
      </p:bgPr>
    </p:bg>
    <p:spTree>
      <p:nvGrpSpPr>
        <p:cNvPr id="1" name=""/>
        <p:cNvGrpSpPr/>
        <p:nvPr/>
      </p:nvGrpSpPr>
      <p:grpSpPr>
        <a:xfrm>
          <a:off x="0" y="0"/>
          <a:ext cx="0" cy="0"/>
          <a:chOff x="0" y="0"/>
          <a:chExt cx="0" cy="0"/>
        </a:xfrm>
      </p:grpSpPr>
      <p:sp>
        <p:nvSpPr>
          <p:cNvPr id="48" name=""/>
          <p:cNvSpPr/>
          <p:nvPr/>
        </p:nvSpPr>
        <p:spPr>
          <a:xfrm>
            <a:off x="304920" y="152280"/>
            <a:ext cx="7696080" cy="327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49" name=""/>
          <p:cNvSpPr/>
          <p:nvPr/>
        </p:nvSpPr>
        <p:spPr>
          <a:xfrm>
            <a:off x="1371600" y="1981080"/>
            <a:ext cx="6400800" cy="4724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304920" y="304560"/>
            <a:ext cx="861048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ru-RU" sz="4000" spc="-1" strike="noStrike">
                <a:solidFill>
                  <a:srgbClr val="990033"/>
                </a:solidFill>
                <a:latin typeface="Times New Roman"/>
              </a:rPr>
              <a:t>Статистика миграции в России: основные проблемы и возможные пути решения</a:t>
            </a:r>
            <a:r>
              <a:rPr b="1" lang="en-US" sz="4000" spc="-1" strike="noStrike">
                <a:solidFill>
                  <a:srgbClr val="990033"/>
                </a:solidFill>
                <a:latin typeface="Times New Roman"/>
              </a:rPr>
              <a:t> </a:t>
            </a:r>
            <a:br>
              <a:rPr sz="4000"/>
            </a:b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endParaRPr b="0" lang="en-US" sz="4000" spc="-1" strike="noStrike">
              <a:solidFill>
                <a:srgbClr val="000000"/>
              </a:solidFill>
              <a:latin typeface="Arial"/>
            </a:endParaRPr>
          </a:p>
        </p:txBody>
      </p:sp>
      <p:sp>
        <p:nvSpPr>
          <p:cNvPr id="51" name="PlaceHolder 2"/>
          <p:cNvSpPr>
            <a:spLocks noGrp="1"/>
          </p:cNvSpPr>
          <p:nvPr>
            <p:ph/>
          </p:nvPr>
        </p:nvSpPr>
        <p:spPr>
          <a:xfrm>
            <a:off x="533520" y="2742840"/>
            <a:ext cx="8229600" cy="3763800"/>
          </a:xfrm>
          <a:prstGeom prst="rect">
            <a:avLst/>
          </a:prstGeom>
          <a:noFill/>
          <a:ln w="0">
            <a:noFill/>
          </a:ln>
        </p:spPr>
        <p:txBody>
          <a:bodyPr lIns="90000" rIns="90000" tIns="46800" bIns="46800" anchor="t">
            <a:normAutofit fontScale="91000"/>
          </a:bodyPr>
          <a:p>
            <a:pPr marL="55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ff"/>
                </a:solidFill>
                <a:latin typeface="Times New Roman"/>
              </a:rPr>
              <a:t>    </a:t>
            </a:r>
            <a:endParaRPr b="0" lang="en-US" sz="2800" spc="-1" strike="noStrike">
              <a:solidFill>
                <a:srgbClr val="000000"/>
              </a:solidFill>
              <a:latin typeface="Arial"/>
            </a:endParaRPr>
          </a:p>
          <a:p>
            <a:pPr marL="55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О. Чудиновских</a:t>
            </a:r>
            <a:endParaRPr b="0" lang="en-US" sz="1600" spc="-1" strike="noStrike">
              <a:solidFill>
                <a:srgbClr val="000000"/>
              </a:solidFill>
              <a:latin typeface="Arial"/>
            </a:endParaRPr>
          </a:p>
          <a:p>
            <a:pPr marL="55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Московский Государственный университет</a:t>
            </a:r>
            <a:endParaRPr b="0" lang="en-US" sz="1600" spc="-1" strike="noStrike">
              <a:solidFill>
                <a:srgbClr val="000000"/>
              </a:solidFill>
              <a:latin typeface="Arial"/>
            </a:endParaRPr>
          </a:p>
          <a:p>
            <a:pPr marL="55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olga@mail.econ.msu.r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Традиционные недостатки составления первичных документов</a:t>
            </a:r>
            <a:endParaRPr b="0" lang="en-US" sz="4000" spc="-1" strike="noStrike">
              <a:solidFill>
                <a:srgbClr val="000000"/>
              </a:solidFill>
              <a:latin typeface="Arial"/>
            </a:endParaRPr>
          </a:p>
        </p:txBody>
      </p:sp>
      <p:sp>
        <p:nvSpPr>
          <p:cNvPr id="68" name="PlaceHolder 2"/>
          <p:cNvSpPr>
            <a:spLocks noGrp="1"/>
          </p:cNvSpPr>
          <p:nvPr>
            <p:ph/>
          </p:nvPr>
        </p:nvSpPr>
        <p:spPr>
          <a:xfrm>
            <a:off x="457200" y="1981080"/>
            <a:ext cx="8229600" cy="467856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ы не составляются на тех, кто учету подлежит (в Москве – до 20 тысяч чел. в год),</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ы составляются на тех, кто не должен быть учтен, (новорожденные, лица, сменившие паспорт, внутригородские мигранты. и пр.)</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ы из милиции в стат. органы  частично не передаются</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войной учет детей до 14 лет – в учетном листке матери и отца.</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опросы без ответа</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аккуратность при составлении листка статистического учета (несовпадения дат и п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Основные  проблемы текущего учета миграции</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
          <p:cNvSpPr/>
          <p:nvPr/>
        </p:nvSpPr>
        <p:spPr>
          <a:xfrm>
            <a:off x="533520" y="152280"/>
            <a:ext cx="84582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09480" y="1676520"/>
            <a:ext cx="7925040" cy="45720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lgn="ctr">
              <a:lnSpc>
                <a:spcPct val="90000"/>
              </a:lnSpc>
              <a:spcBef>
                <a:spcPts val="7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00"/>
                </a:solidFill>
                <a:latin typeface="Times New Roman"/>
              </a:rPr>
              <a:t>Значительная недооценка прибытий</a:t>
            </a:r>
            <a:endParaRPr b="0" lang="en-US" sz="3200" spc="-1" strike="noStrike">
              <a:solidFill>
                <a:srgbClr val="000000"/>
              </a:solidFill>
              <a:latin typeface="Arial"/>
            </a:endParaRPr>
          </a:p>
          <a:p>
            <a:pPr marL="33948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корректный критерий идентификации мигранта, исключение из учета условно-временных мигрантов, для которых ограничение времени проживания не установлено, исключение (теоретически)  из учета не-граждан России.</a:t>
            </a:r>
            <a:endParaRPr b="0" lang="en-US" sz="2400" spc="-1" strike="noStrike">
              <a:solidFill>
                <a:srgbClr val="000000"/>
              </a:solidFill>
              <a:latin typeface="Arial"/>
            </a:endParaRPr>
          </a:p>
          <a:p>
            <a:pPr marL="339480" indent="-33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Отсутствие единой методики сбора первичной информации во всех регионах РФ.</a:t>
            </a:r>
            <a:r>
              <a:rPr b="1" lang="en-US" sz="2400" spc="-1" strike="noStrike">
                <a:solidFill>
                  <a:srgbClr val="cc0000"/>
                </a:solidFill>
                <a:latin typeface="Times New Roman"/>
              </a:rPr>
              <a:t> </a:t>
            </a:r>
            <a:endParaRPr b="0" lang="en-US" sz="2400" spc="-1" strike="noStrike">
              <a:solidFill>
                <a:srgbClr val="000000"/>
              </a:solidFill>
              <a:latin typeface="Arial"/>
            </a:endParaRPr>
          </a:p>
          <a:p>
            <a:pPr marL="33948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олгосрочная трудовая и учебная миграция исключены их учета,  данные о причинах миграции крайне искажены.</a:t>
            </a:r>
            <a:endParaRPr b="0" lang="en-US" sz="2400" spc="-1" strike="noStrike">
              <a:solidFill>
                <a:srgbClr val="000000"/>
              </a:solidFill>
              <a:latin typeface="Arial"/>
            </a:endParaRPr>
          </a:p>
          <a:p>
            <a:pPr marL="339480" indent="-339480" algn="ctr">
              <a:lnSpc>
                <a:spcPct val="90000"/>
              </a:lnSpc>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ff"/>
                </a:solidFill>
                <a:latin typeface="Times New Roman"/>
              </a:rPr>
              <a:t>Недоучет выбыт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Причины (обстоятельства) миграции (последствия исключения основной части трудовой и учебной миграции из учета)</a:t>
            </a:r>
            <a:endParaRPr b="0" lang="en-US" sz="2800" spc="-1" strike="noStrike">
              <a:solidFill>
                <a:srgbClr val="000000"/>
              </a:solidFill>
              <a:latin typeface="Arial"/>
            </a:endParaRPr>
          </a:p>
        </p:txBody>
      </p:sp>
      <p:graphicFrame>
        <p:nvGraphicFramePr>
          <p:cNvPr id="74" name=""/>
          <p:cNvGraphicFramePr/>
          <p:nvPr/>
        </p:nvGraphicFramePr>
        <p:xfrm>
          <a:off x="457200" y="1600200"/>
          <a:ext cx="8229600" cy="4646520"/>
        </p:xfrm>
        <a:graphic>
          <a:graphicData uri="http://schemas.openxmlformats.org/drawingml/2006/table">
            <a:tbl>
              <a:tblPr/>
              <a:tblGrid>
                <a:gridCol w="3541680"/>
                <a:gridCol w="1193760"/>
                <a:gridCol w="1149480"/>
                <a:gridCol w="1171440"/>
                <a:gridCol w="1173240"/>
              </a:tblGrid>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Times New Roman"/>
                        </a:rPr>
                        <a:t>Международная миграция</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Times New Roman"/>
                        </a:rPr>
                        <a:t>Внутренняя миграция</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uca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3,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Jo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17,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evious place of residenc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thnic conflicts aggrava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1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5,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crease in crim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cological trou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ima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ivate and family reason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4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6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ther reason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Распределение мигрантов по гражданству в 2002 и 2003 гг. , Международная миграция</a:t>
            </a:r>
            <a:endParaRPr b="0" lang="en-US" sz="2800" spc="-1" strike="noStrike">
              <a:solidFill>
                <a:srgbClr val="000000"/>
              </a:solidFill>
              <a:latin typeface="Arial"/>
            </a:endParaRPr>
          </a:p>
        </p:txBody>
      </p:sp>
      <p:graphicFrame>
        <p:nvGraphicFramePr>
          <p:cNvPr id="76" name=""/>
          <p:cNvGraphicFramePr/>
          <p:nvPr/>
        </p:nvGraphicFramePr>
        <p:xfrm>
          <a:off x="304920" y="1066680"/>
          <a:ext cx="8610480" cy="5486400"/>
        </p:xfrm>
        <a:graphic>
          <a:graphicData uri="http://schemas.openxmlformats.org/drawingml/2006/table">
            <a:tbl>
              <a:tblPr/>
              <a:tblGrid>
                <a:gridCol w="717480"/>
                <a:gridCol w="876240"/>
                <a:gridCol w="1355760"/>
                <a:gridCol w="1116000"/>
                <a:gridCol w="1197000"/>
                <a:gridCol w="738000"/>
                <a:gridCol w="1652760"/>
                <a:gridCol w="957240"/>
              </a:tblGrid>
              <a:tr h="3070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 том числ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Граждане Росс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з них                       имеют второе гражданств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Иностранные граждан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з ни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Лица без гражданств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95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граждане стран СНГ и Балт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других зарубежных стра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Прибы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46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63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84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153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94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7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914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876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06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1725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51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2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ыбы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68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732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1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2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8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2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401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997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6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9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5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2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5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Миграционный прирост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92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59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93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8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5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2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49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1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79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19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3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8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09120" y="152280"/>
            <a:ext cx="8077320" cy="6477120"/>
          </a:xfrm>
          <a:prstGeom prst="rect">
            <a:avLst/>
          </a:prstGeom>
          <a:solidFill>
            <a:srgbClr val="ffffff"/>
          </a:solid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Times New Roman"/>
              </a:rPr>
              <a:t>Категории иностранцев, охваченные переписью 2002 г.</a:t>
            </a: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Полная программа (общий вопросник)</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Резиденты России – иностранные граждане и лица БГ</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Лица, официально работающие в России и студенты, если намеревались оставаться в РФ не менее года</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Лица , ищущие убежища</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Сокращенная программа (Краткий вопросник)</a:t>
            </a:r>
            <a:r>
              <a:rPr b="1" lang="en-US" sz="2400" spc="-1" strike="noStrike">
                <a:solidFill>
                  <a:srgbClr val="cc0000"/>
                </a:solidFill>
                <a:latin typeface="Times New Roman"/>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Иностранные граждане  и лица БГ,  временно пребывающие на территории России и собиравшиеся оставаться здесь менее года.</a:t>
            </a:r>
            <a:r>
              <a:rPr b="0" lang="en-US" sz="2400" spc="-1" strike="noStrike">
                <a:solidFill>
                  <a:srgbClr val="000066"/>
                </a:solidFill>
                <a:latin typeface="Times New Roman"/>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Туристы, пациенты клиник,  лица, находившиеся с частными визитами, транзитные мигранты</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Times New Roman"/>
              </a:rPr>
              <a:t>Основные результаты – 1 млн иностранных граждан, 1.3 млн – не указавших гражданство, 40 тыс. – имевших двойное гражданство.</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533520"/>
            <a:ext cx="8229600" cy="5790960"/>
          </a:xfrm>
          <a:prstGeom prst="rect">
            <a:avLst/>
          </a:prstGeom>
          <a:solidFill>
            <a:srgbClr val="ffffff"/>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Times New Roman"/>
              </a:rPr>
              <a:t>Вопросы, относящиеся к миграции в Программе Переписи 2002 г.</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сто рождения</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ражданство</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a50021"/>
                </a:solidFill>
                <a:latin typeface="Times New Roman"/>
              </a:rPr>
              <a:t>Проживал в месте жительства с рождения или не с рождения</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a50021"/>
                </a:solidFill>
                <a:latin typeface="Times New Roman"/>
              </a:rPr>
              <a:t>Если нет – то с какого года</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a50021"/>
                </a:solidFill>
                <a:latin typeface="Times New Roman"/>
              </a:rPr>
              <a:t>Прибыл из городской или сельской местности</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a50021"/>
                </a:solidFill>
                <a:latin typeface="Times New Roman"/>
              </a:rPr>
              <a:t>Где проживал в январе 1989 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74320"/>
            <a:ext cx="815328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Учет вынужденных мигрантов</a:t>
            </a:r>
            <a:r>
              <a:rPr b="1" lang="en-US" sz="3600" spc="-1" strike="noStrike">
                <a:solidFill>
                  <a:srgbClr val="ffffff"/>
                </a:solidFill>
                <a:latin typeface="Times New Roman"/>
              </a:rPr>
              <a:t>:</a:t>
            </a:r>
            <a:endParaRPr b="0" lang="en-US" sz="3600" spc="-1" strike="noStrike">
              <a:solidFill>
                <a:srgbClr val="000000"/>
              </a:solidFill>
              <a:latin typeface="Arial"/>
            </a:endParaRPr>
          </a:p>
        </p:txBody>
      </p:sp>
      <p:sp>
        <p:nvSpPr>
          <p:cNvPr id="80" name="PlaceHolder 2"/>
          <p:cNvSpPr>
            <a:spLocks noGrp="1"/>
          </p:cNvSpPr>
          <p:nvPr>
            <p:ph/>
          </p:nvPr>
        </p:nvSpPr>
        <p:spPr>
          <a:xfrm>
            <a:off x="609120" y="3938760"/>
            <a:ext cx="8077320" cy="261432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частности, разрабатываются данные (- многие, как накопленные , так и за отчетный год)</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распределении мигрантов по прежнему месту жительства,  регионам проживания в России,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количестве обращений за предоставлением статуса беженца</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распределении беженцев по месту выхода и вселения (регионам России)</a:t>
            </a:r>
            <a:r>
              <a:rPr b="0" lang="en-US" sz="1800" spc="-1" strike="noStrike">
                <a:solidFill>
                  <a:srgbClr val="000000"/>
                </a:solidFill>
                <a:latin typeface="Times New Roman"/>
              </a:rPr>
              <a:t> </a:t>
            </a:r>
            <a:r>
              <a:rPr b="0" lang="ru-RU" sz="1800" spc="-1" strike="noStrike">
                <a:solidFill>
                  <a:srgbClr val="000000"/>
                </a:solidFill>
                <a:latin typeface="Times New Roman"/>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у и возрасту,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ровню образования</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циональности и т.д.</a:t>
            </a:r>
            <a:endParaRPr b="0" lang="en-US" sz="1600" spc="-1" strike="noStrike">
              <a:solidFill>
                <a:srgbClr val="000000"/>
              </a:solidFill>
              <a:latin typeface="Arial"/>
            </a:endParaRPr>
          </a:p>
        </p:txBody>
      </p:sp>
      <p:graphicFrame>
        <p:nvGraphicFramePr>
          <p:cNvPr id="81" name=""/>
          <p:cNvGraphicFramePr/>
          <p:nvPr/>
        </p:nvGraphicFramePr>
        <p:xfrm>
          <a:off x="457200" y="1295280"/>
          <a:ext cx="8229600" cy="2568600"/>
        </p:xfrm>
        <a:graphic>
          <a:graphicData uri="http://schemas.openxmlformats.org/drawingml/2006/table">
            <a:tbl>
              <a:tblPr/>
              <a:tblGrid>
                <a:gridCol w="1028880"/>
                <a:gridCol w="836280"/>
                <a:gridCol w="594000"/>
                <a:gridCol w="1028520"/>
                <a:gridCol w="803160"/>
                <a:gridCol w="579600"/>
                <a:gridCol w="1044720"/>
                <a:gridCol w="1414440"/>
                <a:gridCol w="900000"/>
              </a:tblGrid>
              <a:tr h="52020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 го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3 го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С начала регистрации на 1 января 2004 год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сего      вынужденных мигранто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 том числ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сего      вынужденных мигранто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 том числ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сего вынужденных мигранто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 том числ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ынужден-ных пере-селенце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ежен-це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ынужден-ных пере-селенце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ежен-це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ынужденных пере-селенцев (с 1 июля                              1992 год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беженцев      (с 20 марта 1993 год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2050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2045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72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66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6079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5207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72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82" name=""/>
          <p:cNvSpPr/>
          <p:nvPr/>
        </p:nvSpPr>
        <p:spPr>
          <a:xfrm>
            <a:off x="457200" y="274680"/>
            <a:ext cx="8229600" cy="163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Статистика трудовой миграции в РФ: видимая часть айсберга (в отношении привлеченной ИРС и выехавших на работу за рубеж граждан РФ)</a:t>
            </a:r>
            <a:endParaRPr b="0" lang="en-US" sz="2800" spc="-1" strike="noStrike">
              <a:solidFill>
                <a:srgbClr val="000000"/>
              </a:solidFill>
              <a:latin typeface="Arial"/>
            </a:endParaRPr>
          </a:p>
        </p:txBody>
      </p:sp>
      <p:sp>
        <p:nvSpPr>
          <p:cNvPr id="83" name=""/>
          <p:cNvSpPr/>
          <p:nvPr/>
        </p:nvSpPr>
        <p:spPr>
          <a:xfrm>
            <a:off x="457200" y="2209680"/>
            <a:ext cx="8229600" cy="42674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новные недостатки</a:t>
            </a:r>
            <a:r>
              <a:rPr b="0" lang="en-US"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доучет некоторых категорий трудовых мигрантов (граждане Белоруссии)</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сутствие выделения первичных и повторных разрешений на право трудовой деятельности</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сутствие информации о продолжительности контракта и сезонных колебаниях численности ИРС</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003 – 378.000 выданных разрешений на работу в РФ, оценка численности незаконных мигрантов на территории РФ – 2-5 мл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84" name=""/>
          <p:cNvSpPr/>
          <p:nvPr/>
        </p:nvSpPr>
        <p:spPr>
          <a:xfrm>
            <a:off x="457200" y="274680"/>
            <a:ext cx="82296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Таблицы, характеризующие трудовую миграцию</a:t>
            </a:r>
            <a:endParaRPr b="0" lang="en-US" sz="2800" spc="-1" strike="noStrike">
              <a:solidFill>
                <a:srgbClr val="000000"/>
              </a:solidFill>
              <a:latin typeface="Arial"/>
            </a:endParaRPr>
          </a:p>
        </p:txBody>
      </p:sp>
      <p:sp>
        <p:nvSpPr>
          <p:cNvPr id="85" name=""/>
          <p:cNvSpPr/>
          <p:nvPr/>
        </p:nvSpPr>
        <p:spPr>
          <a:xfrm>
            <a:off x="533520" y="990720"/>
            <a:ext cx="4038480" cy="556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Times New Roman"/>
              </a:rPr>
              <a:t>ПРИВЛЕЧЕННАЯ ИРС</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I.   </a:t>
            </a:r>
            <a:r>
              <a:rPr b="0" lang="ru-RU" sz="1600" spc="-1" strike="noStrike">
                <a:solidFill>
                  <a:srgbClr val="000000"/>
                </a:solidFill>
                <a:latin typeface="Times New Roman"/>
              </a:rPr>
              <a:t>Половозрастной состав иностранных граждан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I.  Численность иностранных граждан по странам происхождения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II. Распределение   иностранных    граждан    по    отраслям             экономики и странам происхождения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V.  Распределение численности иностранных граждан  по  форме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ривлечения на территорию Российской Федерации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V.   Распределение численности иностранных граждан по  формам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трудоустройства на территории Российской Федерации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VI.  Распределение   иностранных   работников   по   отраслям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экономики </a:t>
            </a:r>
            <a:endParaRPr b="0" lang="en-US" sz="1600" spc="-1" strike="noStrike">
              <a:solidFill>
                <a:srgbClr val="000000"/>
              </a:solidFill>
              <a:latin typeface="Arial"/>
            </a:endParaRPr>
          </a:p>
        </p:txBody>
      </p:sp>
      <p:sp>
        <p:nvSpPr>
          <p:cNvPr id="86" name=""/>
          <p:cNvSpPr/>
          <p:nvPr/>
        </p:nvSpPr>
        <p:spPr>
          <a:xfrm>
            <a:off x="4876920" y="838080"/>
            <a:ext cx="4038480" cy="571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ЗАНЯТОСТЬ ГРАЖДАН РФ ЗА РУБЕЖОМ</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   Половозрастной   состав  российских  граждан,  выехавших  на работу за границей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I.  Численность  российских  граждан,  по  странам приема, </a:t>
            </a:r>
            <a:r>
              <a:rPr b="0" lang="ru-RU" sz="1600" spc="-1" strike="noStrike">
                <a:solidFill>
                  <a:srgbClr val="0000cc"/>
                </a:solidFill>
                <a:latin typeface="Times New Roman"/>
              </a:rPr>
              <a:t>уровню  образования,  </a:t>
            </a:r>
            <a:r>
              <a:rPr b="0" lang="ru-RU" sz="1600" spc="-1" strike="noStrike">
                <a:solidFill>
                  <a:srgbClr val="ff0066"/>
                </a:solidFill>
                <a:latin typeface="Times New Roman"/>
              </a:rPr>
              <a:t>продолжительности    профессиональной     деятельности,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Times New Roman"/>
              </a:rPr>
              <a:t>	</a:t>
            </a:r>
            <a:r>
              <a:rPr b="0" lang="ru-RU" sz="1600" spc="-1" strike="noStrike">
                <a:solidFill>
                  <a:srgbClr val="ff0066"/>
                </a:solidFill>
                <a:latin typeface="Times New Roman"/>
              </a:rPr>
              <a:t>предусмотренной в контрактах </a:t>
            </a:r>
            <a:r>
              <a:rPr b="0" lang="ru-RU" sz="1600" spc="-1" strike="noStrike">
                <a:solidFill>
                  <a:srgbClr val="000000"/>
                </a:solidFill>
                <a:latin typeface="Times New Roman"/>
              </a:rPr>
              <a:t>и договорах подряда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II. Численность российских   граждан,  выехавших  на  работу  за границей, по категориям занятости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V.  Распределение российских граждан,  выехавших  на  работу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за границей, по видам деятельности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V.   Профессиональный состав  российских  граждан,  выехавших на работу за границей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Публикуемые Федеральной Пограничной службой сведения – распределение иностранцев по целям поездки и странам выезда и выезда</a:t>
            </a:r>
            <a:endParaRPr b="0" lang="en-US" sz="2800" spc="-1" strike="noStrike">
              <a:solidFill>
                <a:srgbClr val="000000"/>
              </a:solidFill>
              <a:latin typeface="Arial"/>
            </a:endParaRPr>
          </a:p>
        </p:txBody>
      </p:sp>
      <p:graphicFrame>
        <p:nvGraphicFramePr>
          <p:cNvPr id="88" name=""/>
          <p:cNvGraphicFramePr/>
          <p:nvPr/>
        </p:nvGraphicFramePr>
        <p:xfrm>
          <a:off x="304920" y="1600200"/>
          <a:ext cx="8834400" cy="4370400"/>
        </p:xfrm>
        <a:graphic>
          <a:graphicData uri="http://schemas.openxmlformats.org/drawingml/2006/table">
            <a:tbl>
              <a:tblPr/>
              <a:tblGrid>
                <a:gridCol w="2259720"/>
                <a:gridCol w="1012320"/>
                <a:gridCol w="857160"/>
                <a:gridCol w="857520"/>
                <a:gridCol w="779760"/>
                <a:gridCol w="777960"/>
                <a:gridCol w="934560"/>
                <a:gridCol w="1140480"/>
                <a:gridCol w="216000"/>
              </a:tblGrid>
              <a:tr h="30708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Страна</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Цель поездки</a:t>
                      </a:r>
                      <a:r>
                        <a:rPr b="1" lang="en-US" sz="2400" spc="-1" strike="noStrike">
                          <a:solidFill>
                            <a:srgbClr val="000000"/>
                          </a:solidFill>
                          <a:latin typeface="Times New Roman"/>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лужеб-на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Туриз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Частна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М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Транзи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Обслуж. Персонал</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ВСЕГ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688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Всего въехал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30141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31055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51590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233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243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4932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233087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Граждане</a:t>
                      </a:r>
                      <a:r>
                        <a:rPr b="1"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05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Стран СНГ и Балти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246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782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39513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17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4295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8387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70566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Белорусси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96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56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56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37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5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97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13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захстана….</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97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66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4990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4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45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805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29559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Других стр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660066"/>
                </a:solidFill>
                <a:latin typeface="Times New Roman"/>
              </a:rPr>
              <a:t>Des données statistques sur des migrations internes n'existent pas même dans des pays où une collècte des statistiques démographiques est bien organisée....,   les migrations internationales sont mesurées très approximativement, et un enregistrement des migrations internes est encore pire.</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66"/>
                </a:solidFill>
                <a:latin typeface="Times New Roman"/>
              </a:rPr>
              <a:t>(</a:t>
            </a:r>
            <a:r>
              <a:rPr b="1" i="1" lang="fr-FR" sz="2400" spc="-1" strike="noStrike">
                <a:solidFill>
                  <a:srgbClr val="660066"/>
                </a:solidFill>
                <a:latin typeface="Times New Roman"/>
              </a:rPr>
              <a:t>Roland Pressat   L'Analyse Démographique. Méthodes, résultats, applications.</a:t>
            </a:r>
            <a:r>
              <a:rPr b="1" i="1" lang="ru-RU" sz="2400" spc="-1" strike="noStrike">
                <a:solidFill>
                  <a:srgbClr val="660066"/>
                </a:solidFill>
                <a:latin typeface="Times New Roman"/>
              </a:rPr>
              <a:t>    </a:t>
            </a:r>
            <a:r>
              <a:rPr b="1" i="1" lang="en-US" sz="2400" spc="-1" strike="noStrike">
                <a:solidFill>
                  <a:srgbClr val="660066"/>
                </a:solidFill>
                <a:latin typeface="Times New Roman"/>
              </a:rPr>
              <a:t>PUF, Paris, 1961</a:t>
            </a:r>
            <a:r>
              <a:rPr b="1" i="1" lang="ru-RU" sz="2400" spc="-1" strike="noStrike">
                <a:solidFill>
                  <a:srgbClr val="660066"/>
                </a:solidFill>
                <a:latin typeface="Times New Roman"/>
              </a:rPr>
              <a:t>)</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t>
            </a:r>
            <a:r>
              <a:rPr b="1" i="1" lang="ru-RU" sz="2400" spc="-1" strike="noStrike">
                <a:solidFill>
                  <a:srgbClr val="000066"/>
                </a:solidFill>
                <a:latin typeface="Times New Roman"/>
              </a:rPr>
              <a:t>Статистические данные о внутренних миграциях отсутствуют часто даже в таких странах, где демографическая статистика хорошо поставлена,… международные миграции измеряются очень приближенно, а миграция внутри страны учитывается еще хуже» (Пресса Р. Народонаселение и его изучение. Демографический анализ), М. 1966,, с.10).</a:t>
            </a:r>
            <a:r>
              <a:rPr b="1" lang="ru-RU"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Данные Федеральной пограничной службы о числе въездов и выездов иностранных граждан, млн. человек</a:t>
            </a:r>
            <a:endParaRPr b="0" lang="en-US" sz="2800" spc="-1" strike="noStrike">
              <a:solidFill>
                <a:srgbClr val="000000"/>
              </a:solidFill>
              <a:latin typeface="Arial"/>
            </a:endParaRPr>
          </a:p>
        </p:txBody>
      </p:sp>
      <p:graphicFrame>
        <p:nvGraphicFramePr>
          <p:cNvPr id="90" name=""/>
          <p:cNvGraphicFramePr/>
          <p:nvPr/>
        </p:nvGraphicFramePr>
        <p:xfrm>
          <a:off x="457200" y="1600200"/>
          <a:ext cx="8229600" cy="4525920"/>
        </p:xfrm>
        <a:graphic>
          <a:graphicData uri="http://schemas.openxmlformats.org/drawingml/2006/table">
            <a:tbl>
              <a:tblPr/>
              <a:tblGrid>
                <a:gridCol w="1971720"/>
                <a:gridCol w="1185840"/>
                <a:gridCol w="1455840"/>
                <a:gridCol w="1131840"/>
                <a:gridCol w="1295280"/>
                <a:gridCol w="1189080"/>
              </a:tblGrid>
              <a:tr h="1730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199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00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63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Times New Roman"/>
                          <a:ea typeface="Times New Roman"/>
                        </a:rPr>
                        <a:t>Въез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0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Times New Roman"/>
                          <a:ea typeface="Times New Roman"/>
                        </a:rPr>
                        <a:t>Выезд</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65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Times New Roman"/>
                          <a:ea typeface="Times New Roman"/>
                        </a:rPr>
                        <a:t>Зазность</a:t>
                      </a:r>
                      <a:r>
                        <a:rPr b="1" lang="en-US" sz="2400" spc="-1" strike="noStrike">
                          <a:solidFill>
                            <a:srgbClr val="800080"/>
                          </a:solidFill>
                          <a:latin typeface="Times New Roman"/>
                          <a:ea typeface="Times New Roman"/>
                        </a:rPr>
                        <a:t> </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1" name=""/>
          <p:cNvSpPr/>
          <p:nvPr/>
        </p:nvSpPr>
        <p:spPr>
          <a:xfrm>
            <a:off x="684360" y="115920"/>
            <a:ext cx="8002440" cy="16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Arial"/>
              </a:rPr>
              <a:t>  </a:t>
            </a:r>
            <a:r>
              <a:rPr b="1" lang="ru-RU" sz="1800" spc="-1" strike="noStrike">
                <a:solidFill>
                  <a:srgbClr val="ffffff"/>
                </a:solidFill>
                <a:latin typeface="Arial"/>
              </a:rPr>
              <a:t>Разность между числом прибывших в Российскую федерацию  и выбывших за ее пределы иностранных граждан и лиц без гражданства по странам выхода и выезда  по данным Федеральной пограничной службы. </a:t>
            </a:r>
            <a:r>
              <a:rPr b="1" lang="en-US" sz="1800" spc="-1" strike="noStrike">
                <a:solidFill>
                  <a:srgbClr val="ffffff"/>
                </a:solidFill>
                <a:latin typeface="Arial"/>
              </a:rPr>
              <a:t>(</a:t>
            </a:r>
            <a:r>
              <a:rPr b="1" lang="ru-RU" sz="1800" spc="-1" strike="noStrike">
                <a:solidFill>
                  <a:srgbClr val="ffffff"/>
                </a:solidFill>
                <a:latin typeface="Arial"/>
              </a:rPr>
              <a:t>человек</a:t>
            </a:r>
            <a:r>
              <a:rPr b="1" lang="en-US" sz="1800" spc="-1" strike="noStrike">
                <a:solidFill>
                  <a:srgbClr val="ffffff"/>
                </a:solidFill>
                <a:latin typeface="Arial"/>
              </a:rPr>
              <a:t>). Pseudo “Net migration” in exchange with developed countries,  RF Federal border service data (persons).</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2" name=""/>
          <p:cNvGraphicFramePr/>
          <p:nvPr/>
        </p:nvGraphicFramePr>
        <p:xfrm>
          <a:off x="539640" y="2133720"/>
          <a:ext cx="8229600" cy="4316400"/>
        </p:xfrm>
        <a:graphic>
          <a:graphicData uri="http://schemas.openxmlformats.org/drawingml/2006/table">
            <a:tbl>
              <a:tblPr/>
              <a:tblGrid>
                <a:gridCol w="3888000"/>
                <a:gridCol w="1412640"/>
                <a:gridCol w="1376640"/>
                <a:gridCol w="1552320"/>
              </a:tblGrid>
              <a:tr h="57456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200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200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9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Великобритания</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452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398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cc0000"/>
                          </a:solidFill>
                          <a:latin typeface="Times New Roman"/>
                          <a:ea typeface="Times New Roman"/>
                        </a:rPr>
                        <a:t>274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7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Германия</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2041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734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 </a:t>
                      </a:r>
                      <a:r>
                        <a:rPr b="1" lang="en-US" sz="2400" spc="-1" strike="noStrike">
                          <a:solidFill>
                            <a:srgbClr val="cc0000"/>
                          </a:solidFill>
                          <a:latin typeface="Times New Roman"/>
                          <a:ea typeface="Times New Roman"/>
                        </a:rPr>
                        <a:t>645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6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США</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908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875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cc0000"/>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69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Финляндия</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603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4982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1667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58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Франция</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126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43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960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08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Швеция</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406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50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cc0000"/>
                          </a:solidFill>
                          <a:latin typeface="Times New Roman"/>
                          <a:ea typeface="Times New Roman"/>
                        </a:rPr>
                        <a:t>238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6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Япония</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45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308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0000ff"/>
                          </a:solidFill>
                          <a:latin typeface="Times New Roman"/>
                          <a:ea typeface="Times New Roman"/>
                        </a:rPr>
                        <a:t>59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Центральный банк данных по учету иностранных граждан .Этапы создания.</a:t>
            </a:r>
            <a:endParaRPr b="0" lang="en-US" sz="3200" spc="-1" strike="noStrike">
              <a:solidFill>
                <a:srgbClr val="000000"/>
              </a:solidFill>
              <a:latin typeface="Arial"/>
            </a:endParaRPr>
          </a:p>
        </p:txBody>
      </p:sp>
      <p:sp>
        <p:nvSpPr>
          <p:cNvPr id="94" name="PlaceHolder 2"/>
          <p:cNvSpPr>
            <a:spLocks noGrp="1"/>
          </p:cNvSpPr>
          <p:nvPr>
            <p:ph/>
          </p:nvPr>
        </p:nvSpPr>
        <p:spPr>
          <a:xfrm>
            <a:off x="533520" y="1523880"/>
            <a:ext cx="8076960" cy="5105520"/>
          </a:xfrm>
          <a:prstGeom prst="rect">
            <a:avLst/>
          </a:prstGeom>
          <a:solidFill>
            <a:srgbClr val="ffffff"/>
          </a:solid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Этап 1 Данные МВД</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чет въезда-выезда иностранных граждан на основе миграционных карт</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чет  беженцев</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чет трудовых мигрантов (оформление разрешительных документов)</a:t>
            </a:r>
            <a:r>
              <a:rPr b="1" lang="en-US" sz="1600" spc="-1" strike="noStrike" u="sng">
                <a:solidFill>
                  <a:srgbClr val="000000"/>
                </a:solidFill>
                <a:uFillTx/>
                <a:latin typeface="Times New Roman"/>
              </a:rPr>
              <a:t>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Этап 2 Данные МВД</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анные паспортно-визовых служб    о выданных иностранным гражданам приглашений и регистрации по месту пребывания</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анные информационного центра МВД о преступлениях, совершенных иностранцами и в отношении иностранцев</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Этап 3 Данные других ведомств</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едеральной пограничной службы</a:t>
            </a:r>
            <a:r>
              <a:rPr b="1"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инистерства иностранных дел (статистика виз и приглашений)</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инистерства по налогам и сборам</a:t>
            </a:r>
            <a:r>
              <a:rPr b="1"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аможенной службы</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ругих ведомств, собирающих данные об иностранцах</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Этап 4</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мен и распространение информации (регламент не определе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52280"/>
            <a:ext cx="815328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Что надо принимать во внимание предлагая введение новых систем сбора данных или реформу старых?</a:t>
            </a:r>
            <a:endParaRPr b="0" lang="en-US" sz="3200" spc="-1" strike="noStrike">
              <a:solidFill>
                <a:srgbClr val="000000"/>
              </a:solidFill>
              <a:latin typeface="Arial"/>
            </a:endParaRPr>
          </a:p>
        </p:txBody>
      </p:sp>
      <p:sp>
        <p:nvSpPr>
          <p:cNvPr id="96" name="PlaceHolder 2"/>
          <p:cNvSpPr>
            <a:spLocks noGrp="1"/>
          </p:cNvSpPr>
          <p:nvPr>
            <p:ph/>
          </p:nvPr>
        </p:nvSpPr>
        <p:spPr>
          <a:xfrm>
            <a:off x="533520" y="1828440"/>
            <a:ext cx="8153280" cy="480060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сновные соображения:</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зможность повсеместно новую систему сбора данных или изменить существующую.</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траты, связанные этим процессом.</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стояние национальной законодательной базы в этой области.</a:t>
            </a:r>
            <a:r>
              <a:rPr b="1"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отовность или способность населения воспринять новые системы сбора данных.</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терес со стороны  властей (новые системы не будут созданы, пока они не будут востребованы для административных нужд)</a:t>
            </a:r>
            <a:r>
              <a:rPr b="1"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oulain M., Perrin N. Is the measurement of international migration flows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proving in Europe? </a:t>
            </a:r>
            <a:r>
              <a:rPr b="0" i="1" lang="en-US" sz="1600" spc="-1" strike="noStrike">
                <a:solidFill>
                  <a:srgbClr val="000000"/>
                </a:solidFill>
                <a:latin typeface="Times New Roman"/>
              </a:rPr>
              <a:t>GeDAP-</a:t>
            </a:r>
            <a:r>
              <a:rPr b="1" i="1" lang="en-US" sz="1600" spc="-1" strike="noStrike">
                <a:solidFill>
                  <a:srgbClr val="000000"/>
                </a:solidFill>
                <a:latin typeface="Times New Roman"/>
              </a:rPr>
              <a:t> </a:t>
            </a:r>
            <a:r>
              <a:rPr b="0" i="1" lang="en-US" sz="1600" spc="-1" strike="noStrike">
                <a:solidFill>
                  <a:srgbClr val="000000"/>
                </a:solidFill>
                <a:latin typeface="Times New Roman"/>
              </a:rPr>
              <a:t>Universite Catholique de Louvain, May </a:t>
            </a:r>
            <a:r>
              <a:rPr b="0" i="1" lang="ru-RU" sz="1600" spc="-1" strike="noStrike">
                <a:solidFill>
                  <a:srgbClr val="000000"/>
                </a:solidFill>
                <a:latin typeface="Times New Roman"/>
              </a:rPr>
              <a:t>2001. </a:t>
            </a:r>
            <a:r>
              <a:rPr b="0" i="1" lang="en-US" sz="1600" spc="-1" strike="noStrike">
                <a:solidFill>
                  <a:srgbClr val="000000"/>
                </a:solidFill>
                <a:latin typeface="Times New Roman"/>
              </a:rPr>
              <a:t>? , p.15)</a:t>
            </a: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Еще одно важное соображение</a:t>
            </a:r>
            <a:r>
              <a:rPr b="1" lang="en-US" sz="2000" spc="-1" strike="noStrike">
                <a:solidFill>
                  <a:srgbClr val="000000"/>
                </a:solidFill>
                <a:latin typeface="Times New Roman"/>
              </a:rPr>
              <a:t> - </a:t>
            </a:r>
            <a:endParaRPr b="0" lang="en-US" sz="20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отовность персонала, ответственного за сбор и обработку данных, работать в новых условиях.</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Причины сложившейся ситуации в области учета миграции </a:t>
            </a:r>
            <a:endParaRPr b="0" lang="en-US" sz="3600" spc="-1" strike="noStrike">
              <a:solidFill>
                <a:srgbClr val="000000"/>
              </a:solidFill>
              <a:latin typeface="Arial"/>
            </a:endParaRPr>
          </a:p>
        </p:txBody>
      </p:sp>
      <p:sp>
        <p:nvSpPr>
          <p:cNvPr id="98" name="PlaceHolder 2"/>
          <p:cNvSpPr>
            <a:spLocks noGrp="1"/>
          </p:cNvSpPr>
          <p:nvPr>
            <p:ph/>
          </p:nvPr>
        </p:nvSpPr>
        <p:spPr>
          <a:xfrm>
            <a:off x="457200" y="1371600"/>
            <a:ext cx="8229600" cy="5029200"/>
          </a:xfrm>
          <a:prstGeom prst="rect">
            <a:avLst/>
          </a:prstGeom>
          <a:solidFill>
            <a:srgbClr val="ffffff"/>
          </a:solid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Times New Roman"/>
              </a:rPr>
              <a:t>Объективные и субъективные</a:t>
            </a:r>
            <a:endParaRPr b="0" lang="en-US" sz="18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сутствие в РФ традиций учета международной миграции</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стоянное отставание нормативной и институциональной базы учета от  требований изменяющейся миграционной и геополитической обстановки,</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сутствие  эффективной системы контроля качества сбора и обработки данных</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блема финансовых, технических и кадровых ресурсов в области сбора и обработки данных о миграции</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сутствие координации в деятельности ведомств, ведущих различные системы учета международной и внутренней мобильности населения.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нерционность мышления некоторых лиц,  принимающих решения в области учета мигрантов, непонимание того обстоятельства что статистика миграции не ведомственное, а общегосударственное дело, игнорирование мнения гражданских специалистов в вопросах статистики мигра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Каковы возможные и реальные последствия сложившейся ситуации?</a:t>
            </a:r>
            <a:endParaRPr b="0" lang="en-US" sz="3600" spc="-1" strike="noStrike">
              <a:solidFill>
                <a:srgbClr val="000000"/>
              </a:solidFill>
              <a:latin typeface="Arial"/>
            </a:endParaRPr>
          </a:p>
        </p:txBody>
      </p:sp>
      <p:sp>
        <p:nvSpPr>
          <p:cNvPr id="100" name="PlaceHolder 2"/>
          <p:cNvSpPr>
            <a:spLocks noGrp="1"/>
          </p:cNvSpPr>
          <p:nvPr>
            <p:ph/>
          </p:nvPr>
        </p:nvSpPr>
        <p:spPr>
          <a:xfrm>
            <a:off x="324000" y="1600200"/>
            <a:ext cx="8640720" cy="4525920"/>
          </a:xfrm>
          <a:prstGeom prst="rect">
            <a:avLst/>
          </a:prstGeom>
          <a:solidFill>
            <a:srgbClr val="ffffff"/>
          </a:solid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уществующие системы сбора данных о миграции , скорее всего не дают объективной информации для измерения величины потоков,  описания их структуры и, тем более – для анализа причинно-следственных связей.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ompetent interpretation of data  creates conditions for speculations on irregular migration problem and influence public opinion. It is one of the main reasons of limiting and suppressive approaches in RF migration polic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Lack of reliable statistical information </a:t>
            </a:r>
            <a:r>
              <a:rPr b="1" lang="ru-RU" sz="2400" spc="-1" strike="noStrike">
                <a:solidFill>
                  <a:srgbClr val="cc0000"/>
                </a:solidFill>
                <a:latin typeface="Times New Roman"/>
              </a:rPr>
              <a:t>leaves</a:t>
            </a:r>
            <a:r>
              <a:rPr b="1" lang="en-US" sz="2400" spc="-1" strike="noStrike">
                <a:solidFill>
                  <a:srgbClr val="cc0000"/>
                </a:solidFill>
                <a:latin typeface="Times New Roman"/>
              </a:rPr>
              <a:t> migration policy with</a:t>
            </a:r>
            <a:r>
              <a:rPr b="1" lang="ru-RU" sz="2400" spc="-1" strike="noStrike">
                <a:solidFill>
                  <a:srgbClr val="cc0000"/>
                </a:solidFill>
                <a:latin typeface="Times New Roman"/>
              </a:rPr>
              <a:t>out  </a:t>
            </a:r>
            <a:r>
              <a:rPr b="1" lang="en-US" sz="2400" spc="-1" strike="noStrike">
                <a:solidFill>
                  <a:srgbClr val="cc0000"/>
                </a:solidFill>
                <a:latin typeface="Times New Roman"/>
              </a:rPr>
              <a:t> correct “landmarks”, </a:t>
            </a:r>
            <a:r>
              <a:rPr b="1" lang="ru-RU" sz="2400" spc="-1" strike="noStrike">
                <a:solidFill>
                  <a:srgbClr val="cc0000"/>
                </a:solidFill>
                <a:latin typeface="Times New Roman"/>
              </a:rPr>
              <a:t> </a:t>
            </a:r>
            <a:r>
              <a:rPr b="1" lang="en-US" sz="2400" spc="-1" strike="noStrike">
                <a:solidFill>
                  <a:srgbClr val="cc0000"/>
                </a:solidFill>
                <a:latin typeface="Times New Roman"/>
              </a:rPr>
              <a:t>causes growth of its costs and risk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600"/>
            <a:ext cx="83822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Какие меры  необходимы для решения проблем статистики миграции в России?</a:t>
            </a:r>
            <a:endParaRPr b="0" lang="en-US" sz="2400" spc="-1" strike="noStrike">
              <a:solidFill>
                <a:srgbClr val="000000"/>
              </a:solidFill>
              <a:latin typeface="Arial"/>
            </a:endParaRPr>
          </a:p>
        </p:txBody>
      </p:sp>
      <p:sp>
        <p:nvSpPr>
          <p:cNvPr id="102" name="PlaceHolder 2"/>
          <p:cNvSpPr>
            <a:spLocks noGrp="1"/>
          </p:cNvSpPr>
          <p:nvPr>
            <p:ph/>
          </p:nvPr>
        </p:nvSpPr>
        <p:spPr>
          <a:xfrm>
            <a:off x="609120" y="1294920"/>
            <a:ext cx="8077320" cy="5410440"/>
          </a:xfrm>
          <a:prstGeom prst="rect">
            <a:avLst/>
          </a:prstGeom>
          <a:solidFill>
            <a:srgbClr val="ffffff"/>
          </a:solidFill>
          <a:ln w="0">
            <a:noFill/>
          </a:ln>
        </p:spPr>
        <p:txBody>
          <a:bodyPr lIns="90000" rIns="90000" tIns="46800" bIns="46800" anchor="t">
            <a:normAutofit/>
          </a:bodyPr>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ересмотр законодательства в области сбора, обработки и использования информации о мигрантах.</a:t>
            </a:r>
            <a:r>
              <a:rPr b="1" lang="en-US" sz="2000" spc="-1" strike="noStrike">
                <a:solidFill>
                  <a:srgbClr val="000000"/>
                </a:solidFill>
                <a:latin typeface="Times New Roman"/>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зменение критериев идентификации мигрантов, включение в статистическое наблюдение всех долгосрочных мигрантов, независимо от гражданства. </a:t>
            </a:r>
            <a:r>
              <a:rPr b="1" lang="en-US" sz="2000" spc="-1" strike="noStrike">
                <a:solidFill>
                  <a:srgbClr val="000000"/>
                </a:solidFill>
                <a:latin typeface="Times New Roman"/>
              </a:rPr>
              <a:t> </a:t>
            </a:r>
            <a:r>
              <a:rPr b="1" lang="ru-RU" sz="2000" spc="-1" strike="noStrike">
                <a:solidFill>
                  <a:srgbClr val="000000"/>
                </a:solidFill>
                <a:latin typeface="Times New Roman"/>
              </a:rPr>
              <a:t>Определение методики исключения двойного счета мигранта при смене статуса.</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здание Центрального банка данных по учету иностранцев должно  обсуждаться с потенциальными пользователями.</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блемы качества данных о миграции  должны профессионально обсуждаться в рамках диалога между представителями ведомств, собирающих данные  и  пользователями.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ики сбора статистической информации о мигрантах различных категорий , учитываемых разными ведомствами, также должны публиковаться в открытых источниках.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еоправданные ограничения доступности данных должны быть пересмотрены и сняты.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ледует обсудить возможность проведения масштабных выборочных обследований для решения наиболее сложных вопросов анализа мигра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0000"/>
                </a:solidFill>
                <a:latin typeface="Arial"/>
              </a:rPr>
              <a:t>Почему вопрос качества статистики миграции так важен?</a:t>
            </a:r>
            <a:endParaRPr b="0" lang="en-US" sz="4400" spc="-1" strike="noStrike">
              <a:solidFill>
                <a:srgbClr val="000000"/>
              </a:solidFill>
              <a:latin typeface="Arial"/>
            </a:endParaRPr>
          </a:p>
        </p:txBody>
      </p:sp>
      <p:sp>
        <p:nvSpPr>
          <p:cNvPr id="104" name=""/>
          <p:cNvSpPr/>
          <p:nvPr/>
        </p:nvSpPr>
        <p:spPr>
          <a:xfrm>
            <a:off x="457200" y="2209680"/>
            <a:ext cx="8229600" cy="42973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Times New Roman"/>
              </a:rPr>
              <a:t>    </a:t>
            </a:r>
            <a:r>
              <a:rPr b="0" lang="en-US" sz="2800" spc="-1" strike="noStrike">
                <a:solidFill>
                  <a:srgbClr val="000099"/>
                </a:solidFill>
                <a:latin typeface="Arial"/>
                <a:ea typeface="Times New Roman"/>
              </a:rPr>
              <a:t>Миграционная политика любого государства должна вырабатываться с учетом определенных  количественных ориентиров .</a:t>
            </a:r>
            <a:endParaRPr b="0" lang="en-US" sz="2800" spc="-1" strike="noStrike">
              <a:solidFill>
                <a:srgbClr val="000000"/>
              </a:solidFill>
              <a:latin typeface="Arial"/>
            </a:endParaRPr>
          </a:p>
          <a:p>
            <a:pPr marL="329040" indent="-329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Times New Roman"/>
              </a:rPr>
              <a:t>	</a:t>
            </a:r>
            <a:r>
              <a:rPr b="0" lang="en-US" sz="2800" spc="-1" strike="noStrike">
                <a:solidFill>
                  <a:srgbClr val="000099"/>
                </a:solidFill>
                <a:latin typeface="Arial"/>
                <a:ea typeface="Times New Roman"/>
              </a:rPr>
              <a:t>Без надежных статистических данных о величине потоков, их направлениях и составе  нельзя  понять, какими будут  цели и объемы работы по управлению миграцией,  очень трудно обосновать затраты и оценить возможный результат   предпринимаемых шагов.</a:t>
            </a:r>
            <a:endParaRPr b="0" lang="en-US" sz="2800" spc="-1" strike="noStrike">
              <a:solidFill>
                <a:srgbClr val="000000"/>
              </a:solidFill>
              <a:latin typeface="Arial"/>
            </a:endParaRPr>
          </a:p>
          <a:p>
            <a:pPr marL="329040" indent="-3290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Additional mater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Foreign migration in RF (Goskomstat data, persons)</a:t>
            </a:r>
            <a:br>
              <a:rPr sz="3200"/>
            </a:br>
            <a:endParaRPr b="0" lang="en-US" sz="3200" spc="-1" strike="noStrike">
              <a:solidFill>
                <a:srgbClr val="000000"/>
              </a:solidFill>
              <a:latin typeface="Arial"/>
            </a:endParaRPr>
          </a:p>
        </p:txBody>
      </p:sp>
      <p:graphicFrame>
        <p:nvGraphicFramePr>
          <p:cNvPr id="107" name=""/>
          <p:cNvGraphicFramePr/>
          <p:nvPr/>
        </p:nvGraphicFramePr>
        <p:xfrm>
          <a:off x="228600" y="1600200"/>
          <a:ext cx="8458200" cy="3809520"/>
        </p:xfrm>
        <a:graphic>
          <a:graphicData uri="http://schemas.openxmlformats.org/drawingml/2006/table">
            <a:tbl>
              <a:tblPr/>
              <a:tblGrid>
                <a:gridCol w="1920960"/>
                <a:gridCol w="1093680"/>
                <a:gridCol w="1400040"/>
                <a:gridCol w="1400400"/>
                <a:gridCol w="1320840"/>
                <a:gridCol w="1322280"/>
              </a:tblGrid>
              <a:tr h="458280">
                <a:tc gridSpan="4">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839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7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n-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797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9330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3450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84612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9144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37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Out-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1496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457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1166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6685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4018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837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Net-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6476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136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2284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7927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126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План</a:t>
            </a:r>
            <a:br>
              <a:rPr sz="4400"/>
            </a:br>
            <a:endParaRPr b="0" lang="en-US" sz="4400" spc="-1" strike="noStrike">
              <a:solidFill>
                <a:srgbClr val="000000"/>
              </a:solidFill>
              <a:latin typeface="Arial"/>
            </a:endParaRPr>
          </a:p>
        </p:txBody>
      </p:sp>
      <p:sp>
        <p:nvSpPr>
          <p:cNvPr id="5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сновные системы сбора данных о миграции</a:t>
            </a:r>
            <a:endParaRPr b="0" lang="en-US" sz="2800" spc="-1" strike="noStrike">
              <a:solidFill>
                <a:srgbClr val="000000"/>
              </a:solidFill>
              <a:latin typeface="Arial"/>
            </a:endParaRPr>
          </a:p>
          <a:p>
            <a:pPr marL="609480" indent="-60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Главные проблемы  в области статистики миграции.</a:t>
            </a:r>
            <a:endParaRPr b="0" lang="en-US" sz="2800" spc="-1" strike="noStrike">
              <a:solidFill>
                <a:srgbClr val="000000"/>
              </a:solidFill>
              <a:latin typeface="Arial"/>
            </a:endParaRPr>
          </a:p>
          <a:p>
            <a:pPr marL="609480" indent="-60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Текущий учет миграции – причины неудовлетворительного качества данных</a:t>
            </a:r>
            <a:endParaRPr b="0" lang="en-US" sz="2800" spc="-1" strike="noStrike">
              <a:solidFill>
                <a:srgbClr val="000000"/>
              </a:solidFill>
              <a:latin typeface="Arial"/>
            </a:endParaRPr>
          </a:p>
          <a:p>
            <a:pPr marL="609480" indent="-60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татистика отдельных видов миграции </a:t>
            </a:r>
            <a:r>
              <a:rPr b="1" lang="en-US" sz="2800" spc="-1" strike="noStrike">
                <a:solidFill>
                  <a:srgbClr val="ffffff"/>
                </a:solidFill>
                <a:latin typeface="Times New Roman"/>
              </a:rPr>
              <a:t> </a:t>
            </a:r>
            <a:r>
              <a:rPr b="1" lang="ru-RU" sz="2800" spc="-1" strike="noStrike">
                <a:solidFill>
                  <a:srgbClr val="ffffff"/>
                </a:solidFill>
                <a:latin typeface="Times New Roman"/>
              </a:rPr>
              <a:t>(беженцы, трудовые мигранты , пограничная статистика) </a:t>
            </a:r>
            <a:endParaRPr b="0" lang="en-US" sz="2800" spc="-1" strike="noStrike">
              <a:solidFill>
                <a:srgbClr val="000000"/>
              </a:solidFill>
              <a:latin typeface="Arial"/>
            </a:endParaRPr>
          </a:p>
          <a:p>
            <a:pPr marL="609480" indent="-60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ричины и последствия современного положения дел в области данных о миграции в России.</a:t>
            </a:r>
            <a:r>
              <a:rPr b="1" lang="en-US" sz="2800" spc="-1" strike="noStrike">
                <a:solidFill>
                  <a:srgbClr val="ffffff"/>
                </a:solidFill>
                <a:latin typeface="Times New Roman"/>
              </a:rPr>
              <a:t> </a:t>
            </a:r>
            <a:endParaRPr b="0" lang="en-US" sz="2800" spc="-1" strike="noStrike">
              <a:solidFill>
                <a:srgbClr val="000000"/>
              </a:solidFill>
              <a:latin typeface="Arial"/>
            </a:endParaRPr>
          </a:p>
          <a:p>
            <a:pPr marL="609480" indent="-60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озможные пути выхода из ситуации.</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
          <p:cNvSpPr/>
          <p:nvPr/>
        </p:nvSpPr>
        <p:spPr>
          <a:xfrm>
            <a:off x="228600" y="380880"/>
            <a:ext cx="86104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grations between Russia and former Soviet Republics</a:t>
            </a:r>
            <a:r>
              <a:rPr b="0" lang="ru-RU" sz="3200" spc="-1" strike="noStrike">
                <a:solidFill>
                  <a:srgbClr val="ffffff"/>
                </a:solidFill>
                <a:latin typeface="Times New Roman"/>
              </a:rPr>
              <a:t> </a:t>
            </a:r>
            <a:r>
              <a:rPr b="0" lang="ru-RU" sz="1200" spc="-1" strike="noStrike">
                <a:solidFill>
                  <a:srgbClr val="ffffff"/>
                </a:solidFill>
                <a:latin typeface="Times New Roman"/>
              </a:rPr>
              <a:t>(source-M.Denissenko) </a:t>
            </a:r>
            <a:endParaRPr b="0" lang="en-US" sz="1200" spc="-1" strike="noStrike">
              <a:solidFill>
                <a:srgbClr val="000000"/>
              </a:solidFill>
              <a:latin typeface="Arial"/>
            </a:endParaRPr>
          </a:p>
        </p:txBody>
      </p:sp>
      <p:graphicFrame>
        <p:nvGraphicFramePr>
          <p:cNvPr id="109" name=""/>
          <p:cNvGraphicFramePr/>
          <p:nvPr/>
        </p:nvGraphicFramePr>
        <p:xfrm>
          <a:off x="304920" y="1271520"/>
          <a:ext cx="8153280" cy="4873680"/>
        </p:xfrm>
        <a:graphic>
          <a:graphicData uri="http://schemas.openxmlformats.org/presentationml/2006/ole">
            <p:oleObj r:id="rId1" spid="">
              <p:embed/>
              <p:pic>
                <p:nvPicPr>
                  <p:cNvPr id="110" name="" descr=""/>
                  <p:cNvPicPr/>
                  <p:nvPr/>
                </p:nvPicPr>
                <p:blipFill>
                  <a:blip r:embed="rId2"/>
                  <a:stretch/>
                </p:blipFill>
                <p:spPr>
                  <a:xfrm>
                    <a:off x="304920" y="1271520"/>
                    <a:ext cx="8153280" cy="487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derestimation of migration by Federal statistics. Pattern of total amount of educational migration. (1000 persons).</a:t>
            </a:r>
            <a:endParaRPr b="0" lang="en-US" sz="3200" spc="-1" strike="noStrike">
              <a:solidFill>
                <a:srgbClr val="000000"/>
              </a:solidFill>
              <a:latin typeface="Arial"/>
            </a:endParaRPr>
          </a:p>
        </p:txBody>
      </p:sp>
      <p:graphicFrame>
        <p:nvGraphicFramePr>
          <p:cNvPr id="112" name=""/>
          <p:cNvGraphicFramePr/>
          <p:nvPr/>
        </p:nvGraphicFramePr>
        <p:xfrm>
          <a:off x="457200" y="1600200"/>
          <a:ext cx="8381880" cy="4800600"/>
        </p:xfrm>
        <a:graphic>
          <a:graphicData uri="http://schemas.openxmlformats.org/presentationml/2006/ole">
            <p:oleObj progId="Excel.Sheet.12" r:id="rId1" spid="">
              <p:embed/>
              <p:pic>
                <p:nvPicPr>
                  <p:cNvPr id="113" name="" descr=""/>
                  <p:cNvPicPr/>
                  <p:nvPr/>
                </p:nvPicPr>
                <p:blipFill>
                  <a:blip r:embed="rId2"/>
                  <a:stretch/>
                </p:blipFill>
                <p:spPr>
                  <a:xfrm>
                    <a:off x="457200" y="1600200"/>
                    <a:ext cx="83818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55" name=""/>
          <p:cNvGraphicFramePr/>
          <p:nvPr/>
        </p:nvGraphicFramePr>
        <p:xfrm>
          <a:off x="228600" y="117360"/>
          <a:ext cx="8763120" cy="6639120"/>
        </p:xfrm>
        <a:graphic>
          <a:graphicData uri="http://schemas.openxmlformats.org/drawingml/2006/table">
            <a:tbl>
              <a:tblPr/>
              <a:tblGrid>
                <a:gridCol w="485640"/>
                <a:gridCol w="3476880"/>
                <a:gridCol w="1066680"/>
                <a:gridCol w="1846440"/>
                <a:gridCol w="1887480"/>
              </a:tblGrid>
              <a:tr h="73332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Основные системы сбора данных о мигрантах в Российской Федераци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Times New Roman"/>
                          <a:ea typeface="Times New Roman"/>
                        </a:rPr>
                        <a:t>Ведомств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Times New Roman"/>
                          <a:ea typeface="Times New Roman"/>
                        </a:rPr>
                        <a:t>Оценка методологии и качеств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Times New Roman"/>
                          <a:ea typeface="Times New Roman"/>
                        </a:rPr>
                        <a:t>Оценка доступнос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Текущий учет на основе данных о регистрации по месту жительства (внешняя и внутренняя миграц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ВД-сбор, Росстат-обработ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Плохое из-за значительного недоучета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Times New Roman"/>
                          <a:ea typeface="Times New Roman"/>
                        </a:rPr>
                        <a:t>Данные о разрешении на въезд (в РФ) и на выезд (из РФ)  для постоянного жительства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Times New Roman"/>
                          <a:ea typeface="Times New Roman"/>
                        </a:rPr>
                        <a:t>МВ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f5f5f"/>
                          </a:solidFill>
                          <a:latin typeface="Times New Roman"/>
                          <a:ea typeface="Times New Roman"/>
                        </a:rPr>
                        <a:t>Соответствуе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f5f5f"/>
                          </a:solidFill>
                          <a:latin typeface="Times New Roman"/>
                          <a:ea typeface="Times New Roman"/>
                        </a:rPr>
                        <a:t>специфике данн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Times New Roman"/>
                          <a:ea typeface="Times New Roman"/>
                        </a:rPr>
                        <a:t>Доступны до 2002 г., более не собираютс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анные о численности привлеченной иностранной рабочей силы (число разрешений на работу) и данные о численности российских граждан, трудоустроенных за границей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МВД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Плохое из-за значительного недоучета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анные о численности студентов, прибывших из-за рубежа и численности студентов, нуждающихся в общежитии (в т.ч. – внутренних мигран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инобраз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ания Р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Удовлетворительное, отсутствует описание методики сбора данн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оступны , но публикуются нерегулярн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Статистика разрешений на временное проживание и видов на жительство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МВ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Точной информации о методике не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Не 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Статистика  на основе миграционных карт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МВ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Скорее всего плохо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Не 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анные  о числе беженцев и вынужденных переселенцев в Р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МВ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Удовлетворительно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анные Федеральной пограничной служб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ФС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Точной информации о методике не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Доступны в самом общем вид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Статистика выданных виз  и приглашени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МИ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Точной информации о методике не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Не 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татистика  налоговой служб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Н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Точной информации о методике не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Не 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Перепись населения 2002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осста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Результаты обрабатываютс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удут 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360"/>
            <a:ext cx="838188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Главные проблемы  в области статистики миграции</a:t>
            </a:r>
            <a:endParaRPr b="0" lang="en-US" sz="3200" spc="-1" strike="noStrike">
              <a:solidFill>
                <a:srgbClr val="000000"/>
              </a:solidFill>
              <a:latin typeface="Arial"/>
            </a:endParaRPr>
          </a:p>
        </p:txBody>
      </p:sp>
      <p:sp>
        <p:nvSpPr>
          <p:cNvPr id="57" name="PlaceHolder 2"/>
          <p:cNvSpPr>
            <a:spLocks noGrp="1"/>
          </p:cNvSpPr>
          <p:nvPr>
            <p:ph/>
          </p:nvPr>
        </p:nvSpPr>
        <p:spPr>
          <a:xfrm>
            <a:off x="609120" y="1219320"/>
            <a:ext cx="8153640" cy="533376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лавный источник данных – текущий учет миграции лишен адекватной первичной информации, что привело к значительному недоучету  долгосрочных мигрантов.</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льтернативные системы учета мигрантов не созданы, или находятся в самой начальной стадии формирования.</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Усиливается тенденция вытеснения открытой государственной статистики закрытыми административными источниками, принципы работы которых не ясны и не публикуются, а качество данных, поэтому, не поддается оценке.</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Ф не имеет в настоящее время ни одной системы сбора данных, которая давала бы комплексное представление о миграционной ситуации в стране и позволяла бы изучать ее тенденции.</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этих условиях  анализ миграционной ситуации выполняется с привлечением  источников данных, не предназначенных для этого.</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аспространение получают методы качественной социологии, одностороннее применение которых также не дает объективной картины.  Проводимые выборочные обследования часто нерепрезентативны и проводятся по разным программам, их результаты трудно сопоставить или провери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aphicFrame>
        <p:nvGraphicFramePr>
          <p:cNvPr id="58" name=""/>
          <p:cNvGraphicFramePr/>
          <p:nvPr/>
        </p:nvGraphicFramePr>
        <p:xfrm>
          <a:off x="152280" y="228600"/>
          <a:ext cx="8763120" cy="6548400"/>
        </p:xfrm>
        <a:graphic>
          <a:graphicData uri="http://schemas.openxmlformats.org/drawingml/2006/table">
            <a:tbl>
              <a:tblPr/>
              <a:tblGrid>
                <a:gridCol w="990720"/>
                <a:gridCol w="3546360"/>
                <a:gridCol w="765360"/>
                <a:gridCol w="34606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опроса</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Перечень вопросов, содержащихся в Листке статистического учета мигранта (Форма 12) </a:t>
                      </a:r>
                      <a:r>
                        <a:rPr b="1" i="1" lang="ru-RU" sz="1000" spc="-1" strike="noStrike">
                          <a:solidFill>
                            <a:srgbClr val="cc0000"/>
                          </a:solidFill>
                          <a:latin typeface="Times New Roman"/>
                        </a:rPr>
                        <a:t>* курсовом выделены позиции, подлежащие разработке</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3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Ф.И.О.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00"/>
                          </a:solidFill>
                          <a:latin typeface="Times New Roman"/>
                          <a:ea typeface="Times New Roman"/>
                        </a:rPr>
                        <a:t>Основное обстоятельство, вызвавшее необходимость переезда(9вариантов)</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ea typeface="Times New Roman"/>
                        </a:rPr>
                        <a:t>Дата рождения</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50000"/>
                        </a:lnSpc>
                        <a:tabLst>
                          <a:tab algn="l" pos="0"/>
                          <a:tab algn="ctr" pos="2970360"/>
                          <a:tab algn="r" pos="5940360"/>
                          <a:tab algn="l" pos="6400800"/>
                          <a:tab algn="l" pos="7315200"/>
                          <a:tab algn="l" pos="8229600"/>
                          <a:tab algn="l" pos="9144000"/>
                          <a:tab algn="l" pos="10058400"/>
                        </a:tabLst>
                      </a:pPr>
                      <a:r>
                        <a:rPr b="1" lang="ru-RU" sz="1400" spc="-1" strike="noStrike">
                          <a:solidFill>
                            <a:srgbClr val="000000"/>
                          </a:solidFill>
                          <a:latin typeface="Times New Roman"/>
                        </a:rPr>
                        <a:t>Занятие по последнему месту   жительства</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00"/>
                          </a:solidFill>
                          <a:latin typeface="Times New Roman"/>
                        </a:rPr>
                        <a:t>Место рождения – государство, республика, область, </a:t>
                      </a:r>
                      <a:r>
                        <a:rPr b="1" i="1" lang="ru-RU" sz="1400" spc="-1" strike="noStrike">
                          <a:solidFill>
                            <a:srgbClr val="000000"/>
                          </a:solidFill>
                          <a:latin typeface="Times New Roman"/>
                        </a:rPr>
                        <a:t>город, район, с.н.п.</a:t>
                      </a:r>
                      <a:r>
                        <a:rPr b="0" i="1" lang="ru-RU"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4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ид деятельности по последнему месту жительства</a:t>
                      </a:r>
                      <a:r>
                        <a:rPr b="0" lang="ru-RU" sz="1400" spc="-1" strike="noStrike">
                          <a:solidFill>
                            <a:srgbClr val="000000"/>
                          </a:solidFill>
                          <a:latin typeface="Times New Roman"/>
                        </a:rPr>
                        <a:t> </a:t>
                      </a:r>
                      <a:r>
                        <a:rPr b="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459720">
                <a:tc>
                  <a:txBody>
                    <a:bodyPr lIns="90000" rIns="90000" tIns="46800" bIns="46800" anchor="t">
                      <a:noAutofit/>
                    </a:bodyPr>
                    <a:p>
                      <a:pPr>
                        <a:lnSpc>
                          <a:spcPct val="100000"/>
                        </a:lnSpc>
                        <a:tabLst>
                          <a:tab algn="l" pos="0"/>
                          <a:tab algn="ctr" pos="2970360"/>
                          <a:tab algn="r" pos="594036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ea typeface="Times New Roman"/>
                        </a:rPr>
                        <a:t>Пол</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ид социального обеспечения</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ea typeface="Times New Roman"/>
                        </a:rPr>
                        <a:t>Гражданство</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ea typeface="Times New Roman"/>
                        </a:rPr>
                        <a:t>Образование (6 вариантов)</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ea typeface="Times New Roman"/>
                        </a:rPr>
                        <a:t>Национальность</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Брачный статус</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0000"/>
                          </a:solidFill>
                          <a:latin typeface="Times New Roman"/>
                          <a:ea typeface="Times New Roman"/>
                        </a:rPr>
                        <a:t>Новое место жительства</a:t>
                      </a:r>
                      <a:r>
                        <a:rPr b="1" i="1" lang="en-US" sz="2400" spc="-1" strike="noStrike">
                          <a:solidFill>
                            <a:srgbClr val="000000"/>
                          </a:solidFill>
                          <a:latin typeface="Times New Roman"/>
                          <a:ea typeface="Times New Roman"/>
                        </a:rPr>
                        <a:t> </a:t>
                      </a:r>
                      <a:r>
                        <a:rPr b="0" i="1" lang="en-US" sz="1600" spc="-1" strike="noStrike">
                          <a:solidFill>
                            <a:srgbClr val="cc0000"/>
                          </a:solidFill>
                          <a:latin typeface="Times New Roman"/>
                          <a:ea typeface="Times New Roman"/>
                        </a:rPr>
                        <a:t>(</a:t>
                      </a:r>
                      <a:r>
                        <a:rPr b="0" i="1" lang="ru-RU" sz="1600" spc="-1" strike="noStrike">
                          <a:solidFill>
                            <a:srgbClr val="cc0000"/>
                          </a:solidFill>
                          <a:latin typeface="Times New Roman"/>
                          <a:ea typeface="Times New Roman"/>
                        </a:rPr>
                        <a:t>адрес</a:t>
                      </a:r>
                      <a:r>
                        <a:rPr b="0" i="1" lang="en-US" sz="1600" spc="-1" strike="noStrike">
                          <a:solidFill>
                            <a:srgbClr val="cc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8</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Если о переселения проживал с семьей, то прибыл с (4 варианта)</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0000"/>
                          </a:solidFill>
                          <a:latin typeface="Times New Roman"/>
                          <a:ea typeface="Times New Roman"/>
                        </a:rPr>
                        <a:t>Предыдущее место жительства </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Часть членов семьи уже проживает  по новому месту жительства (да,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оживал в предыдущем месте с ______года</a:t>
                      </a: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т)Дети до 14 лет, прибывшие с мигрантом (пол, дата рождения)</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48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i="1" lang="ru-RU" sz="2000" spc="-1" strike="noStrike">
                          <a:solidFill>
                            <a:srgbClr val="cc0000"/>
                          </a:solidFill>
                          <a:latin typeface="Times New Roman"/>
                          <a:ea typeface="Times New Roman"/>
                        </a:rPr>
                        <a:t>Дата заполнения листка</a:t>
                      </a:r>
                      <a:endParaRPr b="0" lang="en-US" sz="2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Изменения критерия идентификации мигранта</a:t>
            </a:r>
            <a:r>
              <a:rPr b="1" lang="en-US" sz="3200" spc="-1" strike="noStrike">
                <a:solidFill>
                  <a:srgbClr val="ffffff"/>
                </a:solidFill>
                <a:latin typeface="Times New Roman"/>
              </a:rPr>
              <a:t>:</a:t>
            </a:r>
            <a:endParaRPr b="0" lang="en-US" sz="3200" spc="-1" strike="noStrike">
              <a:solidFill>
                <a:srgbClr val="000000"/>
              </a:solidFill>
              <a:latin typeface="Arial"/>
            </a:endParaRPr>
          </a:p>
        </p:txBody>
      </p:sp>
      <p:sp>
        <p:nvSpPr>
          <p:cNvPr id="60" name="PlaceHolder 2"/>
          <p:cNvSpPr>
            <a:spLocks noGrp="1"/>
          </p:cNvSpPr>
          <p:nvPr>
            <p:ph/>
          </p:nvPr>
        </p:nvSpPr>
        <p:spPr>
          <a:xfrm>
            <a:off x="304920" y="1371240"/>
            <a:ext cx="8534160" cy="518148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1996 – период пребывания в новом месте не менее 45 дней, пересечение границы административного образования  : </a:t>
            </a:r>
            <a:r>
              <a:rPr b="0" lang="ru-RU" sz="1600" spc="-1" strike="noStrike">
                <a:solidFill>
                  <a:srgbClr val="cc0000"/>
                </a:solidFill>
                <a:latin typeface="Times New Roman"/>
              </a:rPr>
              <a:t>критерии времени и места пребывания (пространства)</a:t>
            </a:r>
            <a:r>
              <a:rPr b="0" lang="en-US" sz="1600" spc="-1" strike="noStrike">
                <a:solidFill>
                  <a:srgbClr val="cc0000"/>
                </a:solidFill>
                <a:latin typeface="Times New Roman"/>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 1996 –новые Правила регистрации граждан РФ –два вида регистраци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По месту жительства (юридического) – </a:t>
            </a:r>
            <a:r>
              <a:rPr b="0" lang="ru-RU" sz="1600" spc="-1" strike="noStrike" u="sng">
                <a:solidFill>
                  <a:srgbClr val="cc0000"/>
                </a:solidFill>
                <a:uFillTx/>
                <a:latin typeface="Times New Roman"/>
              </a:rPr>
              <a:t>т.е. критерий  официального постоянного места жительства</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Месту пребывания</a:t>
            </a:r>
            <a:r>
              <a:rPr b="0" lang="en-US" sz="1600" spc="-1" strike="noStrike">
                <a:solidFill>
                  <a:srgbClr val="a50021"/>
                </a:solidFill>
                <a:latin typeface="Times New Roman"/>
              </a:rPr>
              <a:t> </a:t>
            </a:r>
            <a:r>
              <a:rPr b="0" lang="ru-RU" sz="1600" spc="-1" strike="noStrike">
                <a:solidFill>
                  <a:srgbClr val="a50021"/>
                </a:solidFill>
                <a:latin typeface="Times New Roman"/>
              </a:rPr>
              <a:t> - </a:t>
            </a:r>
            <a:r>
              <a:rPr b="0" lang="ru-RU" sz="1600" spc="-1" strike="noStrike">
                <a:solidFill>
                  <a:srgbClr val="000000"/>
                </a:solidFill>
                <a:latin typeface="Times New Roman"/>
              </a:rPr>
              <a:t>сначала  ограничение 180 днями, но без ограничений числа продлений регистрации,  (для иностранцев – с 2002 г. -только 90 дней, и не более 12 мес. в случае легальной работы в РФ).</a:t>
            </a:r>
            <a:r>
              <a:rPr b="0" lang="en-US" sz="1600" spc="-1" strike="noStrike">
                <a:solidFill>
                  <a:srgbClr val="000000"/>
                </a:solidFill>
                <a:latin typeface="Times New Roman"/>
              </a:rPr>
              <a:t> </a:t>
            </a:r>
            <a:r>
              <a:rPr b="0" lang="ru-RU" sz="1600" spc="-1" strike="noStrike">
                <a:solidFill>
                  <a:srgbClr val="000000"/>
                </a:solidFill>
                <a:latin typeface="Times New Roman"/>
              </a:rPr>
              <a:t>В МВД учитывается число выданных регистраций, а не люде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ервичные стат. документы составляются только на (1).- Недоучет огромных масс мигрантов, как международных, так и внутренних, зарегистрированных по месту пребывания, но фактически  постоянно  там проживающих.</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Причины недоучета международной миграции</a:t>
            </a:r>
            <a:r>
              <a:rPr b="1" lang="en-US" sz="1600" spc="-1" strike="noStrike">
                <a:solidFill>
                  <a:srgbClr val="333399"/>
                </a:solidFill>
                <a:latin typeface="Times New Roman"/>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 Постановлением Правительства Правила 1995 года распространены на иностранных граждан.</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 X. –</a:t>
            </a:r>
            <a:r>
              <a:rPr b="0" lang="ru-RU" sz="1600" spc="-1" strike="noStrike">
                <a:solidFill>
                  <a:srgbClr val="000000"/>
                </a:solidFill>
                <a:latin typeface="Times New Roman"/>
              </a:rPr>
              <a:t> Постановление о документировании иностранных граждан  видами на жительство  - многие мигранты не  получили вид на жительство и перешли в категорию, не</a:t>
            </a:r>
            <a:r>
              <a:rPr b="0" lang="en-US" sz="1600" spc="-1" strike="noStrike">
                <a:solidFill>
                  <a:srgbClr val="000000"/>
                </a:solidFill>
                <a:latin typeface="Times New Roman"/>
              </a:rPr>
              <a:t> </a:t>
            </a:r>
            <a:r>
              <a:rPr b="0" lang="ru-RU" sz="1600" spc="-1" strike="noStrike">
                <a:solidFill>
                  <a:srgbClr val="000000"/>
                </a:solidFill>
                <a:latin typeface="Times New Roman"/>
              </a:rPr>
              <a:t>подлежащую статистическому учету.</a:t>
            </a:r>
            <a:r>
              <a:rPr b="0" lang="en-US" sz="1600" spc="-1" strike="noStrike">
                <a:solidFill>
                  <a:srgbClr val="000000"/>
                </a:solidFill>
                <a:latin typeface="Times New Roman"/>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2- </a:t>
            </a:r>
            <a:r>
              <a:rPr b="0" lang="ru-RU" sz="1600" spc="-1" strike="noStrike">
                <a:solidFill>
                  <a:srgbClr val="000000"/>
                </a:solidFill>
                <a:latin typeface="Times New Roman"/>
              </a:rPr>
              <a:t>Принят новый закон О правовом положении иностранных граждан. Приято постановление, отменяющее распространение правил регистрации граждан РФ на иностранцев. – </a:t>
            </a:r>
            <a:r>
              <a:rPr b="0" lang="ru-RU" sz="1600" spc="-1" strike="noStrike">
                <a:solidFill>
                  <a:srgbClr val="cc0000"/>
                </a:solidFill>
                <a:latin typeface="Times New Roman"/>
              </a:rPr>
              <a:t>Новый критерий учета – Гражданство Р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Влияние изменения критериев идентификации мигранта на объемы учтенной международной миграции в РФ в 1999-2003 гг.</a:t>
            </a:r>
            <a:endParaRPr b="0" lang="en-US" sz="3200" spc="-1" strike="noStrike">
              <a:solidFill>
                <a:srgbClr val="000000"/>
              </a:solidFill>
              <a:latin typeface="Arial"/>
            </a:endParaRPr>
          </a:p>
        </p:txBody>
      </p:sp>
      <p:graphicFrame>
        <p:nvGraphicFramePr>
          <p:cNvPr id="62" name=""/>
          <p:cNvGraphicFramePr/>
          <p:nvPr/>
        </p:nvGraphicFramePr>
        <p:xfrm>
          <a:off x="609480" y="1828800"/>
          <a:ext cx="8077320" cy="4800600"/>
        </p:xfrm>
        <a:graphic>
          <a:graphicData uri="http://schemas.openxmlformats.org/presentationml/2006/ole">
            <p:oleObj progId="Excel.Sheet.12" r:id="rId1" spid="">
              <p:embed/>
              <p:pic>
                <p:nvPicPr>
                  <p:cNvPr id="63" name="" descr=""/>
                  <p:cNvPicPr/>
                  <p:nvPr/>
                </p:nvPicPr>
                <p:blipFill>
                  <a:blip r:embed="rId2"/>
                  <a:stretch/>
                </p:blipFill>
                <p:spPr>
                  <a:xfrm>
                    <a:off x="609480" y="1828800"/>
                    <a:ext cx="807732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400" spc="-1" strike="noStrike">
                <a:solidFill>
                  <a:srgbClr val="ffffff"/>
                </a:solidFill>
                <a:latin typeface="Times New Roman"/>
              </a:rPr>
              <a:t>Пример недоучета миграции гос. статистикой</a:t>
            </a:r>
            <a:br>
              <a:rPr sz="2400"/>
            </a:br>
            <a:r>
              <a:rPr b="1" lang="ru-RU" sz="2400" spc="-1" strike="noStrike">
                <a:solidFill>
                  <a:srgbClr val="ffffff"/>
                </a:solidFill>
                <a:latin typeface="Times New Roman"/>
              </a:rPr>
              <a:t> Численность учебных мигрантов, прибывших из-за рубежа  в РФ по данным Министерства образования и </a:t>
            </a:r>
            <a:r>
              <a:rPr b="1" lang="ru-RU" sz="2400" spc="-1" strike="noStrike" u="sng">
                <a:solidFill>
                  <a:srgbClr val="ffffff"/>
                </a:solidFill>
                <a:uFillTx/>
                <a:latin typeface="Times New Roman"/>
              </a:rPr>
              <a:t>данным Госкомстата РФ</a:t>
            </a:r>
            <a:r>
              <a:rPr b="1" lang="ru-RU" sz="2400" spc="-1" strike="noStrike">
                <a:solidFill>
                  <a:srgbClr val="ffffff"/>
                </a:solidFill>
                <a:latin typeface="Times New Roman"/>
              </a:rPr>
              <a:t>. (Человек)</a:t>
            </a:r>
            <a:endParaRPr b="0" lang="en-US" sz="2400" spc="-1" strike="noStrike">
              <a:solidFill>
                <a:srgbClr val="000000"/>
              </a:solidFill>
              <a:latin typeface="Arial"/>
            </a:endParaRPr>
          </a:p>
        </p:txBody>
      </p:sp>
      <p:graphicFrame>
        <p:nvGraphicFramePr>
          <p:cNvPr id="65" name=""/>
          <p:cNvGraphicFramePr/>
          <p:nvPr/>
        </p:nvGraphicFramePr>
        <p:xfrm>
          <a:off x="395280" y="1628640"/>
          <a:ext cx="8280360" cy="4896000"/>
        </p:xfrm>
        <a:graphic>
          <a:graphicData uri="http://schemas.openxmlformats.org/presentationml/2006/ole">
            <p:oleObj progId="Excel.Sheet.12" r:id="rId1" spid="">
              <p:embed/>
              <p:pic>
                <p:nvPicPr>
                  <p:cNvPr id="66" name="" descr=""/>
                  <p:cNvPicPr/>
                  <p:nvPr/>
                </p:nvPicPr>
                <p:blipFill>
                  <a:blip r:embed="rId2"/>
                  <a:stretch/>
                </p:blipFill>
                <p:spPr>
                  <a:xfrm>
                    <a:off x="395280" y="1628640"/>
                    <a:ext cx="8280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8:30:30Z</dcterms:created>
  <dc:creator>user</dc:creator>
  <dc:description/>
  <dc:language>en-US</dc:language>
  <cp:lastModifiedBy>user</cp:lastModifiedBy>
  <dcterms:modified xsi:type="dcterms:W3CDTF">2005-01-25T12:35:37Z</dcterms:modified>
  <cp:revision>166</cp:revision>
  <dc:subject/>
  <dc:title>Слайд 1</dc:title>
</cp:coreProperties>
</file>