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C569-97EC-4B1E-997E-BECEAE8C0D1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ABCA-8AD8-43CA-964B-B1F46E306D4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85B8-CFF8-4230-B004-E8F5EB45DB0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81D5-D506-4B5A-95C5-6780EC05727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4B60-A4F7-4C85-A89F-2B578AFC552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742F-A89B-446E-80BD-236DD24AA68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C2B8-BA05-4A41-9251-096EE32E431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CA4D-AF4F-4A02-9954-D3CE464C5BA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BBE6-4405-4CF2-91F6-B25BD3BE68E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0563-72D6-4467-890C-92BE4260C69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45BC-4B3E-4657-B324-27133206DC9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D989-AEDA-49E5-9026-24A53D9A0BC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7A9D-31D0-4480-8461-5C9046B0CB3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502B-727C-4543-B8BA-857BC2EE574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77D8-0ABB-499E-AB0E-5A3207A3DEA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180E-2082-4DAD-9712-AA320B8FA18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7F7D-F910-450B-B097-1FF6540FF59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F4F3-6C90-48DD-B717-7CC5B997AE4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B2CA-E2E4-4A46-AAC4-C269D5B8B4A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A912-23C0-48BC-B1D1-A4A9E5962C8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32AB-9EE3-481A-A9AE-9F1EE279F87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CE1F-00F1-47DA-BE4D-771D0C385A7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45A-8759-4BBC-8CD6-279EC01F646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69A2-282A-4D82-B70B-86CDD557B53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0BE7-79C2-4D42-A267-67EDA72BE15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9EE4-0AD9-4A36-8C19-1554FB37EAF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0484-A732-4F14-BCB5-8E0C9220EA8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8AF-2C1E-46F3-9C0D-D59C1A0D9DF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CD70-614D-468E-9C76-28BCFB168B3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5B4D-70E8-4B08-9AA6-CBC6AE7A3E1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8084-CED6-47AB-9477-61D84DEDC9B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0FC7-3161-4C54-A246-D2A7AE837AE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DE06-131E-4AA4-9706-EDAD2525363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B648-D4FC-4D15-BC5A-A19E95F69B8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D686-2B1E-437A-A8B3-B818C47B749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DA51-67F9-47A2-8E4A-EE52040501A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C1A7-D452-41EA-8185-FD1FB08A609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3BDB-118E-4CA8-B178-13FACD1DF7C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E7FB-EDDB-4482-B97D-4B9499A976D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ИСТОЧНИКИ ДАННЫХ ПО МЕЖДУНАРОДНОЙ МИГРАЦИИ</a:t>
            </a:r>
            <a:br>
              <a:rPr sz="3600"/>
            </a:br>
            <a:br>
              <a:rPr sz="3600"/>
            </a:b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Жанетт Скурл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, NIDI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НЕДЕЛЬНИК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4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егистры иностранцев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523880"/>
            <a:ext cx="838224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чень похожи на регистры населения, н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олько для иностранцев, проживающих в этой стране (с легальным статусом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анные 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атусе проживани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ании для въезда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роке действия разрешени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аким образом учитывается и краткосрочная миграция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ражданстве и т.д.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граничения при публик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рогие правила конфиденциальности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раны: например, Германи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Обследования домохозяйств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413000"/>
            <a:ext cx="78487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меры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бследования рабочей силы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жилища, условий жизни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ые требовани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Большой объем выборк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/или  выборка с повышенной частотой среди мигрантского населения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Значительная численность иммигрантского населения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Если нужно: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оведение интервью на других языках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иды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егулярные  обследования, проводимые  за   один раунд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анели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дни и те же лица интервьюируются в течение  многих раундов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Обследования домохозяйств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52388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бщие обследования домохозяйств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граниченность применения для исследования международной миграции / мигрантов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ебольшие объемы выборк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иск недостаточной репрезентативност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тражают только пост-миграционную ситуацию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ерьезные ограничения  в отношении оценки величины потоков и численности мигрантов в стране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Обследования домохозяйств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6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пециальные обследования миграции/ мигрантов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етализированная и целенаправленная информация о мигрантских населениях и процессах миграци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ложный отбор и конструирование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озможность недостаточной сопоставимости с группами коренного населения (уроженцев)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Лонгитюдинально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бследование иммигрантов в Австрали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DIMA, 1994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бследование выталкивающих и притягивающих факторов в международной миграции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(1997-1998)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 странах выхода и вселения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(NIDI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Сбор данных на границе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752480"/>
            <a:ext cx="8076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бор данных в пунктах въезда/ выезда всех пассажиров или 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олько 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собых групп) иностранцев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ногда производится в виде обследования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оединенное Королевство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азвитая система существует в Австралии с предварительными проверками до границы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Регистрируются прибыт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иногда также и выбытия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ипы данных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снованные на документах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аспортах, визах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бланки, заполняемые лицами,  пересекающими государственную границу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траны: многие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Сбор данных на границе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60020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еимуществ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тражение реальных переездов (но не людей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едостатки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ложность сбора и обработки (большого объема) данных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чень мало мигрантов среди миллионов лиц, пересекающих границы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граниченная достоверность сведений в  формах, заполненных, лицами, совершающими поездк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едназначение данных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административное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 для обеспечения безопасност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граниченность в отношении статистик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Сбор данных на границе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600200"/>
            <a:ext cx="808848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остоверность зависит от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епени, в которой страна является местом вселения нелегальных мигрантов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оступности въезда в страну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легкости, с которой могут быть пройдены пункты пограничного контроля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епени, в которой собственные граждане сопротивляются предоставлению информации на границе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аличия (или отсутствия) правовых рамок получения статистических данных из сведений, собираемых на границах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епени формального контроля качества информации, сообщаемой лицом, пересекающим границу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азрешения на проживание (Виды на жительство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523880"/>
            <a:ext cx="86108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вокупность иностранцев, которые нуждаются в обращении за таким разрешением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анные отражают скорее количество административных процедур, нежели людей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ак правило, имеются данные только о прибывших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ля осмысленной интерпретации статистики видов на жительство необходимо иметь информацию 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личестве впервые выданных разрешений (видов) на жительство отдельно от повторных (перерегистрации)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роке действия разрешени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раны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ноги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пример, США,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Австралия, Канада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595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азрешения на работу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вокупность иностранных работников, являющихся объектом подобного разрешения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часто обращение  /за разрешением/  осуществляется работодателем)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анные отражают скорее число административных процедур (случаев), нежели людей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отоки прибывших: при наличии достаточных сведений можно оценить также численность мигрантов в стране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еимущества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анные основаны на документах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едостатк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аботники без документов исключены (из наблюдения)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граниченная возможность международных сравнений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раны: многие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6834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азрешения на работу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676520"/>
            <a:ext cx="77706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ля интерпретации статистики требуется информация относительно: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первые выданных разрешений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новь прибывшим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остранцам, уже находившимся в стране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зменение статуса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 частности: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туристов, студентов, иждивенцев,  работников без документов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родлений разрешений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рока действия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764640"/>
            <a:ext cx="8640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ля чего нам нужна статистика миграции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ыработка политики и планирование, основанные на знаниях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онтроль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омощь и поддержка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ммигранта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гражданам, проживающим за рубежо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Оценка качества полити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формация для общественной дискусси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Информация о нелегальной ми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елегальный мигрант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легальный въезд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осроченная виз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/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зрешени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озобновление нелегального статуса после предыдущей регуляризаци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легальное проживание (пребывание), но нелегальная занятост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Информация о нелегальной ми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ециальные источники информации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ампании по регуляризации и амнисти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казы в разрешении на въезд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/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задержания на границ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татистика выдворения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анные о беженцах и лицах, ищущих убежище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бщие  статистические источники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щущие убежище, как правило, не включаются в статистику мигр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о бывают различия в методике по странам и во времени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(регистры населения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огда учитываются по факту предоставления статуса (вместо времени прибытия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огда  несовершеннолетние иждивенцы не учитываются отдельно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анные о беженцах и лицах, ищущих убежище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ециальные источники данных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бращения за предоставлением убежища и решения по ни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хемы переселения беженце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анные о предоставленной помощи и т.д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Национальные системы сбора данных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различные практик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818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Многие страны не разрабатывают статистику миграции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анные о численности мигрантов, проживающих в стране, чаще бывают в наличии (переписи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анные о потоках – реже 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регистры населения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ограничная статистика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разрешения на проживание/виды на жительство)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бъем эмиграции можно оценить с помощью данных, имеющихся в странах всел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Охват и сопоставимость: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роблемы сопоставимости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еждународной  –  однотипных источников данны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циональной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 источников данных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роблемы охвата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легальная миграция чаще всего бывает не  отражена в источниках данны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Национальные системы сбора данных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 пространство для совершенствован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еречень источников данных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акие источники данных (предназначение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хват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аких групп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спользованные концепции и определен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акая информация (переменные) включен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формат баз данны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Национальные системы сбора данных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: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 пространство для совершенствован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Использование имеющихся источников данных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99"/>
                </a:solidFill>
                <a:latin typeface="Arial"/>
              </a:rPr>
              <a:t>разработка более детализированных таблиц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99"/>
                </a:solidFill>
                <a:latin typeface="Arial"/>
              </a:rPr>
              <a:t>разработка статистики из административных источников</a:t>
            </a:r>
            <a:r>
              <a:rPr b="0" lang="en-GB" sz="25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трудничество между административными работниками и статистикам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азличными службами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коррекция  законодательных рамок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ополнение или усовершенствование бланков в целях улучшения или создания условий для формирования содержательной статис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бмен данными и интеграц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аращивание потенциала (возможностей) /в области знания методологии сбора и управления данными/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 “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Общая модель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”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сбора, использования и обмена данными по ми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О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БС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атская иммиграционная служба и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ежправительственные консультации по вопросам убежища, беженцев и миграционной политики 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GC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ожет применяться независимо от того, насколько богатый опыт имеет  страна в управлении данными по мигр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дходит для любого типа данных по мигр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Цель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воевременны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держательные и объективные данны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78136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ИСТОЧНИКИ ДАННЫХ ПО МЕЖДУНАРОДНОЙ МИГРАЦИИ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НЕДЕЛЬНИК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24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 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838080"/>
            <a:ext cx="8388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Какого типа данные требуются</a:t>
            </a: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пределяемые политикой вопросы исследования: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--&gt;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типы требующихся данных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остая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’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татистика числа «мигрантов» или «иностранцев»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Более детализированная статистика, например, по определенным группам (беженцы, женщины- жертвы торговли людьми, высококвалифицированные работники, характеристики возвратных мигрантов, ожидаемое число детей школьного возраста в будущем, безработица среди иждивенцев и т.д.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азнообразные виды статистик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 населении, но также, например, о денежных переводах и их развивающем потенциале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“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Общая модель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” </a:t>
            </a: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сбора, использования и обмена данными по ми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ые составляющи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создание национальной сети ведущих институтов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создание реестра существующих источников данных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определение национальных потребностей в данных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должное оформление данных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создание механизма обмена данными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распространение данных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наращивание потенциала (возможностей) /в области методологии сбора и управления данными/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еимущественно основаны на национальных источниках данны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бор имеющихся данных на национальном уровне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пытки улучшить качество, оформление (формат) и сопоставимост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сследования и наращивание потенциала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/в области методологии сбора и управления данными/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7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ООН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дел населен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глобальные числа мигрантов в странах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олитика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дел статистик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екомендации по сбору данных о числе   мигрантов в стране и объему потоков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ерховный Комиссариат по делам беженце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лица, ищущие убежище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егиональные комисс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UNECE,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CELAC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Фонд ООН по народонаселению (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NFPA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990360"/>
            <a:ext cx="8294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Европейская экономическая комиссия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Евростат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Генеральный Директорат  по вопросам справедливости, свободы и безопасности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Directorate-Generale for Justice Freedom and Security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G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JFS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статистика потоков и числа мигрантов в стране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татистика приобретения гражданства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база данных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New Cronos (MIGRAT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усилия по согласованию данных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мониторинг тенденций миграции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(CIREFI)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, а также числа ходатайств о предоставлении статуса беженца и решений по ним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(CIREA)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азработка политики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аращивание потенциала (возможностей) /в области методологии сбора и управления данными по миграции/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егиональный аспект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страны Евросоюза и граничащие с ними страны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893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Европейская комиссия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Европейская сеть информации по миграции (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European Migration Information Network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EMIN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иртуальный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аблюдательный пункт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(Лондонский Университетский Колледж – UCL, Великобритания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Европейская миграционная сеть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(EMN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ациональные пункты связи которые будут собирать информацию (статистику,  законодательные акты, сведения о  трендах, примеры, результаты исследований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, которая, в свою очередь, должна будет распространяться через Интернет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Берлинский институт сравнительных социальных исследований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IMISCOE (International Migration, Integration and Social Cohesion in Europe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– Международная миграция, интеграция и социальное согласие в Европе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аучная (исследовательская)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‘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еть высокого профессионализма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, (объединяющая наиболее  компетентных  исследователей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761760"/>
            <a:ext cx="8078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ждународная организация по миграции (IOM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анные, собираемые рамках программной деятельности МОМ,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пример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обровольное возвращение, торговля людьми, репатриация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ОБСЕ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PEMI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истем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оклады по странам о тенденциях и проблемах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еимущественно по развитым странам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820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Международная организация по труду (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LO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атистика и прочие данные о трудящихся мигрантах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т.ч.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ава, дискриминация, эксплуатация, законодательств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База данных по международной трудовой миграции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(ILM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овет Европы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атистика мигр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теграци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права человек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егиональный аспект: страны – члены Совета Европы, и кроме того, еще некоторые стран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761760"/>
            <a:ext cx="8294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ировой Банк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частности -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енежные перевод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«мозговые центры»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 т.ч.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нститут миграционной политик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Источник информации по миграции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Migration Information Source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ежправительственные консультации  по вопросам предоставления убежища,   беженцев и миграционной политик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IGC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685440"/>
            <a:ext cx="815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Международные системы сбора данных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Маршрут на будущее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Дальнейшая работа над международными рекомендациями по сбору и согласованию данных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Своевременная разработка  статистики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Распространение данных и международная координация усилий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Отражение перемен в природе и миграции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 улучшение данных/ статистики по ( в том числе):</a:t>
            </a: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ременной мигр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легальной мигр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торговле людьм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енежных переводах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Продолжение наращивания потенциала в области методологии сбора и управления данными по миграции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Источники данных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циональные источни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еждународные источни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Национальные системы сбора данных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писи населения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егистры населения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егистры иностранцев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ограничная статисти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татистика видов на жительство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татистика разрешений на работу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Переписи населени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447920"/>
            <a:ext cx="7772400" cy="18288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сто (страна) рождения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трана гражданской принадлежности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Год и месяц (первого) прибытия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505320"/>
            <a:ext cx="7772400" cy="31240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99"/>
                </a:solidFill>
                <a:latin typeface="Arial"/>
              </a:rPr>
              <a:t>Кроме того</a:t>
            </a:r>
            <a:r>
              <a:rPr b="0" i="1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сто жительства </a:t>
            </a:r>
            <a:r>
              <a:rPr b="0" i="1" lang="en-GB" sz="30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лет назад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99"/>
                </a:solidFill>
                <a:latin typeface="Arial"/>
              </a:rPr>
              <a:t>Или</a:t>
            </a:r>
            <a:r>
              <a:rPr b="0" i="1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сто предыдущего жительства и 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Год (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+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сяц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рибытия в нынешнее место жительства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Переписи населени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447920"/>
            <a:ext cx="83822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исленность мигрантов, проживающих  в стране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истые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оток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опоставимость международных данных зависит от вида наблюдения (охвата) и вида задаваемых вопросов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еимущества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хватывает почти все (легальное) население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также небольшие группы мигрантов;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учитывает региональную/ местную информацию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Многообразие дополнительных данных, касающихся характеристик  (населения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достатки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анные собираются редко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тсутствуют достоверные данные по эмиграци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мигранты могут быть представлены недостаточно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егистры населени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47920"/>
            <a:ext cx="8610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прерывная запись (регистрация) изменений, происходящих в населении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исло мигрантов в стране, потоки прибывающих, потоки выбывающих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адежность данных зависит от согласия населения регистрироваться (сниматься с учета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едооценка эмиграции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Значительное разнообразие правил регистрации (снятия с учета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собенно - предполагаемый период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ебывания, охват лиц, ищущих убежищ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лияет на сопоставимость данных между странами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Тем не менее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егистр является одним из лучших источников данных о потоках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собенно- о потоках долгосрочных мигрантов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(&gt; 1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года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Данные доступны (имеются) на  любой момент времени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Регистры населени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600200"/>
            <a:ext cx="85122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носительно немного дополнительных характеристик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апример, данные о причине (основании для)  въезда в страну, как правило, не доступны (отсутствуют)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о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имеется тенденция связывать данные из разных источников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анятость, образование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траны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немногие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преимущественно в Западной Европе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user</cp:lastModifiedBy>
  <cp:lastPrinted>2004-02-25T07:11:58Z</cp:lastPrinted>
  <dcterms:modified xsi:type="dcterms:W3CDTF">2005-04-27T11:03:41Z</dcterms:modified>
  <cp:revision>391</cp:revision>
  <dc:subject>BuZa werkconferentie 25-02-2004</dc:subject>
  <dc:title>OS en migratie</dc:title>
</cp:coreProperties>
</file>