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E644-1EAF-4B1D-869C-21A703A10F2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F59E-D77A-47B0-BD00-48B07B8E845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01D6-7C49-46B5-B451-40EFC2209B3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BD9C-0E42-4117-81C8-697D146F16A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3815-645E-4CFF-8967-E6535011815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4946-9B6F-4559-80D8-38E94A246F3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FCC6-8671-45AD-86BB-F7D258360C4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870E-E676-43F4-9892-8E783736D2D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9FFF-6182-448F-BFFD-2015B6ABF57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815E-B801-4183-A381-F944F85D469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2B32-D972-445D-B978-F37B158EF7B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35B5-1299-4AF1-B9CF-7E210C54AC3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97D0-841A-414E-A7DE-2B4B1AD17B9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B990-7FF4-4AD6-B6B2-B2A578D1E93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B6B1-6911-4C4B-9B59-461749977FB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159D-659C-40AE-859D-4A1083CEC5A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0403-590E-4ABE-BC6A-289747DC92A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899E-4BC2-402A-9B58-9E7D6C13815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1F2B-C09D-488E-BFCD-4DF3E50FB4D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496B-97B9-4B21-A2D8-932B4569FB2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BCA9-FBA8-494B-B22B-8CD9143B0FE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89BE-50AF-4303-8179-6D915974831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8775-8A95-4DEF-AC46-B0D4DA35E85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444A-82FA-4C7A-A17C-6DC362C1497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FF80-ACCD-466E-83D7-33C8D0DB5C2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E4C2-4612-4951-8C93-AD6EA5D5348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BC31-A804-4E5D-BAFC-6F377D4A308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88AC-B135-4E6C-A2F4-B9861BF96D7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2159-5669-4327-933D-4AE6059EBB1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C33C-6E4E-4BF5-9F84-633321251D6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C956-422D-4D9D-BDE0-A68939DCCFC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7967-740C-400D-AF5E-DC497415B08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49E4-7E29-4669-A954-B2F223C28B3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7048-8F96-4E38-B227-7EB2B6EF579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716E-5194-45DC-9A75-4EDB1B0D122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94F8-C07B-41CD-A81E-E4EF21CB9F1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7D43-6E6E-4A9D-87A5-0D005DDEFD8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C2FD-E94B-4B57-BF27-90F702387C2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996C-9030-4FD1-B376-CBAF6381858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ИСТОЧНИКИ ДАННЫХ ПО МЕЖДУНАРОДНОЙ МИГРАЦИИ</a:t>
            </a:r>
            <a:br>
              <a:rPr sz="3600"/>
            </a:br>
            <a:br>
              <a:rPr sz="3600"/>
            </a:b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Жанетт Скурл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, NIDI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0825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НЕДЕЛЬНИК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24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 января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седание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4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Регистры иностранцев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523880"/>
            <a:ext cx="838224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чень похожи на регистры населения, но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олько для иностранцев, проживающих в этой стране (с легальным статусом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анные о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атусе проживания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сновании для въезда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роке действия разрешения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аким образом учитывается и краткосрочная миграция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гражданстве и т.д.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граничения при публикаци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рогие правила конфиденциальности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раны: например, Германия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Обследования домохозяйств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413000"/>
            <a:ext cx="78487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меры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бследования рабочей силы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жилища, условий жизни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сновные требования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Большой объем выборки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и/или  выборка с повышенной частотой среди мигрантского населения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Значительная численность иммигрантского населения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Если нужно: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роведение интервью на других языках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иды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регулярные  обследования, проводимые  за   один раунд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анели 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одни и те же лица интервьюируются в течение  многих раундов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Обследования домохозяйств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52388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бщие обследования домохозяйств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Ограниченность применения для исследования международной миграции / мигрантов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ебольшие объемы выборки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иск недостаточной репрезентативности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тражают только пост-миграционную ситуацию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ерьезные ограничения  в отношении оценки величины потоков и численности мигрантов в стране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Обследования домохозяйств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686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пециальные обследования миграции/ мигрантов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етализированная и целенаправленная информация о мигрантских населениях и процессах миграции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ложный отбор и конструирование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озможность недостаточной сопоставимости с группами коренного населения (уроженцев)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имеры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Лонгитюдинально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бследование иммигрантов в Австрали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DIMA, 1994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бследование выталкивающих и притягивающих факторов в международной миграции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(1997-1998),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 странах выхода и вселения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(NIDI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Сбор данных на границе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752480"/>
            <a:ext cx="8076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бор данных в пунктах въезда/ выезда всех пассажиров или </a:t>
            </a:r>
            <a:r>
              <a:rPr b="0" lang="en-GB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только 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особых групп) иностранцев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иногда производится в виде обследования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оединенное Королевство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развитая система существует в Австралии с предварительными проверками до границы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Регистрируются прибытия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иногда также и выбытия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Типы данных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снованные на документах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аспортах, визах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бланки, заполняемые лицами,  пересекающими государственную границу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траны: многие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Сбор данных на границе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60020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еимущества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тражение реальных переездов (но не людей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Недостатки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ложность сбора и обработки (большого объема) данных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чень мало мигрантов среди миллионов лиц, пересекающих границы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граниченная достоверность сведений в  формах, заполненных, лицами, совершающими поездки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едназначение данных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административное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и для обеспечения безопасност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граниченность в отношении статистики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Сбор данных на границе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600200"/>
            <a:ext cx="808848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Достоверность зависит от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тепени, в которой страна является местом вселения нелегальных мигрантов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доступности въезда в страну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легкости, с которой могут быть пройдены пункты пограничного контроля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тепени, в которой собственные граждане сопротивляются предоставлению информации на границе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наличия (или отсутствия) правовых рамок получения статистических данных из сведений, собираемых на границах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тепени формального контроля качества информации, сообщаемой лицом, пересекающим границу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Разрешения на проживание (Виды на жительство)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523880"/>
            <a:ext cx="86108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овокупность иностранцев, которые нуждаются в обращении за таким разрешением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анные отражают скорее количество административных процедур, нежели людей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ак правило, имеются данные только о прибывших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ля осмысленной интерпретации статистики видов на жительство необходимо иметь информацию о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оличестве впервые выданных разрешений (видов) на жительство отдельно от повторных (перерегистрации)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роке действия разрешения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раны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ноги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апример, США,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Австралия, Канада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914400"/>
            <a:ext cx="595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Разрешения на работу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овокупность иностранных работников, являющихся объектом подобного разрешения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часто обращение  /за разрешением/  осуществляется работодателем)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Данные отражают скорее число административных процедур (случаев), нежели людей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отоки прибывших: при наличии достаточных сведений можно оценить также численность мигрантов в стране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реимущества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данные основаны на документах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Недостатки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работники без документов исключены (из наблюдения)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ограниченная возможность международных сравнений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траны: многие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6834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Разрешения на работу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676520"/>
            <a:ext cx="777060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ля интерпретации статистики требуется информация относительно: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впервые выданных разрешений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новь прибывшим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ностранцам, уже находившимся в стране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изменение статуса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 частности: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туристов, студентов, иждивенцев,  работников без документов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продлений разрешений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рока действия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764640"/>
            <a:ext cx="8640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Для чего нам нужна статистика миграции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?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Выработка политики и планирование, основанные на знаниях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контроль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омощь и поддержка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ммигрантам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гражданам, проживающим за рубежом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Оценка качества полити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нформация для общественной дискусси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Информация о нелегальной миграци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елегальный мигрант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елегальный въезд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осроченная виза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/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азрешени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озобновление нелегального статуса после предыдущей регуляризаци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легальное проживание (пребывание), но нелегальная занятость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Информация о нелегальной миграци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ециальные источники информации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ампании по регуляризации и амнисти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тказы в разрешении на въезд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/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задержания на границ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татистика выдворения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Данные о беженцах и лицах, ищущих убежище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153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бщие  статистические источники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щущие убежище, как правило, не включаются в статистику миграци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о бывают различия в методике по странам и во времени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(регистры населения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ногда учитываются по факту предоставления статуса (вместо времени прибытия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ногда  несовершеннолетние иждивенцы не учитываются отдельно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Данные о беженцах и лицах, ищущих убежище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ециальные источники данных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бращения за предоставлением убежища и решения по ним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хемы переселения беженце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анные о предоставленной помощи и т.д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Национальные системы сбора данных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: </a:t>
            </a: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различные практик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8188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Многие страны не разрабатывают статистику миграции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Данные о численности мигрантов, проживающих в стране, чаще бывают в наличии (переписи)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Данные о потоках – реже 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регистры населения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пограничная статистика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разрешения на проживание/виды на жительство)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бъем эмиграции можно оценить с помощью данных, имеющихся в странах вселен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Охват и сопоставимость: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роблемы сопоставимости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еждународной  –  однотипных источников данных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ациональной 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   источников данных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роблемы охвата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елегальная миграция чаще всего бывает не  отражена в источниках данных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Национальные системы сбора данных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: </a:t>
            </a: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 пространство для совершенствования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еречень источников данных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акие источники данных (предназначение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хват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аких групп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спользованные концепции и определения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акая информация (переменные) включен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формат баз данных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Национальные системы сбора данных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: </a:t>
            </a: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 пространство для совершенствования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Использование имеющихся источников данных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99"/>
                </a:solidFill>
                <a:latin typeface="Arial"/>
              </a:rPr>
              <a:t>разработка более детализированных таблиц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99"/>
                </a:solidFill>
                <a:latin typeface="Arial"/>
              </a:rPr>
              <a:t>разработка статистики из административных источников</a:t>
            </a:r>
            <a:r>
              <a:rPr b="0" lang="en-GB" sz="25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отрудничество между административными работниками и статистиками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различными службами 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коррекция  законодательных рамок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ополнение или усовершенствование бланков в целях улучшения или создания условий для формирования содержательной статистик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Обмен данными и интеграция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Наращивание потенциала (возможностей) /в области знания методологии сбора и управления данными/</a:t>
            </a:r>
            <a:r>
              <a:rPr b="0" lang="en-GB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 “</a:t>
            </a: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Общая модель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” </a:t>
            </a: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сбора, использования и обмена данными по миграци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ОМ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БС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атская иммиграционная служба и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ежправительственные консультации по вопросам убежища, беженцев и миграционной политики 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GC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ожет применяться независимо от того, насколько богатый опыт имеет  страна в управлении данными по мигра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дходит для любого типа данных по мигра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Цель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воевременны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одержательные и объективные данны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78136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ИСТОЧНИКИ ДАННЫХ ПО МЕЖДУНАРОДНОЙ МИГРАЦИИ</a:t>
            </a:r>
            <a:br>
              <a:rPr sz="3600"/>
            </a:b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10825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НЕДЕЛЬНИК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24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января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седание 4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838080"/>
            <a:ext cx="8388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Какого типа данные требуются</a:t>
            </a: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пределяемые политикой вопросы исследования: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--&gt;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типы требующихся данных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‘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остая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’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татистика числа «мигрантов» или «иностранцев»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Более детализированная статистика, например, по определенным группам (беженцы, женщины- жертвы торговли людьми, высококвалифицированные работники, характеристики возвратных мигрантов, ожидаемое число детей школьного возраста в будущем, безработица среди иждивенцев и т.д.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Разнообразные виды статистик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 населении, но также, например, о денежных переводах и их развивающем потенциале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“</a:t>
            </a: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Общая модель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” </a:t>
            </a: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сбора, использования и обмена данными по миграци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сновные составляющи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создание национальной сети ведущих институтов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создание реестра существующих источников данных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определение национальных потребностей в данных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должное оформление данных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создание механизма обмена данными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распространение данных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наращивание потенциала (возможностей) /в области методологии сбора и управления данными/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Международные системы сбора данных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еимущественно основаны на национальных источниках данных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тбор имеющихся данных на национальном уровне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опытки улучшить качество, оформление (формат) и сопоставимость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сследования и наращивание потенциала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/в области методологии сбора и управления данными/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7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Международные системы сбора данных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ООН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тдел населения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глобальные числа мигрантов в странах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олитика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тдел статистик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рекомендации по сбору данных о числе   мигрантов в стране и объему потоков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ерховный Комиссариат по делам беженце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лица, ищущие убежище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егиональные комисси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(UNECE,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CELAC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Фонд ООН по народонаселению (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UNFPA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990360"/>
            <a:ext cx="8294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Международные системы сбора данных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Европейская экономическая комиссия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/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Евростат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/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Генеральный Директорат  по вопросам справедливости, свободы и безопасности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Directorate-Generale for Justice Freedom and Security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G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/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JFS)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статистика потоков и числа мигрантов в стране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статистика приобретения гражданства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база данных 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New Cronos (MIGRAT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усилия по согласованию данных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мониторинг тенденций миграции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(CIREFI)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, а также числа ходатайств о предоставлении статуса беженца и решений по ним 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(CIREA)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азработка политики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аращивание потенциала (возможностей) /в области методологии сбора и управления данными по миграции/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егиональный аспект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страны Евросоюза и граничащие с ними страны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8893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Международные системы сбора данных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Европейская комиссия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Европейская сеть информации по миграции (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European Migration Information Network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- 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EMIN)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иртуальный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‘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аблюдательный пункт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(Лондонский Университетский Колледж – UCL, Великобритания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Европейская миграционная сеть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(EMN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ациональные пункты связи которые будут собирать информацию (статистику,  законодательные акты, сведения о  трендах, примеры, результаты исследований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, которая, в свою очередь, должна будет распространяться через Интернет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Берлинский институт сравнительных социальных исследований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IMISCOE (International Migration, Integration and Social Cohesion in Europe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– Международная миграция, интеграция и социальное согласие в Европе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аучная (исследовательская)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‘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еть высокого профессионализма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, (объединяющая наиболее  компетентных  исследователей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761760"/>
            <a:ext cx="8078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Международные системы сбора данных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Международная организация по миграции (IOM)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анные, собираемые рамках программной деятельности МОМ,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апример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обровольное возвращение, торговля людьми, репатриация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ОБСЕ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OPEMI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истема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оклады по странам о тенденциях и проблемах 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еимущественно по развитым странам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820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Международные системы сбора данных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Международная организация по труду (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LO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атистика и прочие данные о трудящихся мигрантах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т.ч.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ава, дискриминация, эксплуатация, законодательство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База данных по международной трудовой миграции 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(ILM)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овет Европы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атистика миграци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нтеграция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права человек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егиональный аспект: страны – члены Совета Европы, и кроме того, еще некоторые стран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761760"/>
            <a:ext cx="8294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Международные системы сбора данных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Мировой Банк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 частности -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енежные перевод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«мозговые центры»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в т.ч.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нститут миграционной политик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Источник информации по миграции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Migration Information Source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ежправительственные консультации  по вопросам предоставления убежища,   беженцев и миграционной политик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(IGC)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685440"/>
            <a:ext cx="815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Международные системы сбора данных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Маршрут на будущее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Дальнейшая работа над международными рекомендациями по сбору и согласованию данных</a:t>
            </a: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Своевременная разработка  статистики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Распространение данных и международная координация усилий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Отражение перемен в природе и миграции</a:t>
            </a: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 улучшение данных/ статистики по ( в том числе):</a:t>
            </a: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ременной миграци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елегальной миграци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торговле людьм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енежных переводах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Продолжение наращивания потенциала в области методологии сбора и управления данными по миграции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Источники данных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ациональные источни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Международные источни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Национальные системы сбора данных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ереписи населения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егистры населения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егистры иностранцев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ограничная статистик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татистика видов на жительство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татистика разрешений на работу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Переписи населения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447920"/>
            <a:ext cx="7772400" cy="182880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Место (страна) рождения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Страна гражданской принадлежности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Год и месяц (первого) прибытия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505320"/>
            <a:ext cx="7772400" cy="31240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99"/>
                </a:solidFill>
                <a:latin typeface="Arial"/>
              </a:rPr>
              <a:t>Кроме того</a:t>
            </a:r>
            <a:r>
              <a:rPr b="0" i="1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Место жительства </a:t>
            </a:r>
            <a:r>
              <a:rPr b="0" i="1" lang="en-GB" sz="3000" spc="-1" strike="noStrike">
                <a:solidFill>
                  <a:srgbClr val="ffff99"/>
                </a:solidFill>
                <a:latin typeface="Arial"/>
              </a:rPr>
              <a:t>n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лет назад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99"/>
                </a:solidFill>
                <a:latin typeface="Arial"/>
              </a:rPr>
              <a:t>Или</a:t>
            </a:r>
            <a:r>
              <a:rPr b="0" i="1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Место предыдущего жительства и 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Год (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+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месяц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рибытия в нынешнее место жительства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Переписи населения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447920"/>
            <a:ext cx="83822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Численность мигрантов, проживающих  в стране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 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чистые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отоки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опоставимость международных данных зависит от вида наблюдения (охвата) и вида задаваемых вопросов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еимущества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хватывает почти все (легальное) население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также небольшие группы мигрантов;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учитывает региональную/ местную информацию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Многообразие дополнительных данных, касающихся характеристик  (населения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едостатки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анные собираются редко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тсутствуют достоверные данные по эмиграции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мигранты могут быть представлены недостаточно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Регистры населения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447920"/>
            <a:ext cx="8610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епрерывная запись (регистрация) изменений, происходящих в населении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Число мигрантов в стране, потоки прибывающих, потоки выбывающих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адежность данных зависит от согласия населения регистрироваться (сниматься с учета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едооценка эмиграции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Значительное разнообразие правил регистрации (снятия с учета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собенно - предполагаемый период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ебывания, охват лиц, ищущих убежища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лияет на сопоставимость данных между странами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Тем не менее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регистр является одним из лучших источников данных о потоках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собенно- о потоках долгосрочных мигрантов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(&gt; 1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года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Данные доступны (имеются) на  любой момент времени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Регистры населения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600200"/>
            <a:ext cx="85122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тносительно немного дополнительных характеристик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например, данные о причине (основании для)  въезда в страну, как правило, не доступны (отсутствуют)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но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имеется тенденция связывать данные из разных источников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занятость, образование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траны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немногие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преимущественно в Западной Европе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user</cp:lastModifiedBy>
  <cp:lastPrinted>2004-02-25T07:11:58Z</cp:lastPrinted>
  <dcterms:modified xsi:type="dcterms:W3CDTF">2005-04-27T11:03:41Z</dcterms:modified>
  <cp:revision>391</cp:revision>
  <dc:subject>BuZa werkconferentie 25-02-2004</dc:subject>
  <dc:title>OS en migratie</dc:title>
</cp:coreProperties>
</file>