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22E2-9BFF-4DAA-B776-B18C5D43697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61A3-1218-4B76-939E-AD948A918E5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06D-1A3A-4994-BBDB-9E1AA56A707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F33-F1B7-465D-9CEA-64872D8AF8C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076-9570-4DD3-A314-E91F1F3FBCD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A31-C24C-4771-840D-DEE7D8C9E8A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5AB-6B2B-42FD-99DC-040B4138CBE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3C6-99FF-4806-87B3-84BF83C6569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03B-128F-4A1C-B555-79AD8CF2244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10A3-A26C-4530-A768-5367AEFA66F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75D6-5ABC-4C7E-953F-E854698627C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107-9901-4C5F-8C37-FB1953E77EF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726-1231-4242-A857-7259021EEA8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1ACD-1BEF-4E17-9003-9D918E821E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A2F-7DDB-4F9A-98D4-6C8B8AE2F61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94B4-EBAA-4F13-8F1C-4F6BDE1BC9F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832-3FB3-4ADA-974C-1D0678D813E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59A-F4D2-46C2-A547-B88E8CF788F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2DF7-80DC-4182-8503-3BBAADA5DBF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74B-FD5F-40A3-B12D-FF46F84FC7A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302-43A7-429C-95B2-EFEF1568A28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FF55-E30A-4182-A602-E801392A3E5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0FE-0690-4B0A-BE1A-0B96858AD7F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1C8-7FDD-446C-8EB3-42DE97C64D8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1D4-9D62-427C-9D36-7499E4F5805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573-6014-4930-850B-C6B0E16BA13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83F-2810-4205-9062-1B3A349DFA3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8DA-EA44-42FE-90BD-0017B557F31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353-3525-4BAD-AC35-DBB5FEBCD8A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237-F017-4B07-86BA-CBDD5C2F692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6C2-CFDC-48FC-81E5-A74252BA0BF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401-7C8F-4D77-B788-ECBE75E348F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92FC-50D4-49DF-95C6-805C4AAA21E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493-3155-4FB7-A582-0FB5B4F3882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5F7D-6E9D-42ED-BC96-8B22F75154A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B76-1143-42B5-8239-194E263BD18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CA3-F1AA-44E0-A803-0202EB0EBE7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D71-C6D4-460B-8A87-B2909BA2A3B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920-28DA-4580-98C4-6F78D39733C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nidilogt1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DATA SOURCES ON INTERNATIONAL MIGRATION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Jeannette Schoorl, NID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Registers of foreign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uch like population registers but only for (legal) foreign reside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idence status / reason for admiss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 of permits (therefore also short-term migration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itizenship, etc.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imited publication (strict privacy rules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untries: a.o. German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523880"/>
            <a:ext cx="7848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xamples: labour force surveys, housing surveys, conditions-of-life survey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asic requirement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arge sample size (and/or over-sampling of migrant population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izeable immigrant popula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f relevant: interviewing in other languag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ypes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gular single-round survey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anels (same individuals interviewed in multiple rounds)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5238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eneral household survey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imited usefulness for the study of international migration/migrant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mall samp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isk of under-represent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aptures only the post-migration situ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erious limitations to produce estimates of flows and stocks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Household survey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pecial migration/migrant survey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etailed and targeted information on migrant populations and migration process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mplicated sampling and design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ay lack comparability with native population group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ongitudinal Survey of Immigrants to Australia;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IMA, 1994 -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urvey on the push and pull factors of international migration (1997-1998), in sending and receiving countries (NIDI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752480"/>
            <a:ext cx="8076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collection at points of entry and/or departure, of all travellers or of (specific groups of) foreigners onl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99"/>
                </a:solidFill>
                <a:latin typeface="Arial"/>
              </a:rPr>
              <a:t>sometimes carried out as a survey (UK)</a:t>
            </a:r>
            <a:endParaRPr b="0" lang="en-US" sz="23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99"/>
                </a:solidFill>
                <a:latin typeface="Arial"/>
              </a:rPr>
              <a:t>advanced system in Australia, with pre-border checks</a:t>
            </a:r>
            <a:endParaRPr b="0" lang="en-US" sz="23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-flows; sometimes also out-flow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ype of data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ased on documents (passports, visa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orms filled in by cross-border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untries: man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6002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flection of actual moves (but not: people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omplexity of (vast) data collection and process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very few migrants among millions of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imited reliability of forms from travell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urpose: administrative &amp; security; limited statistic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Border data col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liability influenced by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to which the country is a destination for irregular migra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ccessibility of the country: ease with which official border points can be bypass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to which own citizens are reluctant to provide border inform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whether or not a legal framework for the production of statistics from border data exis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gree of formal control of the information provided by the travell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Residence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523880"/>
            <a:ext cx="8610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ub-set of foreign citizens who are required to apply for such a permi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reflect administrative procedures rather than peo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sually only data on in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 meaningful interpretation of permit statistics it is necessary to have information on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new permits versus permit renewal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untries: many (e.g., USA, Australia, Canada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ork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ub-set of foreign workers who are subject to such a permit (often application is by employer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reflect administrative administrative cases rather than people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-flows; with sufficient data also stock estimat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ata based on documentary eviden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undocumented workers exclud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limited international comparabil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untries: man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ork permi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interpret statistics, need information on: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irst permits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new arrival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o foreigners already in the countr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change of status (e.g., tourists, students, dependants, undocumented workers)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newals of permit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uration of valid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Why do we need migration statistics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Knowledge-based policy making and plann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ntro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ssistance and suppor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immigra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 expatriate citize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licy evalu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formation for the public deb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irregular migration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llegal migrant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llegal ent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overstaying visa / permi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lapsed into irregularity after previous regularis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legal residence but illegal work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formation on irregular migration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pecialised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ularisation amnes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fused entries / border apprehens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xpulsion statistic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on refugees and asylum seek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General statistic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seekers usually not included in migration statistics, but differences between countries and over time (population register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times counted upon and by status granted (instead of by time of arrival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metimes minor dependants not included separat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on refugees and asylum seek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pecialised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ylum applications and decis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fugee resettlement schem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on assistance provided, etc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different practic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ny countries produce no migration stat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 statistics more widely available (censu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low statistics least (population registers, border statistics, residence permits)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migration may be estimated using immigration data available from countries of destin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Coverage and comparability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mparability problems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national - between same type of sour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ational - between data source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verage problems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rregular / illegal migration mostly not included in the data source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room for improve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nventory of data sourc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hich data sources (purpos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verage (which group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cepts and definitions u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hat information (variables) includ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mat of data ba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: room for improve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xploitation of available data sourc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ing more detailed tabul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roducing statistics from administrative sources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ollaboration between administrators and statisticians; different departmen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dapting legal framework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dding to or revising forms to improve or enable the production of meaningful statisti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Data sharing &amp; integration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apacity building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A “Generic model” for the collection, application and sharing of migration dat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OM, OSCE, Danish Immigration Service &amp; IGC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an be applied irrespective of a country’s sophistication in migration data manag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For any type of migration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im: timely, consistent and objective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09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DATA SOURCES ON INTERNATIONAL MIGRA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NDAY January 2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ssion 4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ffff66"/>
                </a:solidFill>
                <a:uFillTx/>
                <a:latin typeface="Arial"/>
              </a:rPr>
              <a:t>What sort of data are needed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licy-driven research questions --&gt; type of data neede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imple’ statistics on numbers of ‘migrants’ or ‘foreigners’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ore detailed statistics, e.g. for specific groups (refugees, trafficked women, highly skilled workers, characteristics of returnees, expected future number of school-age children, unemployment among dependants, etc.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Varied type of statistics: on people, but also on e.g. remittances and their development potential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A “Generic model” for the collection, application and sharing of migration dat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in element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tablishing a national network of core institu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ventory of existing data sourc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dentifying national demand for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roperly documenting the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tablishing a data sharing mechanism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dissem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stly based on national data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a selection of nationally available  data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fforts to improve quality, documentation, and comparabi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research and capacity building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United Nation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Population Divi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global stock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tistical Divi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commendations on stock and flow data collec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HC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sylum seeker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ional Commissions (UNECE, CELAC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UNFP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uropean Commission / Eurostat / DG JF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low and stock statistics; citizenship acquisition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ew Cronos data base (MIGRA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harmonisation effort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monitoring of migration trends (CIREFI) and asylum applications and decisions (CIREA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policy development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gional focus: EU plus bordering countrie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European Commission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uropean Migration Information Network (EMI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virtual observatory UK/UC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uropean Migration Network (EM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ational contact points that will collect information (statistics, legislation, trends and patterns, research) that is to be shared via a web-based syste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erlin Institute for Comparative Social Research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MISCOE (International Migration, Integration and Social Cohesion in Europ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search ‘network of excellence’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OM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ata collected in IOM programme activities (e.g., voluntary return, trafficking, repatriatio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OECD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OPEMI system: country reports on migration trends and issues (mostly industrial countries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ILO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atistics and other data on migrant workers (e.g. rights, discrimination, exploitation, legislatio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ternational Labour Migration Data Base (ILM)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uncil of Europe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statistics; integration; human righ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gional focus: member states plus some oth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World Bank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.o. remitt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ink tanks, e.g.,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gration Policy Institu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Migration Information Source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governmental Consultations on asylum, refugee and migration policies (IGC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Inter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The way forward: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rther work on international recommendations for data collection and harmonisation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Timely production of statistics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Data sharing and international co-ordin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Reflecting the changing nature of migration: improvement of data / statistics on e.g.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temporary migr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rregular migr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trafficking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remittanc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Further capacity building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Data sourc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Nation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ternation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National data collection system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pulation censu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opulation regist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gisters of foreign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order statistic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sidence permits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ork permi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census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447920"/>
            <a:ext cx="7772400" cy="18288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(country) of birth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Country of citizenship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Year &amp; month of (first) arrival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505320"/>
            <a:ext cx="7772400" cy="31240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Plus: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of residence </a:t>
            </a:r>
            <a:r>
              <a:rPr b="0" i="1" lang="en-GB" sz="30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years ago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99"/>
                </a:solidFill>
                <a:latin typeface="Arial"/>
              </a:rPr>
              <a:t>Or: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Place of previous residence, and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Year (+ month) of arrival in current place of residence)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census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47920"/>
            <a:ext cx="8382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s, (net) 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rnational comparability depends on type of coverage and type of questions includ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covers approx. total (legal) population, also small immigrant groups; allows for regional / local info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wealth of additional data on characteristics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infrequent data collec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no reliable data on emigration 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some under-representation of migrants likel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regist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tinuous recording of population chan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tocks, in-flows, out-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Reliability depends on compliance to (de)regist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underestimation of emigration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nsiderable variation in rules for (de)registra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[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sp. intended length of stay; coverage of asylum seekers]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affects comparability between countri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evertheless: one of the best sources for flow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especially long-term flows (&gt; 1 year)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often timely availability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 u="sng">
                <a:solidFill>
                  <a:srgbClr val="ffff66"/>
                </a:solidFill>
                <a:uFillTx/>
                <a:latin typeface="Arial"/>
              </a:rPr>
              <a:t>Population regist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ively few additional characteristic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e.g. reason for admission usually not available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but: trend to link data from different sources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mployment, educ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untries: few, mostly in Western Europ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Oyunjargal</cp:lastModifiedBy>
  <cp:lastPrinted>2004-02-25T07:11:58Z</cp:lastPrinted>
  <dcterms:modified xsi:type="dcterms:W3CDTF">2005-05-09T12:36:35Z</dcterms:modified>
  <cp:revision>360</cp:revision>
  <dc:subject>BuZa werkconferentie 25-02-2004</dc:subject>
  <dc:title>OS en migratie</dc:title>
</cp:coreProperties>
</file>