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2EF9-F617-4960-BD4F-D97A5CF71C7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234A-3F51-4421-B612-2DC99C80B68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7BE4-0543-4924-8E36-ACCF8D4ABB3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4E13-37EA-48D4-9114-00FCABD7AE9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00A4-3789-4315-B3FC-2E6F31B4F2F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36E5-A50D-496B-BAA9-739E441D2B6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C262-455A-4935-9412-C4C79B1073B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5010-FD8E-4756-B9A2-97B037996B0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E73F-A795-45F6-9B45-F799C25FA7C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0CC6-D82F-4FCE-B749-6D7B022C389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D77D-20ED-497F-9049-BBF782CDBA7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D7EB-0E44-43FC-94B1-34BA4752998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7951-72AA-413B-902E-B331F44E2A9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06A3-04F8-4CC9-8854-22022ABDE2E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1114-B685-4B6A-B20A-0BDECFA0E57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0995-D76B-483F-A3A7-E518BD695C8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99D4-606A-4B4A-8150-B777F81EAD4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DD3F-3AEA-4226-AD16-78E0D3C2A11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1D76-EC31-4E0D-A7DF-A9EA25B59E7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8D8A-8C4F-4CAB-B2C1-C551A8A6050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B912-AAD1-4613-86FB-6F013007C04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D4F9-D8D2-487E-8F37-B27953E48FE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B7F2-307F-441A-A65F-B87750D57FD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D3C7-A8B2-4869-8788-B0CEDA89E4F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F6A3-554B-43DA-85FC-50B25FE3493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A034-EDCE-4790-9918-B9D7F53B657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6CFC-345F-4997-A8CA-188C8AB07BC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36F7-660E-47B0-B391-2B7A9F031E1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B79D-3E7F-43E7-BE04-EBB03556FB6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7DEB-AF15-4FA7-BBFC-A0CF945035F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C566-3A58-4973-8366-4F8261DFE27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2CB2-113E-4FD3-9B35-75FAAB2385B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ADCD-B1FB-430A-993E-0EBCC801D18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10E9-9A86-48A5-8802-531C563989C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863A-792E-4F35-B55E-04C54F95F3C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437A-D3A3-49A4-8E48-539CF59DBF9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9CD6-B02C-4FB2-9134-EF4CF75A6B4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479E-FB12-4A84-99FC-E9D4FC5E6C2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265C-978E-4CE0-8DE4-328F3B94568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nidilogt1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DATA SOURCES ON INTERNATIONAL MIGRATION</a:t>
            </a: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Jeannette Schoorl, NIDI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082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MONDAY January 2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ssion 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Registers of foreigner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523880"/>
            <a:ext cx="83822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uch like population registers but only for (legal) foreign resident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ata on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sidence status / reason for admission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uration of validity of permits (therefore also short-term migration)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itizenship, etc.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Limited publication (strict privacy rules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untries: a.o. German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Household survey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523880"/>
            <a:ext cx="7848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xamples: labour force surveys, housing surveys, conditions-of-life survey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Basic requirements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large sample size (and/or over-sampling of migrant population)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izeable immigrant population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f relevant: interviewing in other language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ypes: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gular single-round survey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anels (same individuals interviewed in multiple rounds)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Household survey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52388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General household surveys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limited usefulness for the study of international migration/migrant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mall sampl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risk of under-represent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captures only the post-migration situ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erious limitations to produce estimates of flows and stocks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Household survey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6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pecial migration/migrant surveys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etailed and targeted information on migrant populations and migration processe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omplicated sampling and design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may lack comparability with native population group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Longitudinal Survey of Immigrants to Australia;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IMA, 1994 -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urvey on the push and pull factors of international migration (1997-1998), in sending and receiving countries (NIDI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Border data collec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752480"/>
            <a:ext cx="8076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ata collection at points of entry and/or departure, of all travellers or of (specific groups of) foreigners onl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99"/>
                </a:solidFill>
                <a:latin typeface="Arial"/>
              </a:rPr>
              <a:t>sometimes carried out as a survey (UK)</a:t>
            </a:r>
            <a:endParaRPr b="0" lang="en-US" sz="23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99"/>
                </a:solidFill>
                <a:latin typeface="Arial"/>
              </a:rPr>
              <a:t>advanced system in Australia, with pre-border checks</a:t>
            </a:r>
            <a:endParaRPr b="0" lang="en-US" sz="23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n-flows; sometimes also out-flow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Type of data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based on documents (passports, visas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forms filled in by cross-border traveller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ountries: man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Border data collec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60020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Reflection of actual moves (but not: people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complexity of (vast) data collection and process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very few migrants among millions of traveller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limited reliability of forms from traveller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purpose: administrative &amp; security; limited statistics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Border data collec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liability influenced by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egree to which the country is a destination for irregular migran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ccessibility of the country: ease with which official border points can be bypassed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egree to which own citizens are reluctant to provide border inform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whether or not a legal framework for the production of statistics from border data exis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egree of formal control of the information provided by the travelle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Residence permit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523880"/>
            <a:ext cx="86108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ub-set of foreign citizens who are required to apply for such a permi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ata reflect administrative procedures rather than peopl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sually only data on inflow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or meaningful interpretation of permit statistics it is necessary to have information on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new permits versus permit renewal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uration of validit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untries: many (e.g., USA, Australia, Canada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Work permit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ub-set of foreign workers who are subject to such a permit (often application is by employer)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ata reflect administrative administrative cases rather than people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n-flows; with sufficient data also stock estimate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Advantages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ata based on documentary evidenc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undocumented workers excluded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limited international comparabilit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ountries: man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4267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Work permit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6765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o interpret statistics, need information on: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first permits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o new arrival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o foreigners already in the countr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change of status (e.g., tourists, students, dependants, undocumented workers)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newals of permit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uration of validit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Why do we need migration statistics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Knowledge-based policy making and plann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ontro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assistance and suppor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o immigra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o expatriate citize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olicy evalu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nformation for the public debat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formation on irregular migration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llegal migrant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llegal entr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overstaying visa / permi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lapsed into irregularity after previous regularis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legal residence but illegal work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formation on irregular migration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pecialised data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gularisation amnest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fused entries / border apprehens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xpulsion statistics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Data on refugees and asylum seeker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General statistical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sylum seekers usually not included in migration statistics, but differences between countries and over time (population registers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metimes counted upon and by status granted (instead of by time of arrival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metimes minor dependants not included separatel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Data on refugees and asylum seeker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pecialised data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sylum applications and decis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fugee resettlement schem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ata on assistance provided, etc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National data collection: different practic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any countries produce no migration statistic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ock statistics more widely available (census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low statistics least (population registers, border statistics, residence permits)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migration may be estimated using immigration data available from countries of destin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Coverage and comparability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omparability problems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nternational - between same type of sourc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national - between data sources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overage problems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rregular / illegal migration mostly not included in the data source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National data collection: room for improvemen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Inventory of data source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which data sources (purpos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verage (which groups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cepts and definitions us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what information (variables) includ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ormat of data bas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National data collection: room for improvemen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Exploitation of available data source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roducing more detailed tabula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roducing statistics from administrative sources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ollaboration between administrators and statisticians; different departmen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adapting legal framework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dding to or revising forms to improve or enable the production of meaningful statistic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Data sharing &amp; integration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apacity building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A “Generic model” for the collection, application and sharing of migration data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OM, OSCE, Danish Immigration Service &amp; IGC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an be applied irrespective of a country’s sophistication in migration data managem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or any type of migration da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im: timely, consistent and objective da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093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DATA SOURCES ON INTERNATIONAL MIGRA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082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MONDAY January 2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ssion 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 u="sng">
                <a:solidFill>
                  <a:srgbClr val="ffff66"/>
                </a:solidFill>
                <a:uFillTx/>
                <a:latin typeface="Arial"/>
              </a:rPr>
              <a:t>What sort of data are needed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olicy-driven research questions --&gt; type of data needed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‘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imple’ statistics on numbers of ‘migrants’ or ‘foreigners’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More detailed statistics, e.g. for specific groups (refugees, trafficked women, highly skilled workers, characteristics of returnees, expected future number of school-age children, unemployment among dependants, etc.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Varied type of statistics: on people, but also on e.g. remittances and their development potential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A “Generic model” for the collection, application and sharing of migration data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ain element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stablishing a national network of core institution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nventory of existing data sourc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dentifying national demand for data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roperly documenting the data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stablishing a data sharing mechanism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ata dissemina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apacity building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Mostly based on national data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a selection of nationally available  data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Efforts to improve quality, documentation, and comparabilit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research and capacity building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United Nation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opulation Divi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085760" indent="-21708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global stock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085760" indent="-21708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olici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atistical Divi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085760" indent="-21708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commendations on stock and flow data collec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NHC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085760" indent="-21708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asylum seeker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gional Commissions (UNECE, CELAC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NFP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European Commission / Eurostat / DG JF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flow and stock statistics; citizenship acquisition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New Cronos data base (MIGRAT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harmonisation effor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monitoring of migration trends (CIREFI) and asylum applications and decisions (CIREA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olicy development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apacity building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gional focus: EU plus bordering countri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European Commission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uropean Migration Information Network (EMI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virtual observatory UK/UC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uropean Migration Network (EM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national contact points that will collect information (statistics, legislation, trends and patterns, research) that is to be shared via a web-based system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Berlin Institute for Comparative Social Research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MISCOE (International Migration, Integration and Social Cohesion in Europ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search ‘network of excellence’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IOM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ata collected in IOM programme activities (e.g., voluntary return, trafficking, repatriatio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OECD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PEMI system: country reports on migration trends and issues (mostly industrial countries)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ILO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atistics and other data on migrant workers (e.g. rights, discrimination, exploitation, legislatio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nternational Labour Migration Data Base (ILM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ouncil of Europe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igration statistics; integration; human righ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gional focus: member states plus some oth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World Bank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.o. remittan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think tanks, e.g., 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igration Policy Institut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Migration Information Source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ntergovernmental Consultations on asylum, refugee and migration policies (IGC)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The way forward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Further work on international recommendations for data collection and harmonisation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Timely production of statistic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ata sharing and international co-ordina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flecting the changing nature of migration: improvement of data / statistics on e.g.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temporary migration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irregular migration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trafficking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remittances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Further capacity building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Data sourc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National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nternational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opulation census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opulation regist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gisters of foreign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Border statistic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sidence permits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Work permi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Population census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447920"/>
            <a:ext cx="7772400" cy="18288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Place (country) of birth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ountry of citizenship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Year &amp; month of (first) arrival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505320"/>
            <a:ext cx="7772400" cy="31240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99"/>
                </a:solidFill>
                <a:latin typeface="Arial"/>
              </a:rPr>
              <a:t>Plus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Place of residence </a:t>
            </a:r>
            <a:r>
              <a:rPr b="0" i="1" lang="en-GB" sz="30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years ago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99"/>
                </a:solidFill>
                <a:latin typeface="Arial"/>
              </a:rPr>
              <a:t>Or: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Place of previous residence, and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Year (+ month) of arrival in current place of residence)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Population census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447920"/>
            <a:ext cx="83822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ocks, (net) flow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nternational comparability depends on type of coverage and type of questions include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covers approx. total (legal) population, also small immigrant groups; allows for regional / local info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wealth of additional data on characteristics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infrequent data collection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no reliable data on emigration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some under-representation of migrants likel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Population register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47920"/>
            <a:ext cx="8610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tinuous recording of population chang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ocks, in-flows, out-flow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liability depends on compliance to (de)register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underestimation of emigration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siderable variation in rules for (de)registratio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[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sp. intended length of stay; coverage of asylum seekers]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affects comparability between countrie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Nevertheless: one of the best sources for flow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specially long-term flows (&gt; 1 year)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often timely availabilit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Population register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60020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latively few additional characteristic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e.g. reason for admission usually not available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but: trend to link data from different source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mployment, educ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untries: few, mostly in Western Europ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Oyunjargal</cp:lastModifiedBy>
  <cp:lastPrinted>2004-02-25T07:11:58Z</cp:lastPrinted>
  <dcterms:modified xsi:type="dcterms:W3CDTF">2005-05-09T12:36:35Z</dcterms:modified>
  <cp:revision>360</cp:revision>
  <dc:subject>BuZa werkconferentie 25-02-2004</dc:subject>
  <dc:title>OS en migratie</dc:title>
</cp:coreProperties>
</file>