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6641-8DEE-4F25-9486-E6C03C32A14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C776-A2AE-4309-8275-2198F55D0C7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0056-78D8-47F7-B93E-8F2E821F940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F54E-8E3B-4D51-8445-CC2BF8A1B06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7382-FDDC-454C-8DD0-04EEEA126BC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62A8-F19C-4A13-9375-F9FE9A9FA9C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E44B-DD50-4A33-81CA-8FD878B102A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62C8-1CD5-40F6-8CBF-64702BEA6C5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74284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КЛАССИФИКАЦИИ МИГРАЦИИ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ПРИМЕР ТРУДОВЫХ МИГРАНТОВ</a:t>
            </a:r>
            <a:br>
              <a:rPr sz="3600"/>
            </a:br>
            <a:br>
              <a:rPr sz="3600"/>
            </a:br>
            <a:r>
              <a:rPr b="0" i="1" lang="ru-RU" sz="2000" spc="-1" strike="noStrike">
                <a:solidFill>
                  <a:srgbClr val="ffff66"/>
                </a:solidFill>
                <a:latin typeface="Arial"/>
              </a:rPr>
              <a:t>Жанет Скурл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, NIDI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0825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недельник, 24 января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24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седание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3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Концепции, определения, классификации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Классификации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: </a:t>
            </a: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различные категории мигрантов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В соответствии с  основанием для допуска в страну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абота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учеба/образовани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оссоединение семь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убежищ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 соответствии с индивидуальными причинами (причиной) переезда мигрант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игранты: нелегальные/ незаконные/без документо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ffff66"/>
                </a:solidFill>
                <a:uFillTx/>
                <a:latin typeface="Arial"/>
              </a:rPr>
              <a:t>Кто является трудовым мигрантом</a:t>
            </a:r>
            <a:r>
              <a:rPr b="0" i="1" lang="en-US" sz="3400" spc="-1" strike="noStrike" u="sng">
                <a:solidFill>
                  <a:srgbClr val="ffff66"/>
                </a:solidFill>
                <a:uFillTx/>
                <a:latin typeface="Arial"/>
              </a:rPr>
              <a:t>?</a:t>
            </a:r>
            <a:endParaRPr b="0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15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Неоднозначность понятия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Лицо, получившее  разрешение на въезд по конкретным причинам, связанным с работой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л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лицо рабочего возраста, совершающее переезд и впоследстви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пустя некоторое время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ыходящее на рынок рабочей сил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Дополнительные критерии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Уровень квалификации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лассификация на основе диплома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ли на основе фактического вида деятельности/работы?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ffff66"/>
                </a:solidFill>
                <a:uFillTx/>
                <a:latin typeface="Arial"/>
              </a:rPr>
              <a:t>Кто является трудовым мигрантом</a:t>
            </a:r>
            <a:r>
              <a:rPr b="0" i="1" lang="en-US" sz="3400" spc="-1" strike="noStrike" u="sng">
                <a:solidFill>
                  <a:srgbClr val="ffff66"/>
                </a:solidFill>
                <a:uFillTx/>
                <a:latin typeface="Arial"/>
              </a:rPr>
              <a:t>?</a:t>
            </a:r>
            <a:endParaRPr b="0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зменение категории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ждивенец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-&gt;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аботник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учащийся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-&gt;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упруг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-&gt;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аботник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аботник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-&gt;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упруг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В большинстве стран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гражданство, страна рождения, плюс критерий возраст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Категории трудовых мигрантов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676520"/>
            <a:ext cx="8496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Краткосрочные иностранные работник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(&lt; 1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года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езонные сельскохозяйственные  работник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езонные работники в гостиницах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роительные рабочи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рудовые турист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ысококвалифицированные «консультанты»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едпринимател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иглашенные учены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Долгосрочные 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(&gt; 1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года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о не постоянно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валифицированные работник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футболист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ностранные студент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екоторые из числа лиц,  ищущих убежищ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 т.д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Постоянные иммигранты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одившиеся за рубежом работники с правом постоянного проживания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одившиеся за рубежом дети,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ходящие в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рынок рабочей сил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ностранные студент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 т. д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Экономический факультет</cp:lastModifiedBy>
  <cp:lastPrinted>2004-02-25T07:11:58Z</cp:lastPrinted>
  <dcterms:modified xsi:type="dcterms:W3CDTF">2005-04-26T12:58:44Z</dcterms:modified>
  <cp:revision>302</cp:revision>
  <dc:subject>BuZa werkconferentie 25-02-2004</dc:subject>
  <dc:title>OS en migratie</dc:title>
</cp:coreProperties>
</file>