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F36-E5AF-4CA7-8A44-FC5AD12134E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C68-953C-4BC9-A790-FB8D077CE26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5C0-EA7E-4586-92B8-D3E0BB59683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8DCE-A72D-4A8F-92E6-34FE0DFE7C5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A77-9CB4-484D-817B-07641CACDBF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B37-9977-4B20-BA99-DA68AE578FD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B29B-F236-451B-8FD9-BD75316935E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328-F998-4512-B8BA-054074D01CB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КЛАССИФИКАЦИИ МИГРАЦИИ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ПРИМЕР ТРУДОВЫХ МИГРАНТОВ</a:t>
            </a: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ffff66"/>
                </a:solidFill>
                <a:latin typeface="Arial"/>
              </a:rPr>
              <a:t>Жанет Скурл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, NIDI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недельник, 24 января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3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Концепции, определения, классифик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Классификации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различные категории мигрантов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 соответствии с  основанием для допуска в страну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бот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чеба/образовани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оссоединение семь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бежищ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соответствии с индивидуальными причинами (причиной) переезда мигрант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игранты: нелегальные/ незаконные/без докуме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ffff66"/>
                </a:solidFill>
                <a:uFillTx/>
                <a:latin typeface="Arial"/>
              </a:rPr>
              <a:t>Кто является трудовым мигрантом</a:t>
            </a:r>
            <a:r>
              <a:rPr b="0" i="1" lang="en-US" sz="34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15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еоднозначность понят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ицо, получившее  разрешение на въезд по конкретным причинам, связанным с работой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л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ицо рабочего возраста, совершающее переезд и впоследств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пустя некоторое врем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ыходящее на рынок рабочей сил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Дополнительные критерии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ровень квалификации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лассификация на основе диплом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ли на основе фактического вида деятельности/работы?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ffff66"/>
                </a:solidFill>
                <a:uFillTx/>
                <a:latin typeface="Arial"/>
              </a:rPr>
              <a:t>Кто является трудовым мигрантом</a:t>
            </a:r>
            <a:r>
              <a:rPr b="0" i="1" lang="en-US" sz="34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зменение категории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ждивенец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ник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ащийся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упруг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ник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ник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упруг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 большинстве стран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гражданство, страна рождения, плюс критерий возраст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Категории трудовых мигранто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8496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Краткосрочные иностранные работник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&lt; 1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год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езонные сельскохозяйственные  работн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езонные работники в гостиницах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оительные рабоч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рудовые турист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ысококвалифицированные «консультанты»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едпринимател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глашенные учены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Долгосрочные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(&gt; 1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года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о не постоянно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валифицированные работн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утболист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остранные студент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которые из числа лиц,  ищущих убежищ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остоянные иммигранты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одившиеся за рубежом работники с правом постоянного прожива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одившиеся за рубежом дети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ходящие в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рынок рабочей сил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остранные студент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 т. д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Экономический факультет</cp:lastModifiedBy>
  <cp:lastPrinted>2004-02-25T07:11:58Z</cp:lastPrinted>
  <dcterms:modified xsi:type="dcterms:W3CDTF">2005-04-26T12:58:44Z</dcterms:modified>
  <cp:revision>302</cp:revision>
  <dc:subject>BuZa werkconferentie 25-02-2004</dc:subject>
  <dc:title>OS en migratie</dc:title>
</cp:coreProperties>
</file>