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936D-F165-474D-B0B9-FC389E112A0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0A25-3C91-4D6C-B6DE-4131627F1DF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BF88-5845-420E-9914-88C71676A1E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3B74-5269-4453-B4BD-CA022DCC132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A56D-ECB6-4171-87F9-4930B1709A3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6581-98F3-4BAB-9E50-555BA6FADCD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80C3-D9A5-48C7-8975-845EE8047D6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24AB-ADFD-45BE-9EC8-8F09FB8444B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nidilogt1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74284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ASSIFICATIONS OF MIGRATION: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THE CASE OF LABOUR MIGRANTS</a:t>
            </a: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Jeannette Schoorl, NIDI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082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MONDAY January 2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ssion 3: Concepts, definitions, classification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Classifications: different categories of migrant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ccording to reason for admiss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work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udy/educ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unification with family memb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sylum and refug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ccording to individual migrant’s reason(s) for mov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llegal/irregular/undocumented migra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What is a labour migrant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mbiguity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dmitted for specific work reason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Or: anyone who is of working age who moves and subsequently (at some time) enters the labour marke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dditional criteria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kill leve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lassify based on diploma’s?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or based on actual work/occupation?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What is a labour migrant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hange of category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dependant -&gt; work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tudent -&gt; spouse -&gt; work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worker -&gt; spous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n most countries: citizenship, country of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birth, plus age criter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Categories of labour migrant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99"/>
                </a:solidFill>
                <a:uFillTx/>
                <a:latin typeface="Arial"/>
              </a:rPr>
              <a:t>Short-term foreign workers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(&lt; 1 year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easonal agricultural work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easonal hotel work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struction work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labour touris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highly skilled ‘consultants’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ntertain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visiting schola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99"/>
                </a:solidFill>
                <a:uFillTx/>
                <a:latin typeface="Arial"/>
              </a:rPr>
              <a:t>Long-term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(&gt; 1 year, but not permanent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ccer play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overseas stud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me asylum seek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99"/>
                </a:solidFill>
                <a:uFillTx/>
                <a:latin typeface="Arial"/>
              </a:rPr>
              <a:t>Permanent immigran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oreign born workers with the right of permanent settlem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oreign born children entering the labour marke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overseas stud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Oyunjargal</cp:lastModifiedBy>
  <cp:lastPrinted>2004-02-25T07:11:58Z</cp:lastPrinted>
  <dcterms:modified xsi:type="dcterms:W3CDTF">2005-05-09T12:34:47Z</dcterms:modified>
  <cp:revision>295</cp:revision>
  <dc:subject>BuZa werkconferentie 25-02-2004</dc:subject>
  <dc:title>OS en migratie</dc:title>
</cp:coreProperties>
</file>