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3239-5CCB-49F5-BB9D-A2B74643BC4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CE5A-03E8-4576-B9AA-1B524FE1763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79C9-F8A1-432C-82D8-A1119B95669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E216-FE8A-48B7-95CF-F2167172E69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BE7-86B5-42E7-BC3D-A1723464E70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B27A-A50A-43D5-AC1A-F454070AAC2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81C-3487-43C5-98DB-E5D05F3ABF3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271-D45B-4495-BD33-53725F5E2C6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ASSIFICATIONS OF MIGRATION: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HE CASE OF LABOUR MIGRANTS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Jeannette Schoorl, NID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ONDAY January 2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3: Concepts, definitions, classification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Classifications: different categories of migrant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ccording to reason for admiss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work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udy/educ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unification with family memb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ylum and refug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ccording to individual migrant’s reason(s) for mov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llegal/irregular/undocumented migra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What is a labour migrant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mbiguity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dmitted for specific work reas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Or: anyone who is of working age who moves and subsequently (at some time) enters the labour marke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dditional criteria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kill leve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lassify based on diploma’s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or based on actual work/occupation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What is a labour migrant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hange of category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dependant -&gt; work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tudent -&gt; spouse -&gt; work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orker -&gt; spous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n most countries: citizenship, country of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birth, plus age criter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Categories of labour migran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99"/>
                </a:solidFill>
                <a:uFillTx/>
                <a:latin typeface="Arial"/>
              </a:rPr>
              <a:t>Short-term foreign workers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(&lt; 1 year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easonal agricultural work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easonal hotel wor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struction work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abour touri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ighly skilled ‘consultants’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ntertain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visiting schola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99"/>
                </a:solidFill>
                <a:uFillTx/>
                <a:latin typeface="Arial"/>
              </a:rPr>
              <a:t>Long-term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(&gt; 1 year, but not permanent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ccer play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overseas stud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me asylum seek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99"/>
                </a:solidFill>
                <a:uFillTx/>
                <a:latin typeface="Arial"/>
              </a:rPr>
              <a:t>Permanent immigra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eign born workers with the right of permanent settle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eign born children entering the labour marke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overseas stud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Oyunjargal</cp:lastModifiedBy>
  <cp:lastPrinted>2004-02-25T07:11:58Z</cp:lastPrinted>
  <dcterms:modified xsi:type="dcterms:W3CDTF">2005-05-09T12:34:47Z</dcterms:modified>
  <cp:revision>295</cp:revision>
  <dc:subject>BuZa werkconferentie 25-02-2004</dc:subject>
  <dc:title>OS en migratie</dc:title>
</cp:coreProperties>
</file>