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AE5-FA6A-4BA1-A18E-5390FC8B5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ubjective in two senses: for the researcher/statisticians and for the respo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87C6-531A-4AAE-ABB6-4DBA258B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8D6E-C7BA-4E57-8EAF-144EEED3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C107-B845-44D4-8468-27172852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BEDE-D589-4888-8CDC-BE0F05B8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FC1D-17CD-4D84-B8A7-B5FD1A1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FB25-E1CA-4BE4-B938-92C5CB43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1DF9-9787-48EE-8E51-C173F413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0C23-6BE9-46A5-BAE3-82FBA85D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2A21-B12E-4218-A052-A05BE5B3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7F3A-A231-4A9D-9B5B-06D35F6A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03B7-F928-42D2-836E-4327283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D3A7-A545-47C4-A49D-37CD6A50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B271-8524-4222-9754-80E248CB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0676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еждународная миграция</a:t>
            </a: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: </a:t>
            </a: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определения и существующие пр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рико Бизон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55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Демографическая перспект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гранты включены в баланс населения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+ B - D + I -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733920"/>
            <a:ext cx="129528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Демографическая перспектива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грант учитывается, когда он или она включается (входит) в состав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мигрант исключается, когда он или она выбывает из состава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Рекомендации ОО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ое треб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тоянное проживание в течение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да или бол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Два типа мигрантов</a:t>
            </a:r>
            <a:r>
              <a:rPr b="0" lang="fr-CH" sz="3600" spc="-1" strike="noStrike">
                <a:solidFill>
                  <a:srgbClr val="003399"/>
                </a:solidFill>
                <a:latin typeface="Arial"/>
              </a:rPr>
              <a:t> (1998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Реком. ООН</a:t>
            </a:r>
            <a:r>
              <a:rPr b="0" lang="fr-CH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срочные мигра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12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есяцев и более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ткосрочные мигр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т 3 до 12 месяцев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Примен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тистически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пределения и источники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пективы с точки зрения поли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Как обращаться с традиционными «типологиями»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’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ца, ищущие убеж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законные мигра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вращающиеся мигра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вращающиеся граждане своей 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текущие вопросы, касающиеся поток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данных об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ия в доступности (наличии) данных по гражданам страны и иностранцам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ные требования к определению предполагаемого периода пребы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Второй простой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о можно  считат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грантами, проживающими на территории Вашей стра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 Рекомендации ОО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е составляющие населения, которые представляют интере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581280"/>
            <a:ext cx="28954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остр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581280"/>
            <a:ext cx="3124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вш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 границ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Некоторые опреде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остранные 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иностранц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, проживающие в стране, гражданами которой они не 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дившиеся за гран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, проживающие в данной стране, но родившиеся в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План презента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ки миграции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я и под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 мигрантов, проживающих в стране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я, подходы, некоторые данные и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сени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примеры из практи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590920"/>
          <a:ext cx="6096240" cy="3611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ож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ая принадлеж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33520" y="1295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, применявшиеся в 18 странах Восточной Европы и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" y="2590920"/>
            <a:ext cx="281916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н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67200" y="2590920"/>
            <a:ext cx="5695920" cy="2134800"/>
            <a:chOff x="3067200" y="2590920"/>
            <a:chExt cx="5695920" cy="2134800"/>
          </a:xfrm>
        </p:grpSpPr>
        <p:grpSp>
          <p:nvGrpSpPr>
            <p:cNvPr id="110" name=""/>
            <p:cNvGrpSpPr/>
            <p:nvPr/>
          </p:nvGrpSpPr>
          <p:grpSpPr>
            <a:xfrm>
              <a:off x="3067200" y="2590920"/>
              <a:ext cx="5619600" cy="2057400"/>
              <a:chOff x="3067200" y="2590920"/>
              <a:chExt cx="5619600" cy="20574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38480" y="2590920"/>
                <a:ext cx="4648320" cy="20574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76560" y="31291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67200" y="36576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67200" y="4157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191120" y="2822400"/>
              <a:ext cx="457200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дившиеся за границ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дившиеся за границей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иммигранты»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Immigrés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дившиеся за границ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276640"/>
            <a:ext cx="27432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ерм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е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ейцар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59280" y="2349360"/>
            <a:ext cx="5638680" cy="2057400"/>
            <a:chOff x="3059280" y="2349360"/>
            <a:chExt cx="5638680" cy="2057400"/>
          </a:xfrm>
        </p:grpSpPr>
        <p:sp>
          <p:nvSpPr>
            <p:cNvPr id="119" name=""/>
            <p:cNvSpPr/>
            <p:nvPr/>
          </p:nvSpPr>
          <p:spPr>
            <a:xfrm>
              <a:off x="4049640" y="2349360"/>
              <a:ext cx="46483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родившие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 границ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8825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9280" y="33397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59280" y="38732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25909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her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67080" y="2514600"/>
            <a:ext cx="4408200" cy="2057400"/>
            <a:chOff x="4267080" y="2514600"/>
            <a:chExt cx="4408200" cy="2057400"/>
          </a:xfrm>
        </p:grpSpPr>
        <p:sp>
          <p:nvSpPr>
            <p:cNvPr id="126" name=""/>
            <p:cNvSpPr/>
            <p:nvPr/>
          </p:nvSpPr>
          <p:spPr>
            <a:xfrm>
              <a:off x="5569560" y="2514600"/>
              <a:ext cx="31057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‘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остранц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3581280"/>
              <a:ext cx="140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26920" y="2514600"/>
            <a:ext cx="35164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дерл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637000"/>
            <a:ext cx="36716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един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оле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кобрит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ев. Ирла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27640" y="2637000"/>
            <a:ext cx="4392000" cy="2086920"/>
            <a:chOff x="4427640" y="2637000"/>
            <a:chExt cx="4392000" cy="2086920"/>
          </a:xfrm>
        </p:grpSpPr>
        <p:sp>
          <p:nvSpPr>
            <p:cNvPr id="132" name=""/>
            <p:cNvSpPr/>
            <p:nvPr/>
          </p:nvSpPr>
          <p:spPr>
            <a:xfrm>
              <a:off x="5668560" y="2637000"/>
              <a:ext cx="3151080" cy="2086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ни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надлеж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640" y="3719520"/>
              <a:ext cx="13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У кого больше «иммигрантов»</a:t>
            </a:r>
            <a:br>
              <a:rPr sz="3800"/>
            </a:b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% в численности всего насе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7560" y="1371600"/>
            <a:ext cx="7703640" cy="4957920"/>
            <a:chOff x="727560" y="1371600"/>
            <a:chExt cx="7703640" cy="4957920"/>
          </a:xfrm>
        </p:grpSpPr>
        <p:graphicFrame>
          <p:nvGraphicFramePr>
            <p:cNvPr id="136" name=""/>
            <p:cNvGraphicFramePr/>
            <p:nvPr/>
          </p:nvGraphicFramePr>
          <p:xfrm>
            <a:off x="762120" y="1371600"/>
            <a:ext cx="7669080" cy="4794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371600"/>
                      <a:ext cx="7669080" cy="47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727560" y="6053040"/>
              <a:ext cx="43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Sources: 2000 Census Round, HH Surveys &amp; Pop. Regi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Страна рожд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396252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видность ми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кальность кри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изменность кри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ивность кри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84600" y="2590920"/>
            <a:ext cx="426744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быть учтены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граждане сво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произойти изменение гран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е поколение исключается из н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й не имеет отношения к  поли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082960"/>
            <a:ext cx="39625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2082960"/>
            <a:ext cx="426744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Гражданств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396216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ь с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ость крит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статистических источников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2502000"/>
            <a:ext cx="426708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аб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государственные рег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уникальности крит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198108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90800"/>
            <a:ext cx="396216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Этническая принадлеж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76720" cy="273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направленность на социальное  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 социальных групп и на долгосрочную перспект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505240"/>
            <a:ext cx="426708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ость критерия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поли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определя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5080" y="197640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989000"/>
            <a:ext cx="41767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 различных варианта выбора на «стык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ий (место рожд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дический (граждан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й (этническая принадлеж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Первый простой вопрос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является мигрантом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т, кто переезжает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унд переписей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г.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екоторые интересные индикаторы в регионе Европейской экономическ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640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а рождения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: 4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а гражданства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: 4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ническая принадлежность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унд переписей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г.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екоторые интересные индикаторы в регионе Европейской экономическ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 стра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вали дополнительные вопросы, касающиеся места рождения и/или гражданств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нное 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тво по рождению или в результате натур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ана рождени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Различные групп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71600" y="3962520"/>
            <a:ext cx="6248520" cy="1676160"/>
            <a:chOff x="1371600" y="3962520"/>
            <a:chExt cx="6248520" cy="1676160"/>
          </a:xfrm>
        </p:grpSpPr>
        <p:sp>
          <p:nvSpPr>
            <p:cNvPr id="163" name=""/>
            <p:cNvSpPr/>
            <p:nvPr/>
          </p:nvSpPr>
          <p:spPr>
            <a:xfrm>
              <a:off x="1371600" y="3962520"/>
              <a:ext cx="6248520" cy="1676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2600" y="51055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-е поко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371600" y="2209680"/>
            <a:ext cx="6400800" cy="1676520"/>
            <a:chOff x="1371600" y="2209680"/>
            <a:chExt cx="6400800" cy="1676520"/>
          </a:xfrm>
        </p:grpSpPr>
        <p:sp>
          <p:nvSpPr>
            <p:cNvPr id="166" name=""/>
            <p:cNvSpPr/>
            <p:nvPr/>
          </p:nvSpPr>
          <p:spPr>
            <a:xfrm>
              <a:off x="1371600" y="2209680"/>
              <a:ext cx="6248520" cy="1676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38680" y="2286000"/>
              <a:ext cx="21337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дившиеся за границей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1-е поколе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2666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2209680"/>
            <a:ext cx="2819160" cy="3429000"/>
            <a:chOff x="3048120" y="2209680"/>
            <a:chExt cx="2819160" cy="3429000"/>
          </a:xfrm>
        </p:grpSpPr>
        <p:grpSp>
          <p:nvGrpSpPr>
            <p:cNvPr id="170" name=""/>
            <p:cNvGrpSpPr/>
            <p:nvPr/>
          </p:nvGrpSpPr>
          <p:grpSpPr>
            <a:xfrm>
              <a:off x="3048120" y="2209680"/>
              <a:ext cx="2819160" cy="3429000"/>
              <a:chOff x="3048120" y="2209680"/>
              <a:chExt cx="2819160" cy="34290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48120" y="2209680"/>
                <a:ext cx="2743200" cy="3429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8120" y="396252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388620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004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724280"/>
            <a:ext cx="9144000" cy="76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373720"/>
            <a:ext cx="9144000" cy="9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41360"/>
            <a:ext cx="9144000" cy="792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3141720"/>
            <a:ext cx="9143640" cy="1520640"/>
            <a:chOff x="0" y="3141720"/>
            <a:chExt cx="9143640" cy="1520640"/>
          </a:xfrm>
        </p:grpSpPr>
        <p:sp>
          <p:nvSpPr>
            <p:cNvPr id="179" name=""/>
            <p:cNvSpPr/>
            <p:nvPr/>
          </p:nvSpPr>
          <p:spPr>
            <a:xfrm>
              <a:off x="0" y="3898800"/>
              <a:ext cx="9143640" cy="76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3141720"/>
              <a:ext cx="9143640" cy="76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2205000"/>
            <a:ext cx="9144000" cy="863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Возможная классификация всего насе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13372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оре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ас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(natives)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2205000"/>
            <a:ext cx="3200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основно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тране прожи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за гран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840" y="342432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-е поко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иммигр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4920" y="155736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5280" y="1484280"/>
            <a:ext cx="215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88000" y="162864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2205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220500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о рождени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068640"/>
            <a:ext cx="2771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езультате натурал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3429000"/>
            <a:ext cx="16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гран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160" y="335772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9640" y="414972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4732200"/>
            <a:ext cx="277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рожд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и в резуль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турализ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46640" y="580536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51577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5440" y="486900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360" y="5086440"/>
            <a:ext cx="327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2-е поко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иммигр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ммигрантское происхождение : преимущества крит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ные ра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и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r>
              <a:rPr b="0" lang="fr-CH" sz="3800" spc="-1" strike="noStrike">
                <a:solidFill>
                  <a:srgbClr val="333399"/>
                </a:solidFill>
                <a:latin typeface="Arial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нт лиц, имеющих иммигрантское происхождение по сравнению с процентом лиц, считающихся иммигрантами по определению, принятому в соответствующих стра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2060640"/>
          <a:ext cx="845964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4596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r>
              <a:rPr b="0" lang="fr-CH" sz="3800" spc="-1" strike="noStrike">
                <a:solidFill>
                  <a:srgbClr val="333399"/>
                </a:solidFill>
                <a:latin typeface="Arial"/>
              </a:rPr>
              <a:t>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лиц, имеющих иммигрантское происхождение, по сравнению с процентом иностран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2565360"/>
          <a:ext cx="748980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98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Сравнения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294920"/>
            <a:ext cx="8208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цев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исле лиц, имеющих иммигрантское происх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9640" y="2276640"/>
          <a:ext cx="81360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81360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выводы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16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мена ме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4038480"/>
            <a:ext cx="2895480" cy="191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сло мигра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ходя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а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4038480"/>
            <a:ext cx="4647600" cy="1911600"/>
            <a:chOff x="3657600" y="4038480"/>
            <a:chExt cx="4647600" cy="1911600"/>
          </a:xfrm>
        </p:grpSpPr>
        <p:sp>
          <p:nvSpPr>
            <p:cNvPr id="220" name=""/>
            <p:cNvSpPr/>
            <p:nvPr/>
          </p:nvSpPr>
          <p:spPr>
            <a:xfrm>
              <a:off x="5030640" y="4038480"/>
              <a:ext cx="3274560" cy="191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ивидуальны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арактерист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502956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выводы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25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аланс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62120" y="4038480"/>
            <a:ext cx="289548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мигра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я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038480"/>
            <a:ext cx="4647600" cy="1524240"/>
            <a:chOff x="3657600" y="4038480"/>
            <a:chExt cx="4647600" cy="1524240"/>
          </a:xfrm>
        </p:grpSpPr>
        <p:sp>
          <p:nvSpPr>
            <p:cNvPr id="229" name=""/>
            <p:cNvSpPr/>
            <p:nvPr/>
          </p:nvSpPr>
          <p:spPr>
            <a:xfrm>
              <a:off x="5030640" y="4038480"/>
              <a:ext cx="327456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ножеств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рите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7600" y="482868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Три возможных критери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характери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преб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ок преб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выводы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048120"/>
            <a:ext cx="289548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мигра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жив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33560" y="40384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ндивидуальные характеристики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остран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пломатические рабо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еннослужащие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дившиеся за границ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)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Цель пребы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беж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соединение се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сти / тур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 д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)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Срок пребы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я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я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Комбинированный подход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грант – это лицо, меняющее место его/ее обычного прож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Место обычного прожи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ающаяся дискуссия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ив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бъектив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user</cp:lastModifiedBy>
  <dcterms:modified xsi:type="dcterms:W3CDTF">2005-03-29T11:54:56Z</dcterms:modified>
  <cp:revision>157</cp:revision>
  <dc:subject/>
  <dc:title>A shared approach to defining migrant populations: an uthopia?</dc:title>
</cp:coreProperties>
</file>