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CF77-432D-40F0-A5EC-F848DBCF41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ubjective in two senses: for the researcher/statisticians and for the respon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A7ED1-0D77-47AF-B3A3-C9F3261C4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6D53A-174F-49DD-8882-2D10B98D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8D0F2-AC25-44CD-B812-B784ACA8C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779E9-B545-45CB-9529-753E1455F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57615-2A3A-4FB9-875E-7C39B6DD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FA454-1F13-42EA-B3E7-5153DB67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879D1-1D17-4274-B7AB-3E412980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90DF0-FD33-4C5C-87E8-A4CF9281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0992B-D8E1-4A11-B3A2-0723A206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2E700-F36D-4945-9AF9-08D55946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2701B-4C47-4962-96C5-ACE20327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125DC-05DC-4F9B-A0F6-2EC424DE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un.org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74AD-F72F-4E74-B183-251022A03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-360" y="6552720"/>
            <a:ext cx="3809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CH" sz="10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000" spc="-1" strike="noStrike">
                <a:solidFill>
                  <a:srgbClr val="003399"/>
                </a:solidFill>
                <a:latin typeface="Arial"/>
              </a:rPr>
              <a:t>International migration: definitions and current pract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672320" y="6400800"/>
            <a:ext cx="1471320" cy="425520"/>
            <a:chOff x="7672320" y="6400800"/>
            <a:chExt cx="1471320" cy="425520"/>
          </a:xfrm>
        </p:grpSpPr>
        <p:pic>
          <p:nvPicPr>
            <p:cNvPr id="7" name="" descr="United Nations Economic Commission for Europe"/>
            <p:cNvPicPr/>
            <p:nvPr/>
          </p:nvPicPr>
          <p:blipFill>
            <a:blip r:embed="rId2"/>
            <a:stretch/>
          </p:blipFill>
          <p:spPr>
            <a:xfrm>
              <a:off x="8100360" y="6443640"/>
              <a:ext cx="1043280" cy="3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unlogo" descr="United Nations">
              <a:hlinkClick r:id="rId3"/>
            </p:cNvPr>
            <p:cNvPicPr/>
            <p:nvPr/>
          </p:nvPicPr>
          <p:blipFill>
            <a:blip r:embed="rId4">
              <a:lum bright="2000"/>
            </a:blip>
            <a:stretch/>
          </p:blipFill>
          <p:spPr>
            <a:xfrm>
              <a:off x="7672320" y="6400800"/>
              <a:ext cx="426240" cy="3585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un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906768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Международная миграция</a:t>
            </a:r>
            <a:r>
              <a:rPr b="0" lang="fr-CH" sz="4400" spc="-1" strike="noStrike">
                <a:solidFill>
                  <a:srgbClr val="003399"/>
                </a:solidFill>
                <a:latin typeface="Arial"/>
              </a:rPr>
              <a:t>: </a:t>
            </a:r>
            <a:br>
              <a:rPr sz="4400"/>
            </a:b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определения и существующие прак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нрико Бизонь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UN Economic Commission for Euro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tatistica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United Nations Economic Commission for Europe"/>
          <p:cNvPicPr/>
          <p:nvPr/>
        </p:nvPicPr>
        <p:blipFill>
          <a:blip r:embed="rId1"/>
          <a:stretch/>
        </p:blipFill>
        <p:spPr>
          <a:xfrm>
            <a:off x="7238880" y="533520"/>
            <a:ext cx="1857600" cy="680760"/>
          </a:xfrm>
          <a:prstGeom prst="rect">
            <a:avLst/>
          </a:prstGeom>
          <a:ln w="0">
            <a:noFill/>
          </a:ln>
        </p:spPr>
      </p:pic>
      <p:pic>
        <p:nvPicPr>
          <p:cNvPr id="55" name="unlogo" descr="United Nations">
            <a:hlinkClick r:id="rId2"/>
          </p:cNvPr>
          <p:cNvPicPr/>
          <p:nvPr/>
        </p:nvPicPr>
        <p:blipFill>
          <a:blip r:embed="rId3">
            <a:lum bright="2000"/>
          </a:blip>
          <a:stretch/>
        </p:blipFill>
        <p:spPr>
          <a:xfrm>
            <a:off x="6477120" y="457200"/>
            <a:ext cx="758880" cy="638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65240" y="42609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Демографическая перспектив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гранты включены в баланс населения</a:t>
            </a: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fr-CH" sz="4400" spc="-1" strike="noStrike" baseline="-25000">
                <a:solidFill>
                  <a:srgbClr val="000000"/>
                </a:solidFill>
                <a:latin typeface="Arial"/>
              </a:rPr>
              <a:t>t+1</a:t>
            </a: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= P</a:t>
            </a:r>
            <a:r>
              <a:rPr b="0" lang="fr-CH" sz="4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 + B - D + I - 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72200" y="3809880"/>
            <a:ext cx="1371600" cy="1067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72200" y="3809880"/>
            <a:ext cx="1371600" cy="1067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72200" y="3733920"/>
            <a:ext cx="1371600" cy="1218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72200" y="3733920"/>
            <a:ext cx="1295280" cy="1218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Демографическая перспектива</a:t>
            </a: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игрант учитывается, когда он или она включается (входит) в состав насе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мигрант исключается, когда он или она выбывает из состава насе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1998 </a:t>
            </a: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Рекомендации ООН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полнительное требов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стоянное проживание в течение </a:t>
            </a: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ода или боле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Два типа мигрантов</a:t>
            </a:r>
            <a:r>
              <a:rPr b="0" lang="fr-CH" sz="3600" spc="-1" strike="noStrike">
                <a:solidFill>
                  <a:srgbClr val="003399"/>
                </a:solidFill>
                <a:latin typeface="Arial"/>
              </a:rPr>
              <a:t> (1998 </a:t>
            </a: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Реком. ООН</a:t>
            </a:r>
            <a:r>
              <a:rPr b="0" lang="fr-CH" sz="36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лгосрочные мигрант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CH" sz="4400" spc="-1" strike="noStrike">
                <a:solidFill>
                  <a:srgbClr val="000000"/>
                </a:solidFill>
                <a:latin typeface="Arial"/>
              </a:rPr>
              <a:t>(12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месяцев и более</a:t>
            </a:r>
            <a:r>
              <a:rPr b="0" i="1" lang="fr-CH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аткосрочные мигра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CH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от 3 до 12 месяцев</a:t>
            </a:r>
            <a:r>
              <a:rPr b="0" i="1" lang="fr-CH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Применени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атистически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CH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пределения и источники</a:t>
            </a:r>
            <a:r>
              <a:rPr b="0" i="1" lang="fr-CH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спективы с точки зрения поли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Как обращаться с традиционными «типологиями»</a:t>
            </a: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’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ца, ищущие убежищ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законные мигра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звращающиеся мигра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звращающиеся граждане своей стра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Некоторые текущие вопросы, касающиеся потоков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сутствие данных об эмиг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личия в доступности (наличии) данных по гражданам страны и иностранцам </a:t>
            </a: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личные требования к определению предполагаемого периода пребы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Второй простой вопрос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го можно  считать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грантами, проживающими на территории Вашей стран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1998 </a:t>
            </a: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 Рекомендации ООН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ве составляющие населения, которые представляют интере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3581280"/>
            <a:ext cx="289548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ностра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ражда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3581280"/>
            <a:ext cx="312408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иц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дившие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 границе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3399"/>
                </a:solidFill>
                <a:latin typeface="Arial"/>
              </a:rPr>
              <a:t>Некоторые определен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ностранные гражд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(иностранц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ца, проживающие в стране, гражданами которой они не явля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одившиеся за границ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ца, проживающие в данной стране, но родившиеся в друг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План презентаци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токи миграции</a:t>
            </a: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я и подх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сло мигрантов, проживающих в стране</a:t>
            </a: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я, подходы, некоторые данные и</a:t>
            </a: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есение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Некоторые примеры из практики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23880" y="2590920"/>
          <a:ext cx="6096240" cy="36115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88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ждан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</a:tr>
              <a:tr h="88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о рожд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ническая принадлеж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</a:tr>
              <a:tr h="88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533520" y="129528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терии, применявшиеся в 18 странах Восточной Европы и С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Некоторые существующие практик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7840" y="2590920"/>
            <a:ext cx="281916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на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Франц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Ш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067200" y="2590920"/>
            <a:ext cx="5695920" cy="2134800"/>
            <a:chOff x="3067200" y="2590920"/>
            <a:chExt cx="5695920" cy="2134800"/>
          </a:xfrm>
        </p:grpSpPr>
        <p:grpSp>
          <p:nvGrpSpPr>
            <p:cNvPr id="110" name=""/>
            <p:cNvGrpSpPr/>
            <p:nvPr/>
          </p:nvGrpSpPr>
          <p:grpSpPr>
            <a:xfrm>
              <a:off x="3067200" y="2590920"/>
              <a:ext cx="5619600" cy="2057400"/>
              <a:chOff x="3067200" y="2590920"/>
              <a:chExt cx="5619600" cy="20574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38480" y="2590920"/>
                <a:ext cx="4648320" cy="205740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76560" y="312912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67200" y="365760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67200" y="415764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4191120" y="2822400"/>
              <a:ext cx="4572000" cy="19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одившиеся за границе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одившиеся за границей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«иммигранты»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“Immigrés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одившиеся за границе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Некоторые существующие практик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2276640"/>
            <a:ext cx="274320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ерма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Швец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Швейцар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059280" y="2349360"/>
            <a:ext cx="5638680" cy="2057400"/>
            <a:chOff x="3059280" y="2349360"/>
            <a:chExt cx="5638680" cy="2057400"/>
          </a:xfrm>
        </p:grpSpPr>
        <p:sp>
          <p:nvSpPr>
            <p:cNvPr id="119" name=""/>
            <p:cNvSpPr/>
            <p:nvPr/>
          </p:nvSpPr>
          <p:spPr>
            <a:xfrm>
              <a:off x="4049640" y="2349360"/>
              <a:ext cx="4648320" cy="20574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остранц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ностранцы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 родившиес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за границ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ностранц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59280" y="288252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59280" y="333972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59280" y="387324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Некоторые существующие практик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2514600"/>
            <a:ext cx="259092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therlan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267080" y="2514600"/>
            <a:ext cx="4408200" cy="2057400"/>
            <a:chOff x="4267080" y="2514600"/>
            <a:chExt cx="4408200" cy="2057400"/>
          </a:xfrm>
        </p:grpSpPr>
        <p:sp>
          <p:nvSpPr>
            <p:cNvPr id="126" name=""/>
            <p:cNvSpPr/>
            <p:nvPr/>
          </p:nvSpPr>
          <p:spPr>
            <a:xfrm>
              <a:off x="5569560" y="2514600"/>
              <a:ext cx="3105720" cy="20574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‘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остранц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67080" y="3581280"/>
              <a:ext cx="140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826920" y="2514600"/>
            <a:ext cx="351648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идерлан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Некоторые существующие практик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2637000"/>
            <a:ext cx="367164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оедине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ролев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ликобрита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 Сев. Ирланд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427640" y="2637000"/>
            <a:ext cx="4392000" cy="2086920"/>
            <a:chOff x="4427640" y="2637000"/>
            <a:chExt cx="4392000" cy="2086920"/>
          </a:xfrm>
        </p:grpSpPr>
        <p:sp>
          <p:nvSpPr>
            <p:cNvPr id="132" name=""/>
            <p:cNvSpPr/>
            <p:nvPr/>
          </p:nvSpPr>
          <p:spPr>
            <a:xfrm>
              <a:off x="5668560" y="2637000"/>
              <a:ext cx="3151080" cy="2086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Этническа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инадлежнос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27640" y="3719520"/>
              <a:ext cx="133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У кого больше «иммигрантов»</a:t>
            </a:r>
            <a:br>
              <a:rPr sz="3800"/>
            </a:b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(% в численности всего населе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727560" y="1371600"/>
            <a:ext cx="7703640" cy="4957920"/>
            <a:chOff x="727560" y="1371600"/>
            <a:chExt cx="7703640" cy="4957920"/>
          </a:xfrm>
        </p:grpSpPr>
        <p:graphicFrame>
          <p:nvGraphicFramePr>
            <p:cNvPr id="136" name=""/>
            <p:cNvGraphicFramePr/>
            <p:nvPr/>
          </p:nvGraphicFramePr>
          <p:xfrm>
            <a:off x="762120" y="1371600"/>
            <a:ext cx="7669080" cy="47941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120" y="1371600"/>
                      <a:ext cx="7669080" cy="479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8" name=""/>
            <p:cNvSpPr/>
            <p:nvPr/>
          </p:nvSpPr>
          <p:spPr>
            <a:xfrm>
              <a:off x="727560" y="6053040"/>
              <a:ext cx="431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200" spc="-1" strike="noStrike">
                  <a:solidFill>
                    <a:srgbClr val="000000"/>
                  </a:solidFill>
                  <a:latin typeface="Arial"/>
                </a:rPr>
                <a:t>Sources: 2000 Census Round, HH Surveys &amp; Pop. Regist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Страна рожден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2590920"/>
            <a:ext cx="3962520" cy="3200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чевидность миг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никальность крит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изменность крит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ктивность крит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84600" y="2590920"/>
            <a:ext cx="4267440" cy="3200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гут быть учтены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оторые граждане своей ст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ет произойти изменение грани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ое поколение исключается из наблю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терий не имеет отношения к  полити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19810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2082960"/>
            <a:ext cx="3962520" cy="5205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84600" y="2082960"/>
            <a:ext cx="4267440" cy="5205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Т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Гражданство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3962160" cy="3200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язь с законодатель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ивность крите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гко опреде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 статистических источников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7960" y="2502000"/>
            <a:ext cx="4267080" cy="3200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таби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циональные государственные регуля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уникальности крите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45080" y="1981080"/>
            <a:ext cx="4267080" cy="5205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Т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1990800"/>
            <a:ext cx="3962160" cy="5205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Этническая принадлежность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920" y="2491920"/>
            <a:ext cx="4176720" cy="273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ая направленность на социальное   изме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 социальных групп и на долгосрочную перспекти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7960" y="2505240"/>
            <a:ext cx="4267080" cy="2666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бъективность критерия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увствительность к поли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но определя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45080" y="1976400"/>
            <a:ext cx="4267080" cy="5205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Т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1989000"/>
            <a:ext cx="4176720" cy="5205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 различных варианта выбора на «стыке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графический (место рожд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ридический (гражданств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альный (этническая принадлеж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Первый простой вопрос</a:t>
            </a: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то является мигрантом</a:t>
            </a: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от, кто переезжает</a:t>
            </a: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…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Раунд переписей </a:t>
            </a:r>
            <a:r>
              <a:rPr b="1" lang="fr-CH" sz="2400" spc="-1" strike="noStrike">
                <a:solidFill>
                  <a:srgbClr val="3333cc"/>
                </a:solidFill>
                <a:latin typeface="Arial"/>
              </a:rPr>
              <a:t>2000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г. </a:t>
            </a:r>
            <a:r>
              <a:rPr b="1" lang="fr-CH" sz="2400" spc="-1" strike="noStrike">
                <a:solidFill>
                  <a:srgbClr val="3333cc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некоторые интересные индикаторы в регионе Европейской экономической коми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6407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на рождения</a:t>
            </a: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: 44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на гражданства</a:t>
            </a: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: 4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ническая принадлежность</a:t>
            </a: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27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Раунд переписей </a:t>
            </a:r>
            <a:r>
              <a:rPr b="1" lang="fr-CH" sz="2400" spc="-1" strike="noStrike">
                <a:solidFill>
                  <a:srgbClr val="3333cc"/>
                </a:solidFill>
                <a:latin typeface="Arial"/>
              </a:rPr>
              <a:t>2000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г. </a:t>
            </a:r>
            <a:r>
              <a:rPr b="1" lang="fr-CH" sz="2400" spc="-1" strike="noStrike">
                <a:solidFill>
                  <a:srgbClr val="3333cc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некоторые интересные индикаторы в регионе Европейской экономической коми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9 стран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вали дополнительные вопросы, касающиеся места рождения и/или гражданства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ножественное гражда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ражданство по рождению или в результате натурал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трана рождения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Различные групп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371600" y="3962520"/>
            <a:ext cx="6248520" cy="1676160"/>
            <a:chOff x="1371600" y="3962520"/>
            <a:chExt cx="6248520" cy="1676160"/>
          </a:xfrm>
        </p:grpSpPr>
        <p:sp>
          <p:nvSpPr>
            <p:cNvPr id="163" name=""/>
            <p:cNvSpPr/>
            <p:nvPr/>
          </p:nvSpPr>
          <p:spPr>
            <a:xfrm>
              <a:off x="1371600" y="3962520"/>
              <a:ext cx="6248520" cy="16761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12600" y="5105520"/>
              <a:ext cx="219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-е покол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371600" y="2209680"/>
            <a:ext cx="6400800" cy="1676520"/>
            <a:chOff x="1371600" y="2209680"/>
            <a:chExt cx="6400800" cy="1676520"/>
          </a:xfrm>
        </p:grpSpPr>
        <p:sp>
          <p:nvSpPr>
            <p:cNvPr id="166" name=""/>
            <p:cNvSpPr/>
            <p:nvPr/>
          </p:nvSpPr>
          <p:spPr>
            <a:xfrm>
              <a:off x="1371600" y="2209680"/>
              <a:ext cx="6248520" cy="167652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638680" y="2286000"/>
              <a:ext cx="213372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одившиеся за границей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1-е поколение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86400" y="26668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048120" y="2209680"/>
            <a:ext cx="2819160" cy="3429000"/>
            <a:chOff x="3048120" y="2209680"/>
            <a:chExt cx="2819160" cy="3429000"/>
          </a:xfrm>
        </p:grpSpPr>
        <p:grpSp>
          <p:nvGrpSpPr>
            <p:cNvPr id="170" name=""/>
            <p:cNvGrpSpPr/>
            <p:nvPr/>
          </p:nvGrpSpPr>
          <p:grpSpPr>
            <a:xfrm>
              <a:off x="3048120" y="2209680"/>
              <a:ext cx="2819160" cy="3429000"/>
              <a:chOff x="3048120" y="2209680"/>
              <a:chExt cx="2819160" cy="3429000"/>
            </a:xfrm>
          </p:grpSpPr>
          <p:sp>
            <p:nvSpPr>
              <p:cNvPr id="171" name=""/>
              <p:cNvSpPr/>
              <p:nvPr/>
            </p:nvSpPr>
            <p:spPr>
              <a:xfrm>
                <a:off x="3048120" y="2209680"/>
                <a:ext cx="2743200" cy="3429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048120" y="3962520"/>
                <a:ext cx="28191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048120" y="3886200"/>
                <a:ext cx="28191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00400" y="320040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ностранц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4724280"/>
            <a:ext cx="9144000" cy="763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5373720"/>
            <a:ext cx="9144000" cy="971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341360"/>
            <a:ext cx="9144000" cy="7923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0" y="3141720"/>
            <a:ext cx="9143640" cy="1520640"/>
            <a:chOff x="0" y="3141720"/>
            <a:chExt cx="9143640" cy="1520640"/>
          </a:xfrm>
        </p:grpSpPr>
        <p:sp>
          <p:nvSpPr>
            <p:cNvPr id="179" name=""/>
            <p:cNvSpPr/>
            <p:nvPr/>
          </p:nvSpPr>
          <p:spPr>
            <a:xfrm>
              <a:off x="0" y="3898800"/>
              <a:ext cx="9143640" cy="7635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3141720"/>
              <a:ext cx="9143640" cy="7617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0" y="2205000"/>
            <a:ext cx="9144000" cy="8636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Возможная классификация всего населен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2133720"/>
            <a:ext cx="136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Коренн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Насе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(natives)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2205000"/>
            <a:ext cx="3200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 основной ст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тране прожива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за границ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9840" y="342432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1-е поко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иммигра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94920" y="1557360"/>
            <a:ext cx="215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сто р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355280" y="1484280"/>
            <a:ext cx="2152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сто р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88000" y="1628640"/>
            <a:ext cx="172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ражда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27640" y="220500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ая стр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72360" y="2205000"/>
            <a:ext cx="27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жд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по рождению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3068640"/>
            <a:ext cx="2771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жд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результате натурализаци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16360" y="3429000"/>
            <a:ext cx="168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границ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6160" y="3357720"/>
            <a:ext cx="148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ниц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19640" y="4149720"/>
            <a:ext cx="164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остран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72360" y="4732200"/>
            <a:ext cx="2771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жд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рождени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ли в результа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турализаци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46640" y="5805360"/>
            <a:ext cx="164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остран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35880" y="515772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сновной ст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05440" y="4869000"/>
            <a:ext cx="148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ниц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1360" y="5086440"/>
            <a:ext cx="3276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2-е поко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иммигра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Иммигрантское происхождение : преимущества крите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ятные рам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би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ъекти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тические возмо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3399"/>
                </a:solidFill>
                <a:latin typeface="Arial"/>
              </a:rPr>
              <a:t>Сравнения</a:t>
            </a:r>
            <a:r>
              <a:rPr b="0" lang="fr-CH" sz="3800" spc="-1" strike="noStrike">
                <a:solidFill>
                  <a:srgbClr val="333399"/>
                </a:solidFill>
                <a:latin typeface="Arial"/>
              </a:rPr>
              <a:t> (1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нт лиц, имеющих иммигрантское происхождение по сравнению с процентом лиц, считающихся иммигрантами по определению, принятому в соответствующих стран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68360" y="2060640"/>
          <a:ext cx="8459640" cy="451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060640"/>
                    <a:ext cx="845964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3399"/>
                </a:solidFill>
                <a:latin typeface="Arial"/>
              </a:rPr>
              <a:t>Сравнения</a:t>
            </a:r>
            <a:r>
              <a:rPr b="0" lang="fr-CH" sz="3800" spc="-1" strike="noStrike">
                <a:solidFill>
                  <a:srgbClr val="333399"/>
                </a:solidFill>
                <a:latin typeface="Arial"/>
              </a:rPr>
              <a:t> (2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цент лиц, имеющих иммигрантское происхождение, по сравнению с процентом иностранц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55640" y="2565360"/>
          <a:ext cx="7489800" cy="403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565360"/>
                    <a:ext cx="748980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Сравнения</a:t>
            </a: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 (3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4000" y="1294920"/>
            <a:ext cx="8208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цент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остранцев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числе лиц, имеющих иммигрантское происхо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39640" y="2276640"/>
          <a:ext cx="8136000" cy="40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276640"/>
                    <a:ext cx="813600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Некоторые выводы</a:t>
            </a: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 (1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581280" y="1676520"/>
            <a:ext cx="4723920" cy="1447560"/>
            <a:chOff x="3581280" y="1676520"/>
            <a:chExt cx="4723920" cy="1447560"/>
          </a:xfrm>
        </p:grpSpPr>
        <p:sp>
          <p:nvSpPr>
            <p:cNvPr id="216" name=""/>
            <p:cNvSpPr/>
            <p:nvPr/>
          </p:nvSpPr>
          <p:spPr>
            <a:xfrm>
              <a:off x="4977000" y="1676520"/>
              <a:ext cx="3328200" cy="1447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мена места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жительст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81280" y="2426760"/>
              <a:ext cx="150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762120" y="4038480"/>
            <a:ext cx="2895480" cy="1911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исло мигрант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ходящих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стран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657600" y="4038480"/>
            <a:ext cx="4647600" cy="1911600"/>
            <a:chOff x="3657600" y="4038480"/>
            <a:chExt cx="4647600" cy="1911600"/>
          </a:xfrm>
        </p:grpSpPr>
        <p:sp>
          <p:nvSpPr>
            <p:cNvPr id="220" name=""/>
            <p:cNvSpPr/>
            <p:nvPr/>
          </p:nvSpPr>
          <p:spPr>
            <a:xfrm>
              <a:off x="5030640" y="4038480"/>
              <a:ext cx="3274560" cy="19116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дивидуальные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характеристи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57600" y="5029560"/>
              <a:ext cx="147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2971800" cy="1371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то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Некоторые выводы</a:t>
            </a: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(2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581280" y="1676520"/>
            <a:ext cx="4723920" cy="1447560"/>
            <a:chOff x="3581280" y="1676520"/>
            <a:chExt cx="4723920" cy="1447560"/>
          </a:xfrm>
        </p:grpSpPr>
        <p:sp>
          <p:nvSpPr>
            <p:cNvPr id="225" name=""/>
            <p:cNvSpPr/>
            <p:nvPr/>
          </p:nvSpPr>
          <p:spPr>
            <a:xfrm>
              <a:off x="4977000" y="1676520"/>
              <a:ext cx="3328200" cy="1447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Баланс насел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1280" y="2426760"/>
              <a:ext cx="150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762120" y="4038480"/>
            <a:ext cx="2895480" cy="1524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мигрант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ходящих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т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657600" y="4038480"/>
            <a:ext cx="4647600" cy="1524240"/>
            <a:chOff x="3657600" y="4038480"/>
            <a:chExt cx="4647600" cy="1524240"/>
          </a:xfrm>
        </p:grpSpPr>
        <p:sp>
          <p:nvSpPr>
            <p:cNvPr id="229" name=""/>
            <p:cNvSpPr/>
            <p:nvPr/>
          </p:nvSpPr>
          <p:spPr>
            <a:xfrm>
              <a:off x="5030640" y="4038480"/>
              <a:ext cx="3274560" cy="15242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ножествен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ритери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57600" y="4828680"/>
              <a:ext cx="147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2971800" cy="1371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то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Три возможных критерия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дивидуальные характерис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ль пребы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рок пребы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Некоторые выводы</a:t>
            </a: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 (3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876920" y="3048120"/>
            <a:ext cx="2895480" cy="1371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мигрант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живающ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тран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440" y="3048120"/>
            <a:ext cx="2971800" cy="1371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то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733920" y="33526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733560" y="40384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89308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1)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Индивидуальные характеристики</a:t>
            </a:r>
            <a:br>
              <a:rPr sz="4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остран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ипломатические работ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еннослужащие</a:t>
            </a: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дившиеся за границ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 т.д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2) </a:t>
            </a: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Цель пребыван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бежищ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ссоединение сем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сти / турис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 т. д</a:t>
            </a: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3) </a:t>
            </a: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Срок пребыван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ся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6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сяц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 т.д.</a:t>
            </a: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Комбинированный подход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грант – это лицо, меняющее место его/ее обычного прожи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Arial"/>
              </a:rPr>
              <a:t>Место обычного проживан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должающаяся дискуссия</a:t>
            </a: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ъективный подх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бъективный подх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16:51:34Z</dcterms:created>
  <dc:creator>bisogno enrico</dc:creator>
  <dc:description/>
  <dc:language>en-US</dc:language>
  <cp:lastModifiedBy>user</cp:lastModifiedBy>
  <dcterms:modified xsi:type="dcterms:W3CDTF">2005-03-29T11:54:56Z</dcterms:modified>
  <cp:revision>157</cp:revision>
  <dc:subject/>
  <dc:title>A shared approach to defining migrant populations: an uthopia?</dc:title>
</cp:coreProperties>
</file>