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6866-13E5-4A34-8532-C20F306DB8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ubjective in two senses: for the researcher/statisticians and for the respon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B0BA1-8652-45D0-8D54-96543F7E5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FE5D9-96EF-49BE-96C1-EE3C7563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198EA-56FB-41AF-A2DE-9B120FD15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0401A-9F40-427E-A50E-7F8CFE8D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FF42A-BCD2-4B66-88C0-05E309A3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DB7EF-2998-49BB-AD39-54A2E20A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2DB08-B119-4BD4-9D4D-695A4E8F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DE539-3E90-491E-B449-CAA6EBFD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977B1-D607-4B54-94E1-63BB5CA7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B6A57-2F9F-4B97-84BA-5755EAA7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386EA-6DBF-43F6-AAAB-0D6E1111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65297-42AB-413C-A046-0286F31F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un.org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8F64-85EF-4397-9C7E-BFE03F90A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-360" y="6552720"/>
            <a:ext cx="3809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CH" sz="10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000" spc="-1" strike="noStrike">
                <a:solidFill>
                  <a:srgbClr val="003399"/>
                </a:solidFill>
                <a:latin typeface="Arial"/>
              </a:rPr>
              <a:t>International migration: definitions and current pract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672320" y="6400800"/>
            <a:ext cx="1471320" cy="425520"/>
            <a:chOff x="7672320" y="6400800"/>
            <a:chExt cx="1471320" cy="425520"/>
          </a:xfrm>
        </p:grpSpPr>
        <p:pic>
          <p:nvPicPr>
            <p:cNvPr id="7" name="" descr="United Nations Economic Commission for Europe"/>
            <p:cNvPicPr/>
            <p:nvPr/>
          </p:nvPicPr>
          <p:blipFill>
            <a:blip r:embed="rId2"/>
            <a:stretch/>
          </p:blipFill>
          <p:spPr>
            <a:xfrm>
              <a:off x="8100360" y="6443640"/>
              <a:ext cx="1043280" cy="3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unlogo" descr="United Nations">
              <a:hlinkClick r:id="rId3"/>
            </p:cNvPr>
            <p:cNvPicPr/>
            <p:nvPr/>
          </p:nvPicPr>
          <p:blipFill>
            <a:blip r:embed="rId4">
              <a:lum bright="2000"/>
            </a:blip>
            <a:stretch/>
          </p:blipFill>
          <p:spPr>
            <a:xfrm>
              <a:off x="7672320" y="6400800"/>
              <a:ext cx="426240" cy="3585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un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24379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3399"/>
                </a:solidFill>
                <a:latin typeface="Arial"/>
              </a:rPr>
              <a:t>International migration: </a:t>
            </a:r>
            <a:br>
              <a:rPr sz="4400"/>
            </a:br>
            <a:r>
              <a:rPr b="0" lang="fr-CH" sz="4400" spc="-1" strike="noStrike">
                <a:solidFill>
                  <a:srgbClr val="003399"/>
                </a:solidFill>
                <a:latin typeface="Arial"/>
              </a:rPr>
              <a:t>definitions and current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nrico Bisog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UN Economic Commission for Euro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tatistica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United Nations Economic Commission for Europe"/>
          <p:cNvPicPr/>
          <p:nvPr/>
        </p:nvPicPr>
        <p:blipFill>
          <a:blip r:embed="rId1"/>
          <a:stretch/>
        </p:blipFill>
        <p:spPr>
          <a:xfrm>
            <a:off x="7238880" y="533520"/>
            <a:ext cx="1857600" cy="680760"/>
          </a:xfrm>
          <a:prstGeom prst="rect">
            <a:avLst/>
          </a:prstGeom>
          <a:ln w="0">
            <a:noFill/>
          </a:ln>
        </p:spPr>
      </p:pic>
      <p:pic>
        <p:nvPicPr>
          <p:cNvPr id="55" name="unlogo" descr="United Nations">
            <a:hlinkClick r:id="rId2"/>
          </p:cNvPr>
          <p:cNvPicPr/>
          <p:nvPr/>
        </p:nvPicPr>
        <p:blipFill>
          <a:blip r:embed="rId3">
            <a:lum bright="2000"/>
          </a:blip>
          <a:stretch/>
        </p:blipFill>
        <p:spPr>
          <a:xfrm>
            <a:off x="6477120" y="457200"/>
            <a:ext cx="758880" cy="638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65240" y="42609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Demographic perspecti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Migrants included in the population balan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fr-CH" sz="4400" spc="-1" strike="noStrike" baseline="-25000">
                <a:solidFill>
                  <a:srgbClr val="000000"/>
                </a:solidFill>
                <a:latin typeface="Arial"/>
              </a:rPr>
              <a:t>t+1</a:t>
            </a: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= P</a:t>
            </a:r>
            <a:r>
              <a:rPr b="0" lang="fr-CH" sz="4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 + B - D + I -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72200" y="3809880"/>
            <a:ext cx="1371600" cy="1067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72200" y="3809880"/>
            <a:ext cx="1371600" cy="1067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3733920"/>
            <a:ext cx="1371600" cy="1218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72200" y="3733920"/>
            <a:ext cx="1295280" cy="1218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Demographic perspective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An immigrant is counted when he/she enters the pop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An emigrant is cancelled when he/she exits from the pop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1998 UN Recommenda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An additional requir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1 year or more of resid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Two types of migrants (1998 UN Rec.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Long-term migra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CH" sz="4400" spc="-1" strike="noStrike">
                <a:solidFill>
                  <a:srgbClr val="000000"/>
                </a:solidFill>
                <a:latin typeface="Arial"/>
              </a:rPr>
              <a:t>(12 months and mor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Short-term migr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CH" sz="4400" spc="-1" strike="noStrike">
                <a:solidFill>
                  <a:srgbClr val="000000"/>
                </a:solidFill>
                <a:latin typeface="Arial"/>
              </a:rPr>
              <a:t>(3 to 12 month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Implica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Statistical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CH" sz="3200" spc="-1" strike="noStrike">
                <a:solidFill>
                  <a:srgbClr val="000000"/>
                </a:solidFill>
                <a:latin typeface="Arial"/>
              </a:rPr>
              <a:t>(definitions and sour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Policy 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How to deal with traditional ‘typologies’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Asylum seek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Irregular migr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Returning migr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Returning natio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Some current issues on flow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No emigration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Differences in data availability between nationals and foreig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Different requirements in terms of intended duration of st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A second simple question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Who are the migr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 u="sng">
                <a:solidFill>
                  <a:srgbClr val="000000"/>
                </a:solidFill>
                <a:uFillTx/>
                <a:latin typeface="Arial"/>
              </a:rPr>
              <a:t>living</a:t>
            </a: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 in your count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1998 UN Recommenda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Two subpopulations of interes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3581280"/>
            <a:ext cx="289548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oreig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3581280"/>
            <a:ext cx="312408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oreign-bor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333399"/>
                </a:solidFill>
                <a:latin typeface="Arial"/>
              </a:rPr>
              <a:t>Some defini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0000"/>
                </a:solidFill>
                <a:latin typeface="Arial"/>
              </a:rPr>
              <a:t>Foreig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ersons living in the country without the citizenship of that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0000"/>
                </a:solidFill>
                <a:latin typeface="Arial"/>
              </a:rPr>
              <a:t>Foreign-bo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ersons living in the country but born in another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Outline of the present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00"/>
                </a:solidFill>
                <a:latin typeface="Arial"/>
              </a:rPr>
              <a:t>Migration flows</a:t>
            </a: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 definitions and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00"/>
                </a:solidFill>
                <a:latin typeface="Arial"/>
              </a:rPr>
              <a:t>Migration stocks</a:t>
            </a: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 definitions, approaches, some data and a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Some practic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23880" y="2590920"/>
          <a:ext cx="6096240" cy="35557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88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izensh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  <a:tr h="88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 of bir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  <a:tr h="88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nic gro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  <a:tr h="88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533520" y="12952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Criteria used in 18 countries of Eastern Europe and C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Some current practic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7840" y="2590920"/>
            <a:ext cx="281916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ad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a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ited Stat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067200" y="2590920"/>
            <a:ext cx="5695920" cy="2057400"/>
            <a:chOff x="3067200" y="2590920"/>
            <a:chExt cx="5695920" cy="2057400"/>
          </a:xfrm>
        </p:grpSpPr>
        <p:grpSp>
          <p:nvGrpSpPr>
            <p:cNvPr id="110" name=""/>
            <p:cNvGrpSpPr/>
            <p:nvPr/>
          </p:nvGrpSpPr>
          <p:grpSpPr>
            <a:xfrm>
              <a:off x="3067200" y="2590920"/>
              <a:ext cx="5619600" cy="2057400"/>
              <a:chOff x="3067200" y="2590920"/>
              <a:chExt cx="5619600" cy="20574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38480" y="2590920"/>
                <a:ext cx="4648320" cy="205740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76560" y="312912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67200" y="365760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67200" y="415764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4191120" y="2822400"/>
              <a:ext cx="4572000" cy="15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eign-bor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eign-born “Immigrés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eign-bor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Some current practic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2362320"/>
            <a:ext cx="274320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rman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wed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witzerl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048120" y="2362320"/>
            <a:ext cx="5638680" cy="2057400"/>
            <a:chOff x="3048120" y="2362320"/>
            <a:chExt cx="5638680" cy="2057400"/>
          </a:xfrm>
        </p:grpSpPr>
        <p:sp>
          <p:nvSpPr>
            <p:cNvPr id="119" name=""/>
            <p:cNvSpPr/>
            <p:nvPr/>
          </p:nvSpPr>
          <p:spPr>
            <a:xfrm>
              <a:off x="4038480" y="2362320"/>
              <a:ext cx="4648320" cy="20574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eigne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eigners and foreign-bor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eigne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289548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48120" y="335268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8120" y="388620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Some current practic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2514600"/>
            <a:ext cx="259092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therla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267080" y="2514600"/>
            <a:ext cx="3353040" cy="2057400"/>
            <a:chOff x="4267080" y="2514600"/>
            <a:chExt cx="3353040" cy="2057400"/>
          </a:xfrm>
        </p:grpSpPr>
        <p:sp>
          <p:nvSpPr>
            <p:cNvPr id="126" name=""/>
            <p:cNvSpPr/>
            <p:nvPr/>
          </p:nvSpPr>
          <p:spPr>
            <a:xfrm>
              <a:off x="5257800" y="2514600"/>
              <a:ext cx="2362320" cy="20574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‘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eigners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67080" y="3581280"/>
              <a:ext cx="1067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752480" y="2514600"/>
            <a:ext cx="259092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therla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Some current practic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2666880"/>
            <a:ext cx="312408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ited King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419720" y="2666880"/>
            <a:ext cx="3504960" cy="2057400"/>
            <a:chOff x="4419720" y="2666880"/>
            <a:chExt cx="3504960" cy="2057400"/>
          </a:xfrm>
        </p:grpSpPr>
        <p:sp>
          <p:nvSpPr>
            <p:cNvPr id="132" name=""/>
            <p:cNvSpPr/>
            <p:nvPr/>
          </p:nvSpPr>
          <p:spPr>
            <a:xfrm>
              <a:off x="5410080" y="2666880"/>
              <a:ext cx="2514600" cy="20574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hnic group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19720" y="373392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Who has more ‘immigrants’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727560" y="1371600"/>
            <a:ext cx="7703640" cy="4957920"/>
            <a:chOff x="727560" y="1371600"/>
            <a:chExt cx="7703640" cy="4957920"/>
          </a:xfrm>
        </p:grpSpPr>
        <p:graphicFrame>
          <p:nvGraphicFramePr>
            <p:cNvPr id="136" name=""/>
            <p:cNvGraphicFramePr/>
            <p:nvPr/>
          </p:nvGraphicFramePr>
          <p:xfrm>
            <a:off x="762120" y="1371600"/>
            <a:ext cx="7669080" cy="47941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1371600"/>
                      <a:ext cx="7669080" cy="479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8" name=""/>
            <p:cNvSpPr/>
            <p:nvPr/>
          </p:nvSpPr>
          <p:spPr>
            <a:xfrm>
              <a:off x="727560" y="6053040"/>
              <a:ext cx="431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Sources: 2000 Census Round, HH Surveys &amp; Pop. Regist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Country of birt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2590920"/>
            <a:ext cx="3962520" cy="3200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Evidence of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U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Does not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84600" y="2590920"/>
            <a:ext cx="4267440" cy="3200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Some ‘Nationals’ can be inclu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Changes of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2nd generation ex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Not ‘policy’ relev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19810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2082960"/>
            <a:ext cx="3962520" cy="520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84600" y="2082960"/>
            <a:ext cx="4267440" cy="520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Citizenshi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3962160" cy="3200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Legally relev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Easily detec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Many statistical sour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7960" y="2502000"/>
            <a:ext cx="4267080" cy="3200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Uns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National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Not u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45080" y="1981080"/>
            <a:ext cx="4267080" cy="520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1990800"/>
            <a:ext cx="3962160" cy="520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Ethnic grou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2505240"/>
            <a:ext cx="3948120" cy="2666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Directly addressing social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Identify social groups also in the long 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7960" y="2505240"/>
            <a:ext cx="4267080" cy="2666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Subjec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olitical se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5080" y="1976400"/>
            <a:ext cx="4267080" cy="520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1986120"/>
            <a:ext cx="3962160" cy="520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3 different options on the ’border’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Geographical (place of bir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Legal (citizensh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Social (ethnic gro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A first simple question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Who is a migr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Somebody who moves…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2000 Census Round: some interesting indications in ECE reg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Country of birth: 44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Country of citizenship: 42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Ethnic group: 27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2000 Census Round: some interesting indications in ECE reg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9 Count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ked additional questions on birth and/or citizensh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ultiple citize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itizenship at birth/by natur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untry of birth of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The various group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371600" y="3962520"/>
            <a:ext cx="6248520" cy="1676160"/>
            <a:chOff x="1371600" y="3962520"/>
            <a:chExt cx="6248520" cy="1676160"/>
          </a:xfrm>
        </p:grpSpPr>
        <p:sp>
          <p:nvSpPr>
            <p:cNvPr id="163" name=""/>
            <p:cNvSpPr/>
            <p:nvPr/>
          </p:nvSpPr>
          <p:spPr>
            <a:xfrm>
              <a:off x="1371600" y="3962520"/>
              <a:ext cx="6248520" cy="16761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27360" y="5105520"/>
              <a:ext cx="20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gene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371600" y="2209680"/>
            <a:ext cx="6400800" cy="1676520"/>
            <a:chOff x="1371600" y="2209680"/>
            <a:chExt cx="6400800" cy="1676520"/>
          </a:xfrm>
        </p:grpSpPr>
        <p:sp>
          <p:nvSpPr>
            <p:cNvPr id="166" name=""/>
            <p:cNvSpPr/>
            <p:nvPr/>
          </p:nvSpPr>
          <p:spPr>
            <a:xfrm>
              <a:off x="1371600" y="2209680"/>
              <a:ext cx="6248520" cy="16765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638680" y="22860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Foreign-bo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00080" y="2666880"/>
              <a:ext cx="22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1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gener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048120" y="2209680"/>
            <a:ext cx="2819160" cy="3429000"/>
            <a:chOff x="3048120" y="2209680"/>
            <a:chExt cx="2819160" cy="3429000"/>
          </a:xfrm>
        </p:grpSpPr>
        <p:grpSp>
          <p:nvGrpSpPr>
            <p:cNvPr id="170" name=""/>
            <p:cNvGrpSpPr/>
            <p:nvPr/>
          </p:nvGrpSpPr>
          <p:grpSpPr>
            <a:xfrm>
              <a:off x="3048120" y="2209680"/>
              <a:ext cx="2819160" cy="3429000"/>
              <a:chOff x="3048120" y="2209680"/>
              <a:chExt cx="2819160" cy="3429000"/>
            </a:xfrm>
          </p:grpSpPr>
          <p:sp>
            <p:nvSpPr>
              <p:cNvPr id="171" name=""/>
              <p:cNvSpPr/>
              <p:nvPr/>
            </p:nvSpPr>
            <p:spPr>
              <a:xfrm>
                <a:off x="3048120" y="2209680"/>
                <a:ext cx="2743200" cy="3429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048120" y="3962520"/>
                <a:ext cx="28191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048120" y="3886200"/>
                <a:ext cx="28191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00400" y="320040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Foreign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71360" y="4646520"/>
            <a:ext cx="8763120" cy="763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1080" y="5410080"/>
            <a:ext cx="8762760" cy="763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7600" y="1452600"/>
            <a:ext cx="8763120" cy="685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52280" y="3048120"/>
            <a:ext cx="8763120" cy="1520640"/>
            <a:chOff x="152280" y="3048120"/>
            <a:chExt cx="8763120" cy="1520640"/>
          </a:xfrm>
        </p:grpSpPr>
        <p:sp>
          <p:nvSpPr>
            <p:cNvPr id="179" name=""/>
            <p:cNvSpPr/>
            <p:nvPr/>
          </p:nvSpPr>
          <p:spPr>
            <a:xfrm>
              <a:off x="152280" y="3805200"/>
              <a:ext cx="8763120" cy="7635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52280" y="3048120"/>
              <a:ext cx="8763120" cy="7617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52280" y="2205000"/>
            <a:ext cx="8763120" cy="7621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A possible classification </a:t>
            </a:r>
            <a:br>
              <a:rPr sz="3800"/>
            </a:b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of total popul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3680" y="23623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ti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81080" y="22050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 cou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ab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9120" y="342432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1st gen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migr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02080" y="160488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ce of bi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49200" y="1452600"/>
            <a:ext cx="18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' pl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bi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11000" y="16146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ize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22200" y="235728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44560" y="220500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t bir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711480" y="3070080"/>
            <a:ext cx="220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y naturaliz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97320" y="364176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b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87640" y="365760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b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135200" y="39528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eig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918840" y="4707000"/>
            <a:ext cx="19166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ation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t birth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y naturaliz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35200" y="56228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eig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88480" y="518148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ent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81480" y="51814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b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1360" y="508644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2nd gen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migr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Immigrant background: advantag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Comprehensive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Analytical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Comparisons (1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Imm-background vs. national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85800" y="1752480"/>
          <a:ext cx="7489800" cy="468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489800" cy="46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Comparisons (2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Imm-background vs. foreig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39800" y="1752480"/>
          <a:ext cx="7489800" cy="468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800" y="1752480"/>
                    <a:ext cx="7489800" cy="46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Comparisons (3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% of foreigners in imm.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685800" y="1905120"/>
          <a:ext cx="7794720" cy="454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5120"/>
                    <a:ext cx="7794720" cy="45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Some conclusions (1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581280" y="1676520"/>
            <a:ext cx="4723920" cy="1447560"/>
            <a:chOff x="3581280" y="1676520"/>
            <a:chExt cx="4723920" cy="1447560"/>
          </a:xfrm>
        </p:grpSpPr>
        <p:sp>
          <p:nvSpPr>
            <p:cNvPr id="216" name=""/>
            <p:cNvSpPr/>
            <p:nvPr/>
          </p:nvSpPr>
          <p:spPr>
            <a:xfrm>
              <a:off x="4977000" y="1676520"/>
              <a:ext cx="3328200" cy="1447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ange of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lace of residen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81280" y="2426760"/>
              <a:ext cx="150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762120" y="4038480"/>
            <a:ext cx="2895480" cy="1524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oc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57600" y="4038480"/>
            <a:ext cx="4647600" cy="1524240"/>
            <a:chOff x="3657600" y="4038480"/>
            <a:chExt cx="4647600" cy="1524240"/>
          </a:xfrm>
        </p:grpSpPr>
        <p:sp>
          <p:nvSpPr>
            <p:cNvPr id="220" name=""/>
            <p:cNvSpPr/>
            <p:nvPr/>
          </p:nvSpPr>
          <p:spPr>
            <a:xfrm>
              <a:off x="5030640" y="4038480"/>
              <a:ext cx="3274560" cy="15242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vidu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aracteristic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57600" y="4828680"/>
              <a:ext cx="147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2971800" cy="1371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l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Some conclusions (2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581280" y="1676520"/>
            <a:ext cx="4723920" cy="1447560"/>
            <a:chOff x="3581280" y="1676520"/>
            <a:chExt cx="4723920" cy="1447560"/>
          </a:xfrm>
        </p:grpSpPr>
        <p:sp>
          <p:nvSpPr>
            <p:cNvPr id="225" name=""/>
            <p:cNvSpPr/>
            <p:nvPr/>
          </p:nvSpPr>
          <p:spPr>
            <a:xfrm>
              <a:off x="4977000" y="1676520"/>
              <a:ext cx="3328200" cy="1447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pulation balan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1280" y="2426760"/>
              <a:ext cx="150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762120" y="4038480"/>
            <a:ext cx="2895480" cy="1524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oc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657600" y="4038480"/>
            <a:ext cx="4647600" cy="1524240"/>
            <a:chOff x="3657600" y="4038480"/>
            <a:chExt cx="4647600" cy="1524240"/>
          </a:xfrm>
        </p:grpSpPr>
        <p:sp>
          <p:nvSpPr>
            <p:cNvPr id="229" name=""/>
            <p:cNvSpPr/>
            <p:nvPr/>
          </p:nvSpPr>
          <p:spPr>
            <a:xfrm>
              <a:off x="5030640" y="4038480"/>
              <a:ext cx="3274560" cy="15242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ultiple criter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57600" y="4828680"/>
              <a:ext cx="147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2971800" cy="1371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l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Three possible criter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Individual 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Purpose of st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Duration of st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Some conclusions (3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876920" y="3048120"/>
            <a:ext cx="2895480" cy="1371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oc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3048120"/>
            <a:ext cx="2971800" cy="1371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l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33920" y="33526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733560" y="40384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1) Individual characteristic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Foreig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Diploma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Milita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Foreign-bo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2) Purpose of sta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Lab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Asyl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Family reun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Visitors/tour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etc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3) Duration of sta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3 mont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6 mont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1 y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etc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A combined approa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A migrant is a person changing his/her place of usual res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Place of usual reside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On-going discuss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Objective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Subjective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16:51:34Z</dcterms:created>
  <dc:creator>bisogno enrico</dc:creator>
  <dc:description/>
  <dc:language>en-US</dc:language>
  <cp:lastModifiedBy>bisogno enrico</cp:lastModifiedBy>
  <dcterms:modified xsi:type="dcterms:W3CDTF">2005-01-24T07:52:30Z</dcterms:modified>
  <cp:revision>126</cp:revision>
  <dc:subject/>
  <dc:title>A shared approach to defining migrant populations: an uthopia?</dc:title>
</cp:coreProperties>
</file>