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0E4E-24DB-44E0-BEB9-787060B3E3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ubjective in two senses: for the researcher/statisticians and for the respon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CE6C-21C4-42D4-9493-485B2925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D495-C1B6-4A0C-8E8D-57DA9883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6D4A9-040D-4E9B-867F-C9FF2147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B8D7-9CEE-47C3-B318-B2A6CFB6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642E-1BDC-41FA-9B44-D8429FF2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37A03-A53D-4A5E-AB9D-AA9227BE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9F3BE-F422-4F10-B3BA-90BA3432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4312-311A-4D24-880B-4562CF66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3E3D2-CB55-4A6B-96B0-A7D80FA4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5175-8DB7-4F96-A3F5-1D521DF1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54EF0-AA34-4793-A540-8F52F2BB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B75C-538E-4209-B7AB-8CC0B90C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52D6-1529-4663-860F-EBE7941B2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36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CH" sz="1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000" spc="-1" strike="noStrike">
                <a:solidFill>
                  <a:srgbClr val="003399"/>
                </a:solidFill>
                <a:latin typeface="Arial"/>
              </a:rPr>
              <a:t>International migration: definitions and current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672320" y="6400800"/>
            <a:ext cx="1471320" cy="425520"/>
            <a:chOff x="7672320" y="6400800"/>
            <a:chExt cx="1471320" cy="425520"/>
          </a:xfrm>
        </p:grpSpPr>
        <p:pic>
          <p:nvPicPr>
            <p:cNvPr id="7" name="" descr="United Nations Economic Commission for Europe"/>
            <p:cNvPicPr/>
            <p:nvPr/>
          </p:nvPicPr>
          <p:blipFill>
            <a:blip r:embed="rId2"/>
            <a:stretch/>
          </p:blipFill>
          <p:spPr>
            <a:xfrm>
              <a:off x="8100360" y="6443640"/>
              <a:ext cx="104328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unlogo" descr="United Nations">
              <a:hlinkClick r:id="rId3"/>
            </p:cNvPr>
            <p:cNvPicPr/>
            <p:nvPr/>
          </p:nvPicPr>
          <p:blipFill>
            <a:blip r:embed="rId4">
              <a:lum bright="2000"/>
            </a:blip>
            <a:stretch/>
          </p:blipFill>
          <p:spPr>
            <a:xfrm>
              <a:off x="7672320" y="6400800"/>
              <a:ext cx="426240" cy="358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3399"/>
                </a:solidFill>
                <a:latin typeface="Arial"/>
              </a:rPr>
              <a:t>International migration: </a:t>
            </a:r>
            <a:br>
              <a:rPr sz="4400"/>
            </a:br>
            <a:r>
              <a:rPr b="0" lang="fr-CH" sz="4400" spc="-1" strike="noStrike">
                <a:solidFill>
                  <a:srgbClr val="003399"/>
                </a:solidFill>
                <a:latin typeface="Arial"/>
              </a:rPr>
              <a:t>definitions and current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nrico Bisog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N Economic Commission for Eur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atist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United Nations Economic Commission for Europe"/>
          <p:cNvPicPr/>
          <p:nvPr/>
        </p:nvPicPr>
        <p:blipFill>
          <a:blip r:embed="rId1"/>
          <a:stretch/>
        </p:blipFill>
        <p:spPr>
          <a:xfrm>
            <a:off x="7238880" y="533520"/>
            <a:ext cx="1857600" cy="680760"/>
          </a:xfrm>
          <a:prstGeom prst="rect">
            <a:avLst/>
          </a:prstGeom>
          <a:ln w="0">
            <a:noFill/>
          </a:ln>
        </p:spPr>
      </p:pic>
      <p:pic>
        <p:nvPicPr>
          <p:cNvPr id="55" name="unlogo" descr="United Nations">
            <a:hlinkClick r:id="rId2"/>
          </p:cNvPr>
          <p:cNvPicPr/>
          <p:nvPr/>
        </p:nvPicPr>
        <p:blipFill>
          <a:blip r:embed="rId3">
            <a:lum bright="2000"/>
          </a:blip>
          <a:stretch/>
        </p:blipFill>
        <p:spPr>
          <a:xfrm>
            <a:off x="6477120" y="457200"/>
            <a:ext cx="758880" cy="638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42609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Demographic perspec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Migrants included in the population balan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fr-CH" sz="44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fr-CH" sz="4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 + B - D + I -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3809880"/>
            <a:ext cx="137160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3809880"/>
            <a:ext cx="137160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733920"/>
            <a:ext cx="137160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3733920"/>
            <a:ext cx="129528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Demographic perspectiv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An immigrant is counted when he/she enters the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An emigrant is cancelled when he/she exits from the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1998 UN Recommend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An additional requir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1 year or more of res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Two types of migrants (1998 UN Rec.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Long-term migr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(12 months and mor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Short-term 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(3 to 12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Implic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Statistic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CH" sz="3200" spc="-1" strike="noStrike">
                <a:solidFill>
                  <a:srgbClr val="000000"/>
                </a:solidFill>
                <a:latin typeface="Arial"/>
              </a:rPr>
              <a:t>(definitions and sour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Policy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How to deal with traditional ‘typologies’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Asylum see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Irregular 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Returning 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Returning natio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current issues on flo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No emigration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Differences in data availability between nationals and foreig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Different requirements in terms of intended duration of st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A second simple question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Who are the 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 u="sng">
                <a:solidFill>
                  <a:srgbClr val="000000"/>
                </a:solidFill>
                <a:uFillTx/>
                <a:latin typeface="Arial"/>
              </a:rPr>
              <a:t>living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 in your count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1998 UN Recommend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Two subpopulations of inter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581280"/>
            <a:ext cx="28954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eig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3581280"/>
            <a:ext cx="31240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eign-bor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333399"/>
                </a:solidFill>
                <a:latin typeface="Arial"/>
              </a:rPr>
              <a:t>Some defini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Foreig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ersons living in the country without the citizenship of that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Foreign-b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ersons living in the country but born in anoth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Outline of the pres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Migration flows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 definitions and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Migration stocks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 definitions, approaches, some data and a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practi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2590920"/>
          <a:ext cx="6096240" cy="3555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izens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 of bir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nic 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533520" y="1295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Criteria used in 18 countries of Eastern Europe and C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current practi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840" y="2590920"/>
            <a:ext cx="281916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ad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ed Stat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067200" y="2590920"/>
            <a:ext cx="5695920" cy="2057400"/>
            <a:chOff x="3067200" y="2590920"/>
            <a:chExt cx="5695920" cy="2057400"/>
          </a:xfrm>
        </p:grpSpPr>
        <p:grpSp>
          <p:nvGrpSpPr>
            <p:cNvPr id="110" name=""/>
            <p:cNvGrpSpPr/>
            <p:nvPr/>
          </p:nvGrpSpPr>
          <p:grpSpPr>
            <a:xfrm>
              <a:off x="3067200" y="2590920"/>
              <a:ext cx="5619600" cy="2057400"/>
              <a:chOff x="3067200" y="2590920"/>
              <a:chExt cx="5619600" cy="20574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38480" y="2590920"/>
                <a:ext cx="4648320" cy="205740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76560" y="312912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67200" y="365760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67200" y="41576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191120" y="2822400"/>
              <a:ext cx="457200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-bor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-born “Immigrés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-bor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current practi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362320"/>
            <a:ext cx="27432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rman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ed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itzerl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48120" y="2362320"/>
            <a:ext cx="5638680" cy="2057400"/>
            <a:chOff x="3048120" y="2362320"/>
            <a:chExt cx="5638680" cy="2057400"/>
          </a:xfrm>
        </p:grpSpPr>
        <p:sp>
          <p:nvSpPr>
            <p:cNvPr id="119" name=""/>
            <p:cNvSpPr/>
            <p:nvPr/>
          </p:nvSpPr>
          <p:spPr>
            <a:xfrm>
              <a:off x="4038480" y="2362320"/>
              <a:ext cx="4648320" cy="2057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ers and foreign-bor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28954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8120" y="3352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8120" y="38862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current practi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514600"/>
            <a:ext cx="259092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herla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267080" y="2514600"/>
            <a:ext cx="3353040" cy="2057400"/>
            <a:chOff x="4267080" y="2514600"/>
            <a:chExt cx="3353040" cy="2057400"/>
          </a:xfrm>
        </p:grpSpPr>
        <p:sp>
          <p:nvSpPr>
            <p:cNvPr id="126" name=""/>
            <p:cNvSpPr/>
            <p:nvPr/>
          </p:nvSpPr>
          <p:spPr>
            <a:xfrm>
              <a:off x="5257800" y="2514600"/>
              <a:ext cx="2362320" cy="2057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‘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ers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67080" y="358128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52480" y="2514600"/>
            <a:ext cx="259092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herla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current practi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2666880"/>
            <a:ext cx="31240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2666880"/>
            <a:ext cx="3504960" cy="2057400"/>
            <a:chOff x="4419720" y="2666880"/>
            <a:chExt cx="3504960" cy="2057400"/>
          </a:xfrm>
        </p:grpSpPr>
        <p:sp>
          <p:nvSpPr>
            <p:cNvPr id="132" name=""/>
            <p:cNvSpPr/>
            <p:nvPr/>
          </p:nvSpPr>
          <p:spPr>
            <a:xfrm>
              <a:off x="5410080" y="2666880"/>
              <a:ext cx="2514600" cy="2057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nic grou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19720" y="373392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Who has more ‘immigrants’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27560" y="1371600"/>
            <a:ext cx="7703640" cy="4957920"/>
            <a:chOff x="727560" y="1371600"/>
            <a:chExt cx="7703640" cy="4957920"/>
          </a:xfrm>
        </p:grpSpPr>
        <p:graphicFrame>
          <p:nvGraphicFramePr>
            <p:cNvPr id="136" name=""/>
            <p:cNvGraphicFramePr/>
            <p:nvPr/>
          </p:nvGraphicFramePr>
          <p:xfrm>
            <a:off x="762120" y="1371600"/>
            <a:ext cx="7669080" cy="4794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371600"/>
                      <a:ext cx="7669080" cy="479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727560" y="6053040"/>
              <a:ext cx="43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Sources: 2000 Census Round, HH Surveys &amp; Pop. Regis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Country of birt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396252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Evidence of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oes no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84600" y="2590920"/>
            <a:ext cx="426744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Some ‘Nationals’ can be inclu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hanges of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2nd generation ex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Not ‘policy’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082960"/>
            <a:ext cx="396252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84600" y="2082960"/>
            <a:ext cx="426744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Citizenshi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396216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Legally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Easily detec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any statistical 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2502000"/>
            <a:ext cx="426708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National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Not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5080" y="1981080"/>
            <a:ext cx="426708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90800"/>
            <a:ext cx="396216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Ethnic grou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2505240"/>
            <a:ext cx="3948120" cy="2666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irectly addressing social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Identify social groups also in the long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2505240"/>
            <a:ext cx="4267080" cy="2666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Subje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olitical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5080" y="1976400"/>
            <a:ext cx="426708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986120"/>
            <a:ext cx="396216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3 different options on the ’border’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Geographical (place of bir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Legal (citizen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ocial (ethni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A first simple question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Who is a migr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Somebody who moves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2000 Census Round: some interesting indications in ECE reg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Country of birth: 44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Country of citizenship: 42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Ethnic group: 27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2000 Census Round: some interesting indications in ECE reg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 Count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ked additional questions on birth and/or citizensh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ple 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itizenship at birth/by natur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untry of birth of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The various group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371600" y="3962520"/>
            <a:ext cx="6248520" cy="1676160"/>
            <a:chOff x="1371600" y="3962520"/>
            <a:chExt cx="6248520" cy="1676160"/>
          </a:xfrm>
        </p:grpSpPr>
        <p:sp>
          <p:nvSpPr>
            <p:cNvPr id="163" name=""/>
            <p:cNvSpPr/>
            <p:nvPr/>
          </p:nvSpPr>
          <p:spPr>
            <a:xfrm>
              <a:off x="1371600" y="3962520"/>
              <a:ext cx="6248520" cy="1676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27360" y="510552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gen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371600" y="2209680"/>
            <a:ext cx="6400800" cy="1676520"/>
            <a:chOff x="1371600" y="2209680"/>
            <a:chExt cx="6400800" cy="1676520"/>
          </a:xfrm>
        </p:grpSpPr>
        <p:sp>
          <p:nvSpPr>
            <p:cNvPr id="166" name=""/>
            <p:cNvSpPr/>
            <p:nvPr/>
          </p:nvSpPr>
          <p:spPr>
            <a:xfrm>
              <a:off x="1371600" y="2209680"/>
              <a:ext cx="6248520" cy="16765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38680" y="22860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oreign-b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00080" y="2666880"/>
              <a:ext cx="22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1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gener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048120" y="2209680"/>
            <a:ext cx="2819160" cy="3429000"/>
            <a:chOff x="3048120" y="2209680"/>
            <a:chExt cx="2819160" cy="3429000"/>
          </a:xfrm>
        </p:grpSpPr>
        <p:grpSp>
          <p:nvGrpSpPr>
            <p:cNvPr id="170" name=""/>
            <p:cNvGrpSpPr/>
            <p:nvPr/>
          </p:nvGrpSpPr>
          <p:grpSpPr>
            <a:xfrm>
              <a:off x="3048120" y="2209680"/>
              <a:ext cx="2819160" cy="3429000"/>
              <a:chOff x="3048120" y="2209680"/>
              <a:chExt cx="2819160" cy="3429000"/>
            </a:xfrm>
          </p:grpSpPr>
          <p:sp>
            <p:nvSpPr>
              <p:cNvPr id="171" name=""/>
              <p:cNvSpPr/>
              <p:nvPr/>
            </p:nvSpPr>
            <p:spPr>
              <a:xfrm>
                <a:off x="3048120" y="2209680"/>
                <a:ext cx="2743200" cy="3429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48120" y="3962520"/>
                <a:ext cx="28191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3886200"/>
                <a:ext cx="28191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00400" y="32004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oreign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1360" y="4646520"/>
            <a:ext cx="8763120" cy="763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1080" y="5410080"/>
            <a:ext cx="8762760" cy="763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7600" y="1452600"/>
            <a:ext cx="876312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2280" y="3048120"/>
            <a:ext cx="8763120" cy="1520640"/>
            <a:chOff x="152280" y="3048120"/>
            <a:chExt cx="8763120" cy="1520640"/>
          </a:xfrm>
        </p:grpSpPr>
        <p:sp>
          <p:nvSpPr>
            <p:cNvPr id="179" name=""/>
            <p:cNvSpPr/>
            <p:nvPr/>
          </p:nvSpPr>
          <p:spPr>
            <a:xfrm>
              <a:off x="152280" y="3805200"/>
              <a:ext cx="8763120" cy="763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2280" y="3048120"/>
              <a:ext cx="8763120" cy="761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52280" y="2205000"/>
            <a:ext cx="8763120" cy="7621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A possible classification </a:t>
            </a:r>
            <a:br>
              <a:rPr sz="3800"/>
            </a:b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of total popul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3680" y="23623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22050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cou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b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9120" y="342432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1st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mig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02080" y="16048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 of bi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49200" y="14526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' pl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bi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11000" y="16146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22200" y="23572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44560" y="220500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t bir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11480" y="3070080"/>
            <a:ext cx="220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y natural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97320" y="364176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b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87640" y="36576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b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35200" y="39528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e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18840" y="4707000"/>
            <a:ext cx="1916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ation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t birth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y natural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35200" y="5622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e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88480" y="51814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ent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51814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b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1360" y="508644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2nd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mig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Immigrant background: advantag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Comprehensiv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nalytica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Comparisons (1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Imm-background vs. national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5800" y="1752480"/>
          <a:ext cx="7489800" cy="468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4898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Comparisons (2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Imm-background vs. foreig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39800" y="1752480"/>
          <a:ext cx="7489800" cy="468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1752480"/>
                    <a:ext cx="74898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Comparisons (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% of foreigners in imm.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85800" y="1905120"/>
          <a:ext cx="7794720" cy="45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79472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conclusions (1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581280" y="1676520"/>
            <a:ext cx="4723920" cy="1447560"/>
            <a:chOff x="3581280" y="1676520"/>
            <a:chExt cx="4723920" cy="1447560"/>
          </a:xfrm>
        </p:grpSpPr>
        <p:sp>
          <p:nvSpPr>
            <p:cNvPr id="216" name=""/>
            <p:cNvSpPr/>
            <p:nvPr/>
          </p:nvSpPr>
          <p:spPr>
            <a:xfrm>
              <a:off x="4977000" y="1676520"/>
              <a:ext cx="3328200" cy="1447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nge of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ce of reside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81280" y="2426760"/>
              <a:ext cx="150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62120" y="4038480"/>
            <a:ext cx="2895480" cy="1524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4038480"/>
            <a:ext cx="4647600" cy="1524240"/>
            <a:chOff x="3657600" y="4038480"/>
            <a:chExt cx="4647600" cy="1524240"/>
          </a:xfrm>
        </p:grpSpPr>
        <p:sp>
          <p:nvSpPr>
            <p:cNvPr id="220" name=""/>
            <p:cNvSpPr/>
            <p:nvPr/>
          </p:nvSpPr>
          <p:spPr>
            <a:xfrm>
              <a:off x="5030640" y="4038480"/>
              <a:ext cx="3274560" cy="1524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vid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racteristic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57600" y="4828680"/>
              <a:ext cx="147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conclusions (2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581280" y="1676520"/>
            <a:ext cx="4723920" cy="1447560"/>
            <a:chOff x="3581280" y="1676520"/>
            <a:chExt cx="4723920" cy="1447560"/>
          </a:xfrm>
        </p:grpSpPr>
        <p:sp>
          <p:nvSpPr>
            <p:cNvPr id="225" name=""/>
            <p:cNvSpPr/>
            <p:nvPr/>
          </p:nvSpPr>
          <p:spPr>
            <a:xfrm>
              <a:off x="4977000" y="1676520"/>
              <a:ext cx="3328200" cy="1447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pulation bala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2426760"/>
              <a:ext cx="150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762120" y="4038480"/>
            <a:ext cx="2895480" cy="1524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4038480"/>
            <a:ext cx="4647600" cy="1524240"/>
            <a:chOff x="3657600" y="4038480"/>
            <a:chExt cx="4647600" cy="1524240"/>
          </a:xfrm>
        </p:grpSpPr>
        <p:sp>
          <p:nvSpPr>
            <p:cNvPr id="229" name=""/>
            <p:cNvSpPr/>
            <p:nvPr/>
          </p:nvSpPr>
          <p:spPr>
            <a:xfrm>
              <a:off x="5030640" y="4038480"/>
              <a:ext cx="3274560" cy="1524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ltiple crite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57600" y="4828680"/>
              <a:ext cx="147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Three possible criter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Individual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Purpose of st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Duration of st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conclusions (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3048120"/>
            <a:ext cx="289548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3048120"/>
            <a:ext cx="29718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33526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733560" y="40384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1) Individual characterist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Foreig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Diplom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Milit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Foreign-b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2) Purpose of st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Lab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Asy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Family reun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Visitors/tour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3) Duration of st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3 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6 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1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A combined approa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A migrant is a person changing his/her place of usual res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Place of usual resid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On-going discuss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Objectiv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Subjectiv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6:51:34Z</dcterms:created>
  <dc:creator>bisogno enrico</dc:creator>
  <dc:description/>
  <dc:language>en-US</dc:language>
  <cp:lastModifiedBy>bisogno enrico</cp:lastModifiedBy>
  <dcterms:modified xsi:type="dcterms:W3CDTF">2005-01-24T07:52:30Z</dcterms:modified>
  <cp:revision>126</cp:revision>
  <dc:subject/>
  <dc:title>A shared approach to defining migrant populations: an uthopia?</dc:title>
</cp:coreProperties>
</file>