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373-59A9-4296-9E5E-A3F0CD2159A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EF4-4198-4ABA-8AF1-C104A638C94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743-3774-4B04-85EA-0F6D0CD1BD0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511C-BC64-4E2E-A6CB-2E4E9D13D40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919-6ADB-40E3-9480-E243CB859A5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EC3-FBA0-426C-9818-5D6D251779D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F9CD-0A0B-4085-AEFA-1A67E6D87BD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9C2-8A29-44BC-AADB-86F36509FD9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740A-7E78-4430-8F6C-BA35EF715E2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2E0-347C-480A-B7ED-53FAA12822C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758D-0072-48B1-9AB4-812E64C7672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834D-C33B-4C0B-80D3-224D78BDEFB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894-2F06-4F20-97FD-E684C36586B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F25-9548-4014-BAB4-08A53B0E40D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093-D4B7-4B0E-87FE-68E8BBB33D4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5FA7-FB13-43A1-AC48-58F86DD2EDD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55A3-F8AD-4A6F-B782-77640A2E9B6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692C-947B-4AF2-8B5C-EF0E8F71CA2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2023-FF88-41F0-936B-DABED6DD1C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5BEB-5A9D-4FE3-ABBB-D1682B3C5E8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AD9-DC43-4BE0-A595-2249DA17188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1CF-AB2A-4E7D-B991-7410CADDD39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216-FD63-49DC-A264-6F59FD35388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B588-D92B-4452-B3B8-DB8EF8C3B66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CAAF-4E3F-40F8-A565-7BD889449C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CEA0-C7DC-4CF5-A6C8-7921787D888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E33-B71D-4F1C-B007-24A93AADA93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5DC3-A59A-4C84-A97D-CF40D447FDF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CA71-90F6-4743-8CCD-DB54B62AD22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ИГРАЦИОННАЯ ПОЛИТИКА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ИТИКА ИНТЕ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ятница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8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правление миграцией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илеммы в странах приема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мпенсация (частичная) последствий старения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вет  на сокращение трудовых ресурс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рощение отношений со странами  происхожд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клад в дело национального соглас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щь в деле сохранения благополучия государств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d-hoc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шения в области политики и  программ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удовлетворяющие краткосрочным задачам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екущая политика не отвечает требованиям реальной ситуации в области миграции и мигрантского населения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лобализация экономик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мена государственного регулирования рынков труд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рос на неквалифицированную рабочую силу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рение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вет  путем ослабления ограничений ми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граммы временной ми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тенденции глобализации против  большей  опоры на местное сообщество и национализм (миграция рассматривается как негативное проявление глобализа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ращаясь к исходным причинам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льтернатива для более строгого контроля допуска в страну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не ясно, каким образом Программы помощи  государственному развитию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(ODA) могут сократить  миграцию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звитие будет стимулировать миграцию в ближайшей перспектив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Возможны) трения между странами происхождения и приема  из-за различий в целях  и мотив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им образ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ODA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ли зоны свободной торговли важны, но не могу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менить тщательно разработанной  миграционной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Чем мы хотим управлят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ходя из предположения, что миграция неизбежна, лучшее из того, что может быть сделано – это  применение такой политики, которая направляет и влияет на реальные потоки: эта политика требует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международного сотрудничеств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чег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ъект миграционной политики сегодня – это глобальный миграционный бизнес, охватывающий не только правительства и мигрантов, но также агентства по набору рабочей силы, туристические бюро,  фирмы- организаторы перевозок, юридические и адвокатские фирмы, торговцев людьми и так далее.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аконные и незаконные составляющие нуждаются в дифференцированном подход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овые стратегии управле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и задач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З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аконност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аксимизировать возможности и/ или выгоды мигрантов и минимизировать торговлю людьми и нелегальную миграцию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еспечить адекватные меры защиты и противодействия незаконной 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нтеграц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еспечить благоприятную среду для инте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Сотрудничеств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имулировать диалог и сотрудничество со странами происхожд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сточник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uncil of Europe, European Committee on Migration, 2002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1.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Меры для четко организованного управления миграцией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авильная и полная информационная база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формация для мигранто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правительственных организаций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научных) институтов,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циональных и местных властей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формация для потенциальных мигрантов в целях поощрения организованных потоко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ординация действий правительств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ординация между министерствами и между центральной и местной власть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ность в точной и своевременной  информации и в обмене и информ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ересмотр вопроса о природе требуемой информ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следствия и результаты  вместо процедур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Миграция как право человека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ожительный взгляд на миграцию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нятная и прозрачная политика в отношении прав и обязательст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гласование (гармонизация) процеду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олитика в области трудов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лгосрочное планирование затруднен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 частности, из-за экономических колебаний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обще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олитика противодействия нелегальной занятост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штрафы в отношении работодателей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каз в выдаче виз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имулирование реинтеграции безработны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рос на рабочую силу низкой квалифик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бел между отменой государственного регулирования и децентрализацией рынков труда   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пытками правительства остановить / или контролировать миграци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олитика в области трудов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рос на квалифицированную рабочую силу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имулирование роста занятости  местного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граммы временной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ординация действий  между  правительствами и общественными партнерам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Воссоединение семей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стоянство признания права воссоединения семь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практик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меет мест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ужение  этого прав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противодействия его неправильному использованию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ры, принятые на национальном и международном уровне для усиления  контроля над потоками  и более эффективного противодействия нелегальной миграции иностранцев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ИГРАЦИОННАЯ ПОЛИТИКА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редотвращение назаконн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нцентрация внимания на предотвращении незаконной миграции искажает полемику по общим вопросам управления мигр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законность может быть незапланированным побочным эффектом от   политики, проводимой  в других областях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отвращение нелегального въезда или нелегального пребывания (и продления срока пребыва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ампании по регуляриз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м свойственны только краткосрочные решени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ля предотвращения возникновения маргинальных классов и из соображений безопас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работанные в деталях стратегии возвращения и «циркуляци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ность в данных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мен информ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2. 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Защита и возвращение</a:t>
            </a: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щита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егство от конфликтов с применением насилия смешивается с применением процедур  предоставления убежища экономическим мигрантам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рудно провести разграничения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ок альтернатив для трудов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литика возвращения неэффективн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Центральный вопрос: как  обеспечить адекватной защитой беженцев и лиц, ищущих убежище, одновременно управляя миграцией в соответствии  с национальными приоритета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щита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еры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дотвращение доступа  и приема заявлений о предоставлении убежищ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изовые схемы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штрафы в отношении компаний, занимающихся перевозкой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граничный контроль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едварительная проверк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задержание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центры приема вне страны назначен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еменная защит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Каким образом можно связать защиту с управлением миграцией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иалог по вопросам защиты беженце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Глобальные консультации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иалог по вопросам мигр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ернская инициатив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региональные консульт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Возвращение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екущая (современная) политика возвращения неэффективна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гральный подход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иалог между странами происхождения и в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глашения по вопросам возвращения и ре-адмисс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обровольное возвращение и возвращение с привлечением помощ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3. 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Интеграция</a:t>
            </a: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илия, прилагаемые для того, чтобы подчеркнуть положительную роль  иммигрантов  в принимающем обществе, разрушаются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вышенным вниманием, уделяемым  контролю  при въезде и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упредительным мероприятиям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итуация в принимающих обществах не способствует  восприятию положительного подхода  к интеграции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искриминац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пропорциональная безработиц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щественные запреты (недопущение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раждебность со стороны обществ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Требования к успешной инте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аптация со стороны 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аптация со стороны принимающего обществ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екватные  стратегии общения между группами населения и, в свою очередь, между ними и правительств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менты политики инте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езопасное проживан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ступ к работе и социальным служба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языковая подготов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ширение гражданских и политических пра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турализация, осуществляемая доступным и справедливым пу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ры противодействия дискримин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ординация и диалог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воевременная и точная информ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Каким образом разрабатывать </a:t>
            </a:r>
            <a:r>
              <a:rPr b="0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эффективные стратегии интеграции</a:t>
            </a:r>
            <a:r>
              <a:rPr b="0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теграция не может диктоваться правительствам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о они должны вести  за собой и влиять на  общественное мнение, а не  следовать за ни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разование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оздание довер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лияние на общественную дискуссию с помощью фактов  взамен предубеждений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странение причин маргинализации групп им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Управление миграцией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щательно проработанная политика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алог между регионами и и гармонизация (согласование) политик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алог и сотрудничество между странами происхождения и вселен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требность в своевременной и точной информации для подготовки и оценки политики и информирования общественной дискуссии.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ры, принятые на национальном уровне для обеспечения интеграции мигрантов в принимающей стран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ИТИКА ИНТЕГРАЦИИ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Концепция управления миграцией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равление миграцие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«подразумевает ряд мер, необходимых для эффективного  воздействия на проблемы миграции на национальном, региональном и глобальном уровнях. Оно включает в себя политику, законодательные акты и администрирование в области проблем миграции и способствует лучшем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ю».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2003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Целю являются: четкие и понятные  политика, законы и административные методы для обеспечения того, чтобы миграция  населения осуществлялась  к взаимной выгоде мигрантов, общества и правительств.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аким образом управлять миграцией для максимизации ее положительных и минимизации отрицательных последствий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роблема сегодн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Обзор миграционной политики в разных странах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Ш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ммиграция на основе требований, предъявляемых к квалификаци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жегодная квота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850,000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легальных фактов прибытия на постоянное жительство ежегодно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1,535,000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временных виз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сле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9/11/2001: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олее строгий пограничный контроль,  меньше виз, меньше беженцев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анад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ммиграция на основе требований, предъявляемых к квалификаци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жегодная квот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227,000 </a:t>
            </a:r>
            <a:r>
              <a:rPr b="0" lang="ru-RU" sz="1900" spc="-1" strike="noStrike">
                <a:solidFill>
                  <a:srgbClr val="ffff99"/>
                </a:solidFill>
                <a:latin typeface="Arial"/>
              </a:rPr>
              <a:t>фактов законного въезда на постоянное жительство ежегодно 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AFTA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(Североамериканское соглашение по свободной торговле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езначительное влияние на миграцию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раны Евросоюз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ногие страны озабочены проблемой собственной национальной самобытности, и миграция рассматривается как фактор риск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уществующая модель полити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акрытие границ для трудов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тие политики интеграции,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 неудачными оказываются попытки обеспечить возвращение тех, кому отказано в разрешении на пребывани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ок согласия между всеми участвующими сторон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 ho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инимаемая на данный случай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итика с неблагоприятными побочными эффект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сточная и Центральная Европ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овая распространяющаяся система миграци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но контролируема из-за масштаб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чрезвычайная ситуация на Балканах,  Ближнем Восток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вление на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истему предоставления убежищ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ры временной защиты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,  но : продолжение функционирования системы зависит от эффективной стратегии возвратной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з-за декларируемых отрицательных последствий миграции  40% всех государств в настоящее время имеют политику, направленную на сокращение иммиграции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25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ет наза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6%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8T07:23:38Z</dcterms:modified>
  <cp:revision>352</cp:revision>
  <dc:subject>BuZa werkconferentie 25-02-2004</dc:subject>
  <dc:title>OS en migratie</dc:title>
</cp:coreProperties>
</file>