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8160" y="747720"/>
            <a:ext cx="4919760" cy="368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5E20-1AB5-42EF-9A20-F88D8BCD1EBF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9966-8F95-465D-9B8C-30566F7D9C3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2A62-AC0D-4B37-8F59-141D0AF5E49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5153-18FA-4A6A-8CE4-8FDEB9B7FC8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37AF-BEB5-4649-9358-414CA4672FD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31A0-E4F3-4ED3-A376-4F01428AB05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95B9-2130-4C61-A98A-73A9468BE73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F83F-50D6-4703-949B-FC8702487782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951D-BDC7-4172-A7DE-36D2D78559A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87F5-BC98-4AE1-B48C-109AC88BBB0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5583-ED7B-4555-8594-B267EE74A61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CFBB-76D4-49D2-88FE-37954C09F23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BA05-47F2-4D22-8FF5-B55EDBA1B82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907A-D50F-4CF0-806B-DCD4D9771CD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8866-1B43-4691-B05F-D72682833192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6CBF-7D22-413E-8A18-F2FB11BD94C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4EF8-DC26-41CD-B7D7-63DC341383F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6BFB-BEDE-4BD8-A28C-EBC12BB115F6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13ED-9AEF-49C6-A80E-D9C7D1D585B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F833-DA53-4719-A96F-47BC70D3124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A003-F13B-4294-A0E0-F68B185ACB3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2E08-C7EF-414E-888D-E8B217A5460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1276-921C-49AF-B62F-E5726525A95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995D-5338-41D8-B018-B2277A530CC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3F2B-018D-4ED3-BC02-01D3FAB58B4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9949-DAEC-4D98-A263-0B72CFBD7D6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9DB8-D1BE-4A85-8F54-EF2C12F6912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7CBE-7741-4676-8BDE-6515A3CF860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D0FC-4BBE-4613-ADA1-AE396C9816B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95280" y="533520"/>
            <a:ext cx="769644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6320" y="152280"/>
            <a:ext cx="1098360" cy="8668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219320" y="15228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66"/>
                </a:solidFill>
                <a:latin typeface="Arial"/>
              </a:rPr>
              <a:t>UNFPA/UNECE/NIDI Training programme on international migration, Geneva, 24-28/01/2005 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59092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МИГРАЦИОННАЯ ПОЛИТИКА</a:t>
            </a:r>
            <a:br>
              <a:rPr sz="3200"/>
            </a:b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И</a:t>
            </a:r>
            <a:br>
              <a:rPr sz="3200"/>
            </a:b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ПОЛИТИКА ИНТЕГРАЦИИ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10825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Пятница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28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января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заседание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2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управление миграцией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Дилеммы в странах приема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компенсация (частичная) последствий старения населения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твет  на сокращение трудовых ресурсо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упрощение отношений со странами  происхождения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клад в дело национального согласия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омощь в деле сохранения благополучия государств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ad-hoc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решения в области политики и  программы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удовлетворяющие краткосрочным задачам политик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9280" y="907560"/>
            <a:ext cx="8964720" cy="57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Текущая политика не отвечает требованиям реальной ситуации в области миграции и мигрантского населения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глобализация экономик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тмена государственного регулирования рынков труд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прос на неквалифицированную рабочую силу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тарение населения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твет  путем ослабления ограничений миграции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ограммы временной миграции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о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тенденции глобализации против  большей  опоры на местное сообщество и национализм (миграция рассматривается как негативное проявление глобализации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Обращаясь к исходным причинам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Альтернатива для более строгого контроля допуска в страну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Но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 не ясно, каким образом Программы помощи  государственному развитию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(ODA) могут сократить  миграцию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Развитие будет стимулировать миграцию в ближайшей перспективе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(Возможны) трения между странами происхождения и приема  из-за различий в целях  и мотивации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Таким образом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 ODA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ли зоны свободной торговли важны, но не могу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заменить тщательно разработанной  миграционной политик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Чем мы хотим управлять</a:t>
            </a:r>
            <a:r>
              <a:rPr b="0" i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?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сходя из предположения, что миграция неизбежна, лучшее из того, что может быть сделано – это  применение такой политики, которая направляет и влияет на реальные потоки: эта политика требует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международного сотрудничеств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ля чего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Объект миграционной политики сегодня – это глобальный миграционный бизнес, охватывающий не только правительства и мигрантов, но также агентства по набору рабочей силы, туристические бюро,  фирмы- организаторы перевозок, юридические и адвокатские фирмы, торговцев людьми и так далее.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Законные и незаконные составляющие нуждаются в дифференцированном подходе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Новые стратегии управления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инципы и задачи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99"/>
                </a:solidFill>
                <a:latin typeface="Arial"/>
              </a:rPr>
              <a:t>1.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З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аконность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Максимизировать возможности и/ или выгоды мигрантов и минимизировать торговлю людьми и нелегальную миграцию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99"/>
                </a:solidFill>
                <a:latin typeface="Arial"/>
              </a:rPr>
              <a:t>2.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Защит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Обеспечить адекватные меры защиты и противодействия незаконной миграции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99"/>
                </a:solidFill>
                <a:latin typeface="Arial"/>
              </a:rPr>
              <a:t>3.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Интеграция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Обеспечить благоприятную среду для интеграции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99"/>
                </a:solidFill>
                <a:latin typeface="Arial"/>
              </a:rPr>
              <a:t>4.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Сотрудничество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Стимулировать диалог и сотрудничество со странами происхождения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Источник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Council of Europe, European Committee on Migration, 2002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 u="sng">
                <a:solidFill>
                  <a:srgbClr val="ffff66"/>
                </a:solidFill>
                <a:uFillTx/>
                <a:latin typeface="Arial"/>
              </a:rPr>
              <a:t>1. </a:t>
            </a:r>
            <a:r>
              <a:rPr b="0" i="1" lang="ru-RU" sz="3000" spc="-1" strike="noStrike" u="sng">
                <a:solidFill>
                  <a:srgbClr val="ffff66"/>
                </a:solidFill>
                <a:uFillTx/>
                <a:latin typeface="Arial"/>
              </a:rPr>
              <a:t>Меры для четко организованного управления миграцией </a:t>
            </a:r>
            <a:endParaRPr b="0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равильная и полная информационная база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Информация для мигрантов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Неправительственных организаций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(научных) институтов,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национальных и местных властей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Информация для потенциальных мигрантов в целях поощрения организованных потоков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Координация действий правительств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Координация между министерствами и между центральной и местной властью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отребность в точной и своевременной  информации и в обмене и информацией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ересмотр вопроса о природе требуемой информаци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оследствия и результаты  вместо процедур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ffff66"/>
                </a:solidFill>
                <a:uFillTx/>
                <a:latin typeface="Arial"/>
              </a:rPr>
              <a:t>Миграция как право человека</a:t>
            </a:r>
            <a:endParaRPr b="0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6858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оложительный взгляд на миграцию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онятная и прозрачная политика в отношении прав и обязательст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огласование (гармонизация) процедур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ffff66"/>
                </a:solidFill>
                <a:uFillTx/>
                <a:latin typeface="Arial"/>
              </a:rPr>
              <a:t>Политика в области трудовой миграции</a:t>
            </a:r>
            <a:endParaRPr b="0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олгосрочное планирование затруднено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в частности, из-за экономических колебаний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 общем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политика противодействия нелегальной занятост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штрафы в отношении работодателей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отказ в выдаче виз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стимулирование реинтеграции безработных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прос на рабочую силу низкой квалификаци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робел между отменой государственного регулирования и децентрализацией рынков труда   и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опытками правительства остановить / или контролировать миграцию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ffff66"/>
                </a:solidFill>
                <a:uFillTx/>
                <a:latin typeface="Arial"/>
              </a:rPr>
              <a:t>Политика в области трудовой миграции</a:t>
            </a:r>
            <a:endParaRPr b="0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Спрос на квалифицированную рабочую силу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тимулирование роста занятости  местного населения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рограммы временной миграци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координация действий  между  правительствами и общественными партнерам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ffff66"/>
                </a:solidFill>
                <a:uFillTx/>
                <a:latin typeface="Arial"/>
              </a:rPr>
              <a:t>Воссоединение семей</a:t>
            </a:r>
            <a:endParaRPr b="0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остоянство признания права воссоединения семьи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на практике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меет место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ужение  этого права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ля противодействия его неправильному использованию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Меры, принятые на национальном и международном уровне для усиления  контроля над потоками  и более эффективного противодействия нелегальной миграции иностранцев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МИГРАЦИОННАЯ ПОЛИТИКА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ffff66"/>
                </a:solidFill>
                <a:uFillTx/>
                <a:latin typeface="Arial"/>
              </a:rPr>
              <a:t>Предотвращение назаконной миграции</a:t>
            </a:r>
            <a:endParaRPr b="0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Концентрация внимания на предотвращении незаконной миграции искажает полемику по общим вопросам управления миграцией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незаконность может быть незапланированным побочным эффектом от   политики, проводимой  в других областях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редотвращение нелегального въезда или нелегального пребывания (и продления срока пребывания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кампании по регуляризации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им свойственны только краткосрочные решения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для предотвращения возникновения маргинальных классов и из соображений безопасности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роработанные в деталях стратегии возвращения и «циркуляции»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отребность в данных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бмен информацией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 u="sng">
                <a:solidFill>
                  <a:srgbClr val="ffff66"/>
                </a:solidFill>
                <a:uFillTx/>
                <a:latin typeface="Arial"/>
              </a:rPr>
              <a:t>2.  </a:t>
            </a:r>
            <a:r>
              <a:rPr b="0" i="1" lang="ru-RU" sz="3000" spc="-1" strike="noStrike" u="sng">
                <a:solidFill>
                  <a:srgbClr val="ffff66"/>
                </a:solidFill>
                <a:uFillTx/>
                <a:latin typeface="Arial"/>
              </a:rPr>
              <a:t>Защита и возвращение</a:t>
            </a:r>
            <a:r>
              <a:rPr b="0" i="1" lang="en-GB" sz="30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Защита</a:t>
            </a:r>
            <a:r>
              <a:rPr b="0" lang="en-GB" sz="2400" spc="-1" strike="noStrike" u="sng">
                <a:solidFill>
                  <a:srgbClr val="ffff99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Бегство от конфликтов с применением насилия смешивается с применением процедур  предоставления убежища экономическим мигрантам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трудно провести разграничения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недостаток альтернатив для трудовой миграции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олитика возвращения неэффективна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Центральный вопрос: как  обеспечить адекватной защитой беженцев и лиц, ищущих убежище, одновременно управляя миграцией в соответствии  с национальными приоритетами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Защита</a:t>
            </a:r>
            <a:r>
              <a:rPr b="0" lang="en-GB" sz="2400" spc="-1" strike="noStrike" u="sng">
                <a:solidFill>
                  <a:srgbClr val="ffff99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Меры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редотвращение доступа  и приема заявлений о предоставлении убежища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224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визовые схемы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штрафы в отношении компаний, занимающихся перевозкой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пограничный контроль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;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предварительная проверка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задержание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центры приема вне страны назначения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временная защита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Каким образом можно связать защиту с управлением миграцией: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диалог по вопросам защиты беженцев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Глобальные консультации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диалог по вопросам миграции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Бернская инициатива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региональные консультации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09120" y="119664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Возвращение</a:t>
            </a:r>
            <a:r>
              <a:rPr b="0" lang="en-GB" sz="2800" spc="-1" strike="noStrike" u="sng">
                <a:solidFill>
                  <a:srgbClr val="ffff99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текущая (современная) политика возвращения неэффективна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нтегральный подход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иалог между странами происхождения и вселения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соглашения по вопросам возвращения и ре-адмиссии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добровольное возвращение и возвращение с привлечением помощи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 u="sng">
                <a:solidFill>
                  <a:srgbClr val="ffff66"/>
                </a:solidFill>
                <a:uFillTx/>
                <a:latin typeface="Arial"/>
              </a:rPr>
              <a:t>3.  </a:t>
            </a:r>
            <a:r>
              <a:rPr b="0" i="1" lang="ru-RU" sz="3000" spc="-1" strike="noStrike" u="sng">
                <a:solidFill>
                  <a:srgbClr val="ffff66"/>
                </a:solidFill>
                <a:uFillTx/>
                <a:latin typeface="Arial"/>
              </a:rPr>
              <a:t>Интеграция</a:t>
            </a:r>
            <a:r>
              <a:rPr b="0" i="1" lang="en-GB" sz="30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Усилия, прилагаемые для того, чтобы подчеркнуть положительную роль  иммигрантов  в принимающем обществе, разрушаются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овышенным вниманием, уделяемым  контролю  при въезде и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редупредительным мероприятиям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итуация в принимающих обществах не способствует  восприятию положительного подхода  к интеграции.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дискриминация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непропорциональная безработица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общественные запреты (недопущение)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враждебность со стороны общества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Требования к успешной интеграции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391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адаптация со стороны мигрантов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адаптация со стороны принимающего общества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адекватные  стратегии общения между группами населения и, в свою очередь, между ними и правительством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094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Элементы политики интеграции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безопасное проживани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оступ к работе и социальным службам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языковая подготовк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расширение гражданских и политических пра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натурализация, осуществляемая доступным и справедливым путе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еры противодействия дискриминаци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Координация и диалог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своевременная и точная информация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Каким образом разрабатывать </a:t>
            </a:r>
            <a:r>
              <a:rPr b="0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0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эффективные стратегии интеграции</a:t>
            </a:r>
            <a:r>
              <a:rPr b="0" i="1" lang="en-GB" sz="2800" spc="-1" strike="noStrike" u="sng">
                <a:solidFill>
                  <a:srgbClr val="ffff66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нтеграция не может диктоваться правительствами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о они должны вести  за собой и влиять на  общественное мнение, а не  следовать за ним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образование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создание доверия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влияние на общественную дискуссию с помощью фактов  взамен предубеждений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Устранение причин маргинализации групп иммигрантов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Управление миграцией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Тщательно проработанная политика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Диалог между регионами и и гармонизация (согласование) политики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Диалог и сотрудничество между странами происхождения и вселения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Потребность в своевременной и точной информации для подготовки и оценки политики и информирования общественной дискуссии.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43000" y="182844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Меры, принятые на национальном уровне для обеспечения интеграции мигрантов в принимающей стране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ПОЛИТИКА ИНТЕГРАЦИИ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Концепция управления миграцией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Управление миграцией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«подразумевает ряд мер, необходимых для эффективного  воздействия на проблемы миграции на национальном, региональном и глобальном уровнях. Оно включает в себя политику, законодательные акты и администрирование в области проблем миграции и способствует лучшему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равлению».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ОМ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, 2003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Целю являются: четкие и понятные  политика, законы и административные методы для обеспечения того, чтобы миграция  населения осуществлялась  к взаимной выгоде мигрантов, общества и правительств.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62120" y="2133360"/>
            <a:ext cx="76197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Каким образом управлять миграцией для максимизации ее положительных и минимизации отрицательных последствий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Проблема сегодня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Обзор миграционной политики в разных странах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США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Иммиграция на основе требований, предъявляемых к квалификации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Ежегодная квота 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850,000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легальных фактов прибытия на постоянное жительство ежегодно 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1,535,000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временных виз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После 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 9/11/2001: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более строгий пограничный контроль,  меньше виз, меньше беженцев 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Канада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Иммиграция на основе требований, предъявляемых к квалификации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Ежегодная квота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227,000 </a:t>
            </a:r>
            <a:r>
              <a:rPr b="0" lang="ru-RU" sz="1900" spc="-1" strike="noStrike">
                <a:solidFill>
                  <a:srgbClr val="ffff99"/>
                </a:solidFill>
                <a:latin typeface="Arial"/>
              </a:rPr>
              <a:t>фактов законного въезда на постоянное жительство ежегодно </a:t>
            </a:r>
            <a:endParaRPr b="0" lang="en-US" sz="19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NAFTA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(Североамериканское соглашение по свободной торговле)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Незначительное влияние на миграцию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Страны Евросоюза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Многие страны озабочены проблемой собственной национальной самобытности, и миграция рассматривается как фактор риска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Существующая модель политики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Закрытие границ для трудовой миграции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Развитие политики интеграции,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но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  неудачными оказываются попытки обеспечить возвращение тех, кому отказано в разрешении на пребывание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Проблемы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Недостаток согласия между всеми участвующими сторонами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 ho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принимаемая на данный случай)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итика с неблагоприятными побочными эффектами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52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Восточная и Центральная Европа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новая распространяющаяся система миграции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трудно контролируема из-за масштабо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чрезвычайная ситуация на Балканах,  Ближнем Востоке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давление на 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систему предоставления убежища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еры временной защиты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,  но : продолжение функционирования системы зависит от эффективной стратегии возвратной миграции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447920" y="159984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з-за декларируемых отрицательных последствий миграции  40% всех государств в настоящее время имеют политику, направленную на сокращение иммиграции 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(25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лет назад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6%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4T07:19:21Z</dcterms:created>
  <dc:creator>Jeannette Schoorl</dc:creator>
  <dc:description/>
  <dc:language>en-US</dc:language>
  <cp:lastModifiedBy>user</cp:lastModifiedBy>
  <cp:lastPrinted>2004-02-25T07:11:58Z</cp:lastPrinted>
  <dcterms:modified xsi:type="dcterms:W3CDTF">2005-04-28T07:23:38Z</dcterms:modified>
  <cp:revision>352</cp:revision>
  <dc:subject>BuZa werkconferentie 25-02-2004</dc:subject>
  <dc:title>OS en migratie</dc:title>
</cp:coreProperties>
</file>