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0F2-61A4-4151-9AF0-4404C4A9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73E-321E-4247-87C1-7E738579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2F3-F552-40A1-B3A4-F1F56435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A6B-D361-4297-9E05-00F56125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101-6098-4BB8-8681-7CA07E6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C90-9E12-40BB-BFEE-EB97FAE3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4DB-C5CC-4A63-886D-581495EB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58F-3DC2-4935-B2B9-A709E198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AE4-428F-4033-AEC5-52C9DDC9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922-2CCF-4240-89A8-659F5EA5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CFA-744C-418E-ABBD-B3B4092C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668-BF9C-4295-B496-AB293A7D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Arial"/>
              </a:rPr>
              <a:t>UNFPA/UNECE/NIDI: Training on international migration, Haug, January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0423-1ED7-42F5-B473-1583615952D1}" type="slidenum">
              <a:rPr b="0" lang="fr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блемы миграционной политики в странах эмигра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ер Ха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ректор Отдела изучения и  и обследований населения, Федеральное статистическое агентство Швейца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Werner.Haug@bfs.admin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ост населения и эмиграция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 стран у эмиграции (равно, как и иммиграции!) находится также под влиянием общих тенденций динамики населения и естественного прироста населения в особенности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, теряющие население из-за отрицательного естественного прироста, часто имеют более негативное отношение к эмиграции, чем страны, в которых население увеличивается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государства чаще всего нейтрально относятся к эмиг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ост населения по компонентам</a:t>
            </a:r>
            <a:r>
              <a:rPr b="0" lang="fr-CH" sz="2400" spc="-1" strike="noStrike">
                <a:solidFill>
                  <a:srgbClr val="333399"/>
                </a:solidFill>
                <a:latin typeface="Arial"/>
              </a:rPr>
              <a:t>, 2003/04  </a:t>
            </a:r>
            <a:r>
              <a:rPr b="0" lang="fr-CH" sz="1000" spc="-1" strike="noStrike">
                <a:solidFill>
                  <a:srgbClr val="333399"/>
                </a:solidFill>
                <a:latin typeface="Arial"/>
              </a:rPr>
              <a:t>(Haug/</a:t>
            </a:r>
            <a:r>
              <a:rPr b="0" lang="fr-CH" sz="1200" spc="-1" strike="noStrike">
                <a:solidFill>
                  <a:srgbClr val="333399"/>
                </a:solidFill>
                <a:latin typeface="Arial"/>
              </a:rPr>
              <a:t>EUROSTAT/UN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341360"/>
          <a:ext cx="8785440" cy="5102280"/>
        </p:xfrm>
        <a:graphic>
          <a:graphicData uri="http://schemas.openxmlformats.org/drawingml/2006/table">
            <a:tbl>
              <a:tblPr/>
              <a:tblGrid>
                <a:gridCol w="1398600"/>
                <a:gridCol w="1555920"/>
                <a:gridCol w="1520640"/>
                <a:gridCol w="1435320"/>
                <a:gridCol w="1411200"/>
                <a:gridCol w="146376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стественный прирост отрица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отрицательна, естественный прирост положительный</a:t>
                      </a:r>
                      <a:r>
                        <a:rPr b="0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положительная, естественный прирост отрица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стественный прирост положи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положительная, естественный прирост отрица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отрицательна, естественный прирост полож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га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мы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вшая республика Югослав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дония</a:t>
                      </a: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б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ыргыз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е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ва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г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ая Феде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ь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лянд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ланд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ксембур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ве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дерла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уг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йца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ное Королев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ак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шская респуб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ланд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зиция стран может быстро изменяться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я стран может быстро измениться под влиянием экономических и демографических тенденций. Все страны одновременно являются странами эмиграции и иммиграции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ные тенденции в Российской Федерации и Словакии: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1990-х Словакия имела положительную чистую миграцию, РФ является страной с положительной чистой миграцией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кия  стала страной с положительной чистой иммиграцией иностранцев в 2003 г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ая Федерация может стать страной с отрицательной чистой эмиграцией иностранцев в будущем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истая миграция в России и Словакии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, 1995-2002 </a:t>
            </a:r>
            <a:r>
              <a:rPr b="0" lang="fr-CH" sz="1600" spc="-1" strike="noStrike">
                <a:solidFill>
                  <a:srgbClr val="333399"/>
                </a:solidFill>
                <a:latin typeface="Arial"/>
              </a:rPr>
              <a:t>(Salt, 2003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611360"/>
            <a:ext cx="82296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зможные отрицательные последствия эмигра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ение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ытие молодого и экономически активного населения)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чка умов, выбытие элит и потеря человеческого кап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популяция с последствиями для возможностей занятости, общественной инфраструктуры, налогов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ое развитие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ые переводы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)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вномерное региональное развитие (быстрая урбанизация, депопуляция в сельской местности и т.д.)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культурного и языкового разно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лияние эмиграции на возрастную структуру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лбания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2000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резвычайно низкие удельные веса детей в районах эмиграции Юга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INSTAT 2004b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16002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лияние эмиграции на возрастную структуру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лбания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2000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резвычайно высокие удельные веса пожилого населения в районах эмиграции  Юга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INSTAT 2004b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1600200"/>
            <a:ext cx="4091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лияние эмиграции на возрастную структуру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лбания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2000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резвычайно высокие относительные показатели числа пожилых иждивенцев (коэффициенты зависимости) в районах эмиграции Юга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INSTAT 2004b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960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еравномерное региональное развитие из-за миграци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лбания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рицательный прирост населения в стране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лоссальное увеличение населения в столичной области Тираны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INSTAT 2004b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26160" cy="43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172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еравномерное региональное развитие из-за миграци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ыргызстан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нутренняя миграция из высокогорных районов периферии в северную столичную область Бишкека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 (NSC, 2004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84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денции миграции и политика в отношении эми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ицательные (и положительные) последствия эмиграции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 по Албании и Кыргызс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 и варианты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эмигр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/усиление эми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нная миг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ация через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ение граждан своей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отношения с диаспо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ые пере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тво миграции 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о объемам, типам и мотивам выбыт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е, проживающие за рубежом, возвратная миграция и вклад эмиграции в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толичные области как  зоны транзита и эмиграции международных мигрантов.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ыргызстан: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ольше внешних потерь, чем внутреннего прироста,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собенно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еверной столичной области Бишкека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NSC, 2004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20840" y="1600200"/>
            <a:ext cx="6500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зменение этнического состава из-за миграции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ыргызстан: внутренняя миграция кыргызов из горных районов замещает русских эмигрантов в столичной зоне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, 1989-1999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NSC, 2004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327320" y="1600200"/>
            <a:ext cx="648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течка умов посредством миграци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имеры Кыргызстана и Албан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вая выбытий, как правило, имеет форму буквы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ависимости от  квалификации и человеческого капитала. Представители элит эмигрируют намного чаще, так же как и лица с низким уровнем квалификации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ыргызстан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: 300’00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сских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(1/3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сского населения на момент переписи 1989 г.)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инули страну  за период с 1989 по 1999 гг.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гие из них –экономически активное население с высшим и средним образованием, занимали руководящие должности в промышленности, образовании и науке, общественном секторе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бания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: 40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а исследовательских центров и институтов культуры покинули страну между 1991 и 1998, так же, как 60% всех преподавателей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ужское население со специальным средним образованием сократилось на 21% между 1989 и 2001 гг. , а мужское население с высшим образованием – на 13%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зможные положительные последствия 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мигра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числа безработных и  нагрузки на социальные службы и инфраструк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 дохода домохозяйства и качества  жизни эмигрантов и (посредством денежных переводов) не мигрировавших членов домохозя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потребления, инвестиций, приток  иностранной валюты и улучшение платежного баланса с помощью денежных перев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торговли и транснациональных  отношений посредством сетей диа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ток умов» вместе с обученными, состоятельными и обладающими новаторским мышлением возвратными мигра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лабление этнических и языковых  напряженностей и кон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екоторые общие принципы политики для стран эмиграции</a:t>
            </a:r>
            <a:br>
              <a:rPr sz="2800"/>
            </a:b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200" spc="-1" strike="noStrike">
                <a:solidFill>
                  <a:srgbClr val="333399"/>
                </a:solidFill>
                <a:latin typeface="Arial"/>
              </a:rPr>
              <a:t>(HAUG, based on International Agenda for Migration Management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, 2004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улируемый отток мигрантов представляет собой общий интерес для стран выхода и вселения,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регулируемый отток создает проблемы для обеих стор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вратная миграция граждан своей страны - оборотная сторона медали, она является базовым правом человека и может внести вклад в развит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ы эмиграции должны нести ответственность за своих граждан, находящихся за рубеж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ременная и «круговая» миграция могут сократить нагрузку  от постоянной эмиг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итика в отношении гражданства и интеграции может предотвратить эмиграцию иностранцев и меньшин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споры и транснациональные сети важны для возвратной миграции, обучения, торговли и инвести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собые направления политик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эмигр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ные пути эмиграции и возвращения граждан сво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упреждение оттока иностранцев и меньшин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возвращения граждан сво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посредством 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правление политики: защита эмигрантов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полный список проблем и инструментов</a:t>
            </a:r>
            <a:r>
              <a:rPr b="0" i="1" lang="fr-CH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я и обучение выбыв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ульская поддержка за рубеж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атическая поддержка эмигрантов и диасп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сторонние соглашения по защите прав человека и против эксплуатации и дискриминации мигра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сторонние соглашения по  защите и правам граждан своих ст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правление политик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ные пут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миграции и возвращения граждан свой страны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ость и обеспечение паспортами и доку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еральные визовые режимы, основанные на взаим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ые, доступные и прозрачные каналы эмиг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с преступными сообществами, занимающимся контрабандой и торговлей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сторонние и многосторонние соглашения о правилах въезда, пребывания и возвращения граждан свой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правление политики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упреждение эмиграции иностранцев и меньшинств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 к гражданству для лиц, длительное время проживающих в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ние двойного гражд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ое законодательство и политика в отношении равного отношения и против дискриминации, основанной на признаках гражданства, расы, принадлежности к различным  этническим или национальным групп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тика, благоприятствующая культурному, языковому и религиозному многообраз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правление политик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ддержка возвращения граждан свой страны (соотечественников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к к гражданству для бывших гражд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ы к возвращению: финансовые, экономические и  воссоединение сем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 ре-интеграции эмигрантов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, обучение, равное отношение)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 для временно выехав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играция и политика в отношении эмиграции, Центральная Европа и страны Балтии</a:t>
            </a: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точник: </a:t>
            </a: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Haug/UN Population Division, International Migration/World Population Policies, 2003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268280"/>
          <a:ext cx="8820360" cy="4994280"/>
        </p:xfrm>
        <a:graphic>
          <a:graphicData uri="http://schemas.openxmlformats.org/drawingml/2006/table">
            <a:tbl>
              <a:tblPr/>
              <a:tblGrid>
                <a:gridCol w="1152720"/>
                <a:gridCol w="1288800"/>
                <a:gridCol w="1595520"/>
                <a:gridCol w="1809720"/>
                <a:gridCol w="1443240"/>
                <a:gridCol w="1530360"/>
              </a:tblGrid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мигрантов в</a:t>
                      </a: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 </a:t>
                      </a:r>
                      <a:r>
                        <a:rPr b="0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0/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на</a:t>
                      </a: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я</a:t>
                      </a: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95-20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политики к миг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ирование возвращения граждан своей стр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га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г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мы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ак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правление политики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тие посредством мигра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безопасных, быстрых и доступных финансовых трансакций и коммуникаций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ограмм кредитования и инвестиций для семей мигрантов и возвратных мигр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взаимного партнерства в  вопросах миграции и развития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рация для обучения и образования, миграция для торговли, миграция для культурного обмена, добровольное или принудительное возвращение  и повторное обустройство)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олитики для регионального развития и предотвращения регр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правление политики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бор и анализ данных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данных о выбывающих и возвратных мигрантах по  возрасту, полу, уровню образования и профессиональной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данных о численности граждан своей страны, проживающих за границей, мотивах и условиях возвра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данных по дискриминации и недопущению иностранцев и меньшин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влияния эмиграции на демографию, экономику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данных по финансовым потокам (переводам) и оценка их влияния на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которые проблемы и противоречия в реальном мир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 интересов между странами эмиграции и иммиграции (конкуренция за человеческий капитал и контроль над миграционными потока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 интересов  между эмигрирующими индивидами и государством (налогообложение, нелегальная миграц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 интересов между строительством нации и культурным разнообразием (культурная однородность против человеческого капит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ые государства  с очень ограниченными ресурсами для проведения  политики и программ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нная преступность, коррупция, пограничный контр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ое влияние экономических циклов,  макроэкономических и политических потрясений на национальную миграционную полит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сылк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urostat, News Release, 1/5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STAT, Migration in Albania, Results of the 2001 Population and Housing Census, Tirana, 200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STAT, Albanian Population Census Atlas, Tirana, 200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National Statistical Committee of the Kyrgyz Republic, Mountain Atlas of Kyrgyzstan, Bishkek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OM/Berne Initative, International Agenda for Migration Management, Berne, December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alt John, Trends in International Migration, Council of Europe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United Nations, World Population Policies 2003, New Y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United Nations, International Migration, New Y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играция и политика в отношении эмиграции</a:t>
            </a: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сточная Европа и Центральная Азия</a:t>
            </a:r>
            <a:br>
              <a:rPr sz="2400"/>
            </a:b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точник: </a:t>
            </a: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Haug/UN Population Division, International Migration/World Population Policies, 2003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95280" y="981000"/>
          <a:ext cx="8497800" cy="5184360"/>
        </p:xfrm>
        <a:graphic>
          <a:graphicData uri="http://schemas.openxmlformats.org/drawingml/2006/table">
            <a:tbl>
              <a:tblPr/>
              <a:tblGrid>
                <a:gridCol w="1487520"/>
                <a:gridCol w="976320"/>
                <a:gridCol w="1179360"/>
                <a:gridCol w="1573200"/>
                <a:gridCol w="1697040"/>
                <a:gridCol w="1584360"/>
              </a:tblGrid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мигрантов в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 (2000/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на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0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я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95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политики к миг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поли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ирование возвращения граждан своей стр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ыргыз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мен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играция и политика в отношении эмиграции</a:t>
            </a: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падные Балканы</a:t>
            </a:r>
            <a:br>
              <a:rPr sz="2400"/>
            </a:br>
            <a:r>
              <a:rPr b="0" lang="de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точник: </a:t>
            </a: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Haug/UN Population Division, International Migration/World Population Policies, 2003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1522440"/>
                <a:gridCol w="1008000"/>
                <a:gridCol w="1513080"/>
                <a:gridCol w="1295280"/>
                <a:gridCol w="1473120"/>
                <a:gridCol w="1417680"/>
              </a:tblGrid>
              <a:tr h="104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мигрантов в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 (2000/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на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0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я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95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политики к миг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поли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ирование возвращения граждан своей стр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б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сния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цего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ва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вш.Югосла-вия/Макед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бия/Ч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играция и политика в отношении эмиграции</a:t>
            </a:r>
            <a:r>
              <a:rPr b="0" lang="fr-CH" sz="24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зор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765000"/>
          <a:ext cx="8713800" cy="5473800"/>
        </p:xfrm>
        <a:graphic>
          <a:graphicData uri="http://schemas.openxmlformats.org/drawingml/2006/table">
            <a:tbl>
              <a:tblPr/>
              <a:tblGrid>
                <a:gridCol w="3735360"/>
                <a:gridCol w="1373400"/>
                <a:gridCol w="1444680"/>
                <a:gridCol w="917280"/>
                <a:gridCol w="12430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 Европа и Бал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точная Европа и Центральная 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ые Балк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 с отрицательной чистой миграци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(63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к эмиграции</a:t>
                      </a: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(55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политики: сокращение эмиг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(63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, благоприятствующие возвращению своих гражд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(66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токи и численность мигрантов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63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 имели отрицательную чистую эмиграцию в 1990-х годах (согласно официальным данным и без учета нелегальной миграции!), и в настоящее время ситуация остается такой же.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играция является важным явлением с экономической и политической точек зрения.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тальных странах наблюдалась значительная возвратная миграция преимущественно граждан этих стран и /или представителей основных этнических групп, а также потоки трудовой миграции, главным образом из других стран того же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ые по численности совокупности мигрантов (в соответствии с определением места рождения) проживают во многих странах, в особенности в регионах бывшего СССР. Некоторые из них стали иностранцами после распада Союза, другие имеют двойное гражданство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и продолжают оставаться лицами без гражданства или в неопределен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очка зрения с позиций политики: эмиграция слишком велика и должна быть сокращена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проведенному ООН исследованию политики государств в области народонаселения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льшинство правительств придерживаются того мнения, что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играция слишком велика и должна быть сокращена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того, большинство правительств поощ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вратную миграцию своих граждан</a:t>
            </a: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очка зрения с позиций политики</a:t>
            </a:r>
            <a:r>
              <a:rPr b="0" lang="fr-CH" sz="2400" spc="-1" strike="noStrike">
                <a:solidFill>
                  <a:srgbClr val="333399"/>
                </a:solidFill>
                <a:latin typeface="Arial"/>
              </a:rPr>
              <a:t> 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миграция имеет приемлемые объемы или должна сохраняться на имеющемся уровне, вмешательство не предполагается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меются и другие точки зрен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тон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держивать эмиграцию п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итическим и этническим причинам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скольку это касается в основном лиц, не имеющих эстонского гражданства, и не эстон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ркменистан, Узбекистан: чрезвычай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рытые экономи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ых эмиграция касается только отдельных этнических или политических груп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бан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адиционный аргумент в пользу трудовой миг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эмиграция (выбытия) имеет также и положительные экономические последств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безработицы, денежные переводы, развитие диаспо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осоюз/Присоединяющиеся страны:  никакого вмешательства в  свободное передвижение рабочей силы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беральная экономическая политика.</a:t>
            </a:r>
            <a:r>
              <a:rPr b="1" i="1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играция зависит от экономического роста и развит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1:35:56Z</dcterms:created>
  <dc:creator>Haug Werner</dc:creator>
  <dc:description/>
  <dc:language>en-US</dc:language>
  <cp:lastModifiedBy>user</cp:lastModifiedBy>
  <dcterms:modified xsi:type="dcterms:W3CDTF">2005-03-28T06:23:20Z</dcterms:modified>
  <cp:revision>61</cp:revision>
  <dc:subject/>
  <dc:title>Folie 1</dc:title>
</cp:coreProperties>
</file>