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EDCB-6C75-4B6B-A937-C9C8CBA0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4BE-0217-430B-B6B0-CB84D269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53C-06CF-4A2C-88AA-7481DD76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B9B-74C6-43DC-A240-87B8966F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5D1-563D-4D69-8751-A18ACA7A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7C6-BBBF-473E-A6B1-5A0D0122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16F-69EA-40A3-BAD7-7F081C17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3C8-D9AE-43BD-B7B9-688DFD04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69C-023F-4D24-B473-EC962408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7B5-D571-44D9-858E-F3269F28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0B5-3CC5-4014-8422-D4AA8E08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446-9862-4768-A9CA-F682E960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Arial"/>
              </a:rPr>
              <a:t>UNFPA/UNECE/NIDI: Training on international migration, Haug, January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DD15-B3A0-4345-9E69-EED6DB04D7B6}" type="slidenum">
              <a:rPr b="0" lang="fr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блемы миграционной политики в странах эмиграци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ер Ха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ректор Отдела изучения и  и обследований населения, Федеральное статистическое агентство Швейца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Werner.Haug@bfs.admin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ост населения и эмиграция</a:t>
            </a: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е стран у эмиграции (равно, как и иммиграции!) находится также под влиянием общих тенденций динамики населения и естественного прироста населения в особенности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ы, теряющие население из-за отрицательного естественного прироста, часто имеют более негативное отношение к эмиграции, чем страны, в которых население увеличивается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е государства чаще всего нейтрально относятся к эмиг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ост населения по компонентам</a:t>
            </a:r>
            <a:r>
              <a:rPr b="0" lang="fr-CH" sz="2400" spc="-1" strike="noStrike">
                <a:solidFill>
                  <a:srgbClr val="333399"/>
                </a:solidFill>
                <a:latin typeface="Arial"/>
              </a:rPr>
              <a:t>, 2003/04  </a:t>
            </a:r>
            <a:r>
              <a:rPr b="0" lang="fr-CH" sz="1000" spc="-1" strike="noStrike">
                <a:solidFill>
                  <a:srgbClr val="333399"/>
                </a:solidFill>
                <a:latin typeface="Arial"/>
              </a:rPr>
              <a:t>(Haug/</a:t>
            </a:r>
            <a:r>
              <a:rPr b="0" lang="fr-CH" sz="1200" spc="-1" strike="noStrike">
                <a:solidFill>
                  <a:srgbClr val="333399"/>
                </a:solidFill>
                <a:latin typeface="Arial"/>
              </a:rPr>
              <a:t>EUROSTAT/UN)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341360"/>
          <a:ext cx="8785440" cy="5102280"/>
        </p:xfrm>
        <a:graphic>
          <a:graphicData uri="http://schemas.openxmlformats.org/drawingml/2006/table">
            <a:tbl>
              <a:tblPr/>
              <a:tblGrid>
                <a:gridCol w="1398600"/>
                <a:gridCol w="1555920"/>
                <a:gridCol w="1520640"/>
                <a:gridCol w="1435320"/>
                <a:gridCol w="1411200"/>
                <a:gridCol w="146376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 на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т на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стественный прирост отрицате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отрицательна, естественный прирост положительный</a:t>
                      </a:r>
                      <a:r>
                        <a:rPr b="0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положительная, естественный прирост отрица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естественный прирост положите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положительная, естественный прирост отрица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отрицательна, естественный прирост полож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га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т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д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мы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вшая республика Югослав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дония</a:t>
                      </a: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б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ыргыз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х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джики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беки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ва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г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ая Федер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ь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лянд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ланд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ксембур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ве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дерла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уга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ейца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ное Королев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е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ак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шская республ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ербайдж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ланд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зиция стран может быстро изменяться</a:t>
            </a: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я стран может быстро измениться под влиянием экономических и демографических тенденций. Все страны одновременно являются странами эмиграции и иммиграции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ные тенденции в Российской Федерации и Словакии: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1990-х Словакия имела положительную чистую миграцию, РФ является страной с положительной чистой миграцией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кия  стала страной с положительной чистой иммиграцией иностранцев в 2003 г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ая Федерация может стать страной с отрицательной чистой эмиграцией иностранцев в будущем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истая миграция в России и Словакии</a:t>
            </a: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, 1995-2002 </a:t>
            </a:r>
            <a:r>
              <a:rPr b="0" lang="fr-CH" sz="1600" spc="-1" strike="noStrike">
                <a:solidFill>
                  <a:srgbClr val="333399"/>
                </a:solidFill>
                <a:latin typeface="Arial"/>
              </a:rPr>
              <a:t>(Salt, 2003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611360"/>
            <a:ext cx="82296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озможные отрицательные последствия эмиграци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ение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ытие молодого и экономически активного населения)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ечка умов, выбытие элит и потеря человеческого капи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популяция с последствиями для возможностей занятости, общественной инфраструктуры, налогов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мое развитие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ые переводы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)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авномерное региональное развитие (быстрая урбанизация, депопуляция в сельской местности и т.д.)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культурного и языкового разнооб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лияние эмиграции на возрастную структуру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лбания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2000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чрезвычайно низкие удельные веса детей в районах эмиграции Юга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H" sz="1400" spc="-1" strike="noStrike">
                <a:solidFill>
                  <a:srgbClr val="333399"/>
                </a:solidFill>
                <a:latin typeface="Arial"/>
              </a:rPr>
              <a:t>(INSTAT 2004b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40000" y="16002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лияние эмиграции на возрастную структуру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лбания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2000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чрезвычайно высокие удельные веса пожилого населения в районах эмиграции  Юга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H" sz="1400" spc="-1" strike="noStrike">
                <a:solidFill>
                  <a:srgbClr val="333399"/>
                </a:solidFill>
                <a:latin typeface="Arial"/>
              </a:rPr>
              <a:t>(INSTAT 2004b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5640" y="1600200"/>
            <a:ext cx="4091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лияние эмиграции на возрастную структуру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лбания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2000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чрезвычайно высокие относительные показатели числа пожилых иждивенцев (коэффициенты зависимости) в районах эмиграции Юга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H" sz="1400" spc="-1" strike="noStrike">
                <a:solidFill>
                  <a:srgbClr val="333399"/>
                </a:solidFill>
                <a:latin typeface="Arial"/>
              </a:rPr>
              <a:t>(INSTAT 2004b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960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еравномерное региональное развитие из-за миграции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лбания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рицательный прирост населения в стране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лоссальное увеличение населения в столичной области Тираны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H" sz="1400" spc="-1" strike="noStrike">
                <a:solidFill>
                  <a:srgbClr val="333399"/>
                </a:solidFill>
                <a:latin typeface="Arial"/>
              </a:rPr>
              <a:t>(INSTAT 2004b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26160" cy="43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1727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еравномерное региональное развитие из-за миграции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ыргызстан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нутренняя миграция из высокогорных районов периферии в северную столичную область Бишкека</a:t>
            </a:r>
            <a:r>
              <a:rPr b="0" lang="fr-CH" sz="1400" spc="-1" strike="noStrike">
                <a:solidFill>
                  <a:srgbClr val="333399"/>
                </a:solidFill>
                <a:latin typeface="Arial"/>
              </a:rPr>
              <a:t> (NSC, 2004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84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нденции миграции и политика в отношении эмиг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рицательные (и положительные) последствия эмиграции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 по Албании и Кыргызст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ы и варианты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а эмигр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/усиление эмиг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енная миг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грация через гражд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ение граждан своей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отношения с диаспо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ные пере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ерство миграции и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по объемам, типам и мотивам выбытия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ждане, проживающие за рубежом, возвратная миграция и вклад эмиграции в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толичные области как  зоны транзита и эмиграции международных мигрантов.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ыргызстан: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ольше внешних потерь, чем внутреннего прироста,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собенно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северной столичной области Бишкека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H" sz="1400" spc="-1" strike="noStrike">
                <a:solidFill>
                  <a:srgbClr val="333399"/>
                </a:solidFill>
                <a:latin typeface="Arial"/>
              </a:rPr>
              <a:t>(NSC, 2004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20840" y="1600200"/>
            <a:ext cx="6500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зменение этнического состава из-за миграции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ыргызстан: внутренняя миграция кыргызов из горных районов замещает русских эмигрантов в столичной зоне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, 1989-1999 </a:t>
            </a:r>
            <a:r>
              <a:rPr b="0" lang="fr-CH" sz="1400" spc="-1" strike="noStrike">
                <a:solidFill>
                  <a:srgbClr val="333399"/>
                </a:solidFill>
                <a:latin typeface="Arial"/>
              </a:rPr>
              <a:t>(NSC, 2004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327320" y="1600200"/>
            <a:ext cx="648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течка умов посредством миграции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имеры Кыргызстана и Албан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ивая выбытий, как правило, имеет форму буквы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зависимости от  квалификации и человеческого капитала. Представители элит эмигрируют намного чаще, так же как и лица с низким уровнем квалификации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ыргызстан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: 300’00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сских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 (1/3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сского населения на момент переписи 1989 г.)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кинули страну  за период с 1989 по 1999 гг.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гие из них –экономически активное население с высшим и средним образованием, занимали руководящие должности в промышленности, образовании и науке, общественном секторе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бания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: 40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а исследовательских центров и институтов культуры покинули страну между 1991 и 1998, так же, как 60% всех преподавателей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ужское население со специальным средним образованием сократилось на 21% между 1989 и 2001 гг. , а мужское население с высшим образованием – на 13%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озможные положительные последствия </a:t>
            </a: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миграци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 числа безработных и  нагрузки на социальные службы и инфраструк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 дохода домохозяйства и качества  жизни эмигрантов и (посредством денежных переводов) не мигрировавших членов домохозя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потребления, инвестиций, приток  иностранной валюты и улучшение платежного баланса с помощью денежных перев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торговли и транснациональных  отношений посредством сетей диа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ток умов» вместе с обученными, состоятельными и обладающими новаторским мышлением возвратными мигра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лабление этнических и языковых  напряженностей и конфли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екоторые общие принципы политики для стран эмиграции</a:t>
            </a:r>
            <a:br>
              <a:rPr sz="2800"/>
            </a:b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H" sz="1200" spc="-1" strike="noStrike">
                <a:solidFill>
                  <a:srgbClr val="333399"/>
                </a:solidFill>
                <a:latin typeface="Arial"/>
              </a:rPr>
              <a:t>(HAUG, based on International Agenda for Migration Management</a:t>
            </a:r>
            <a:r>
              <a:rPr b="0" lang="fr-CH" sz="1400" spc="-1" strike="noStrike">
                <a:solidFill>
                  <a:srgbClr val="333399"/>
                </a:solidFill>
                <a:latin typeface="Arial"/>
              </a:rPr>
              <a:t>, 2004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улируемый отток мигрантов представляет собой общий интерес для стран выхода и вселения,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регулируемый отток создает проблемы для обеих стор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вратная миграция граждан своей страны - оборотная сторона медали, она является базовым правом человека и может внести вклад в развит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ы эмиграции должны нести ответственность за своих граждан, находящихся за рубеж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ременная и «круговая» миграция могут сократить нагрузку  от постоянной эмигр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итика в отношении гражданства и интеграции может предотвратить эмиграцию иностранцев и меньшин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аспоры и транснациональные сети важны для возвратной миграции, обучения, торговли и инвести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собые направления политик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 эмигр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ные пути эмиграции и возвращения граждан свой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упреждение оттока иностранцев и меньшин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ка возвращения граждан своей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посредством ми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и анализ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правление политики: защита эмигрантов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полный список проблем и инструментов</a:t>
            </a:r>
            <a:r>
              <a:rPr b="0" i="1" lang="fr-CH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я и обучение выбыва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ульская поддержка за рубеж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пломатическая поддержка эмигрантов и диасп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сторонние соглашения по защите прав человека и против эксплуатации и дискриминации мигра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сторонние соглашения по  защите и правам граждан своих стр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правление политики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ные пути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миграции и возвращения граждан свой страны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ность и обеспечение паспортами и докум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беральные визовые режимы, основанные на взаим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ые, доступные и прозрачные каналы эмиг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ьба с преступными сообществами, занимающимся контрабандой и торговлей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сторонние и многосторонние соглашения о правилах въезда, пребывания и возвращения граждан свой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правление политики</a:t>
            </a: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едупреждение эмиграции иностранцев и меньшинств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 к гражданству для лиц, длительное время проживающих в ст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знание двойного гражда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ое законодательство и политика в отношении равного отношения и против дискриминации, основанной на признаках гражданства, расы, принадлежности к различным  этническим или национальным групп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тика, благоприятствующая культурному, языковому и религиозному многообраз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правление политики</a:t>
            </a: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ддержка возвращения граждан свой страны (соотечественников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к к гражданству для бывших гражд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мулы к возвращению: финансовые, экономические и  воссоединение сем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ы ре-интеграции эмигрантов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ка, обучение, равное отношение)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ы для временно выехав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играция и политика в отношении эмиграции, Центральная Европа и страны Балтии</a:t>
            </a:r>
            <a:r>
              <a:rPr b="0" lang="de-CH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CH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точник: </a:t>
            </a:r>
            <a:r>
              <a:rPr b="0" lang="de-CH" sz="1200" spc="-1" strike="noStrike">
                <a:solidFill>
                  <a:srgbClr val="333399"/>
                </a:solidFill>
                <a:latin typeface="Arial"/>
              </a:rPr>
              <a:t>Haug/UN Population Division, International Migration/World Population Policies, 2003)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80" y="1268280"/>
          <a:ext cx="8820360" cy="4994280"/>
        </p:xfrm>
        <a:graphic>
          <a:graphicData uri="http://schemas.openxmlformats.org/drawingml/2006/table">
            <a:tbl>
              <a:tblPr/>
              <a:tblGrid>
                <a:gridCol w="1152720"/>
                <a:gridCol w="1288800"/>
                <a:gridCol w="1595520"/>
                <a:gridCol w="1809720"/>
                <a:gridCol w="1443240"/>
                <a:gridCol w="1530360"/>
              </a:tblGrid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мигрантов в</a:t>
                      </a: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% </a:t>
                      </a:r>
                      <a:r>
                        <a:rPr b="0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0/0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на</a:t>
                      </a: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00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ления</a:t>
                      </a: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995-20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е политики к миг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мулирование возвращения граждан своей стра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га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х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г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мы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ак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т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ив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правление политики</a:t>
            </a: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звитие посредством миграци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 для безопасных, быстрых и доступных финансовых трансакций и коммуникаций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рограмм кредитования и инвестиций для семей мигрантов и возвратных мигр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взаимного партнерства в  вопросах миграции и развития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грация для обучения и образования, миграция для торговли, миграция для культурного обмена, добровольное или принудительное возвращение  и повторное обустройство)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олитики для регионального развития и предотвращения регр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правление политики</a:t>
            </a: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бор и анализ данных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данных о выбывающих и возвратных мигрантах по  возрасту, полу, уровню образования и профессиональной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данных о численности граждан своей страны, проживающих за границей, мотивах и условиях возвра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данных по дискриминации и недопущению иностранцев и меньшин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влияния эмиграции на демографию, экономику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данных по финансовым потокам (переводам) и оценка их влияния на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которые проблемы и противоречия в реальном мире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 интересов между странами эмиграции и иммиграции (конкуренция за человеческий капитал и контроль над миграционными потока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 интересов  между эмигрирующими индивидами и государством (налогообложение, нелегальная миграц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 интересов между строительством нации и культурным разнообразием (культурная однородность против человеческого капита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бые государства  с очень ограниченными ресурсами для проведения  политики и программ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ованная преступность, коррупция, пограничный контро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ое влияние экономических циклов,  макроэкономических и политических потрясений на национальную миграционную полит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сылк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urostat, News Release, 1/5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NSTAT, Migration in Albania, Results of the 2001 Population and Housing Census, Tirana, 200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NSTAT, Albanian Population Census Atlas, Tirana, 200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National Statistical Committee of the Kyrgyz Republic, Mountain Atlas of Kyrgyzstan, Bishkek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OM/Berne Initative, International Agenda for Migration Management, Berne, December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alt John, Trends in International Migration, Council of Europe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United Nations, World Population Policies 2003, New Y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United Nations, International Migration, New Y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играция и политика в отношении эмиграции</a:t>
            </a:r>
            <a:r>
              <a:rPr b="0" lang="de-CH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осточная Европа и Центральная Азия</a:t>
            </a:r>
            <a:br>
              <a:rPr sz="2400"/>
            </a:br>
            <a:r>
              <a:rPr b="0" lang="de-CH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точник: </a:t>
            </a:r>
            <a:r>
              <a:rPr b="0" lang="de-CH" sz="1200" spc="-1" strike="noStrike">
                <a:solidFill>
                  <a:srgbClr val="333399"/>
                </a:solidFill>
                <a:latin typeface="Arial"/>
              </a:rPr>
              <a:t>Haug/UN Population Division, International Migration/World Population Policies, 2003)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95280" y="981000"/>
          <a:ext cx="8497800" cy="5184360"/>
        </p:xfrm>
        <a:graphic>
          <a:graphicData uri="http://schemas.openxmlformats.org/drawingml/2006/table">
            <a:tbl>
              <a:tblPr/>
              <a:tblGrid>
                <a:gridCol w="1487520"/>
                <a:gridCol w="976320"/>
                <a:gridCol w="1179360"/>
                <a:gridCol w="1573200"/>
                <a:gridCol w="1697040"/>
                <a:gridCol w="1584360"/>
              </a:tblGrid>
              <a:tr h="106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мигрантов в</a:t>
                      </a: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% (2000/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на</a:t>
                      </a: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00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ления</a:t>
                      </a: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995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е политики к миг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поли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мулирование возвращения граждан своей стра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д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ыргыз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джи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кмен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ив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играция и политика в отношении эмиграции</a:t>
            </a:r>
            <a:r>
              <a:rPr b="0" lang="de-CH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падные Балканы</a:t>
            </a:r>
            <a:br>
              <a:rPr sz="2400"/>
            </a:br>
            <a:r>
              <a:rPr b="0" lang="de-CH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CH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точник: </a:t>
            </a:r>
            <a:r>
              <a:rPr b="0" lang="de-CH" sz="1200" spc="-1" strike="noStrike">
                <a:solidFill>
                  <a:srgbClr val="333399"/>
                </a:solidFill>
                <a:latin typeface="Arial"/>
              </a:rPr>
              <a:t>Haug/UN Population Division, International Migration/World Population Policies, 2003)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420800"/>
        </p:xfrm>
        <a:graphic>
          <a:graphicData uri="http://schemas.openxmlformats.org/drawingml/2006/table">
            <a:tbl>
              <a:tblPr/>
              <a:tblGrid>
                <a:gridCol w="1522440"/>
                <a:gridCol w="1008000"/>
                <a:gridCol w="1513080"/>
                <a:gridCol w="1295280"/>
                <a:gridCol w="1473120"/>
                <a:gridCol w="1417680"/>
              </a:tblGrid>
              <a:tr h="104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мигрантов в</a:t>
                      </a: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% (2000/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миграция на</a:t>
                      </a: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00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ления</a:t>
                      </a: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995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е политики к миг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поли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мулирование возвращения граждан своей стра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б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сния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цего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ва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вш.Югосла-вия/Макед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бия/Ч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т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играция и политика в отношении эмиграции</a:t>
            </a:r>
            <a:r>
              <a:rPr b="0" lang="fr-CH" sz="24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зор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765000"/>
          <a:ext cx="8713800" cy="5473800"/>
        </p:xfrm>
        <a:graphic>
          <a:graphicData uri="http://schemas.openxmlformats.org/drawingml/2006/table">
            <a:tbl>
              <a:tblPr/>
              <a:tblGrid>
                <a:gridCol w="3735360"/>
                <a:gridCol w="1373400"/>
                <a:gridCol w="1444680"/>
                <a:gridCol w="917280"/>
                <a:gridCol w="124308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 Европа и Бал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точная Европа и Центральная 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ные Балк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ст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 с отрицательной чистой миграци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(63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е к эмиграции</a:t>
                      </a: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шком боль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(55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политики: сокращение эмиг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(63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отсутству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, благоприятствующие возвращению своих гражд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(66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токи и численность мигрантов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63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 имели отрицательную чистую эмиграцию в 1990-х годах (согласно официальным данным и без учета нелегальной миграции!), и в настоящее время ситуация остается такой же.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играция является важным явлением с экономической и политической точек зрения.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тальных странах наблюдалась значительная возвратная миграция преимущественно граждан этих стран и /или представителей основных этнических групп, а также потоки трудовой миграции, главным образом из других стран того же рег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ельные по численности совокупности мигрантов (в соответствии с определением места рождения) проживают во многих странах, в особенности в регионах бывшего СССР. Некоторые из них стали иностранцами после распада Союза, другие имеют двойное гражданство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и продолжают оставаться лицами без гражданства или в неопределенн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очка зрения с позиций политики: эмиграция слишком велика и должна быть сокращена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о проведенному ООН исследованию политики государств в области народонаселения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ольшинство правительств придерживаются того мнения, что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играция слишком велика и должна быть сокращена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того, большинство правительств поощря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вратную миграцию своих граждан</a:t>
            </a:r>
            <a:r>
              <a:rPr b="1" i="1" lang="fr-CH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очка зрения с позиций политики</a:t>
            </a:r>
            <a:r>
              <a:rPr b="0" lang="fr-CH" sz="2400" spc="-1" strike="noStrike">
                <a:solidFill>
                  <a:srgbClr val="333399"/>
                </a:solidFill>
                <a:latin typeface="Arial"/>
              </a:rPr>
              <a:t> 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миграция имеет приемлемые объемы или должна сохраняться на имеющемся уровне, вмешательство не предполагается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меются и другие точки зрения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стония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держивать эмиграцию п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итическим и этническим причинам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скольку это касается в основном лиц, не имеющих эстонского гражданства, и не эстон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ркменистан, Узбекистан: чрезвычайн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крытые экономи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торых эмиграция касается только отдельных этнических или политических груп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бания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адиционный аргумент в пользу трудовой миг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эмиграция (выбытия) имеет также и положительные экономические последствия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 безработицы, денежные переводы, развитие диаспор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росоюз/Присоединяющиеся страны:  никакого вмешательства в  свободное передвижение рабочей силы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иберальная экономическая политика.</a:t>
            </a:r>
            <a:r>
              <a:rPr b="1" i="1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играция зависит от экономического роста и развития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11:35:56Z</dcterms:created>
  <dc:creator>Haug Werner</dc:creator>
  <dc:description/>
  <dc:language>en-US</dc:language>
  <cp:lastModifiedBy>user</cp:lastModifiedBy>
  <dcterms:modified xsi:type="dcterms:W3CDTF">2005-03-28T06:23:20Z</dcterms:modified>
  <cp:revision>61</cp:revision>
  <dc:subject/>
  <dc:title>Folie 1</dc:title>
</cp:coreProperties>
</file>