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BB5-203B-4BEF-926F-E54869C0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382-5F3B-4407-81DD-CB5003D9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ED4-44F5-4E99-ACFD-3B4980FD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2F4-20C3-45C0-A6EE-C74DE236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29F2-4C2B-46F5-AFA0-C5F6B46F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104-B24B-4E30-9090-3CBE2241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75B-4EED-42AB-904A-499A0402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C3B-C174-4F73-B0C8-C3E2FC73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10D-6675-4D39-BA18-6D978E45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77A-BAD9-4961-8B18-37A8FEF5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055-D7BD-4CAC-86E9-38742855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6A0-84F2-424E-8F95-2445BED9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4DF6-93DF-4102-B728-CA8355B7D271}" type="slidenum">
              <a:rPr b="0" lang="en-GB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1295280" cy="9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95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270160" y="2443320"/>
            <a:ext cx="183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990720"/>
            <a:ext cx="856908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строение выборки для проведения обследований международной миграции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етодологические соображения, практические трудности и уроки, извлеченные из обследований, проведенных во многих странах Африки и Европы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жордж Грёневольд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(NiD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Литература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Bilsborrow, R.E., Hugo, G., Oberai, A.S. , Zlotnik, H. 1997. International Migration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tistics. International Labour Office. Geneva.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roenewold, G. and R. E.  Bilsborrow, 2004. Design of Samples for International Migration Surveys: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Methodological Considerations, Practical Constraints, and Lessons Learned from a Multi-Country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Study in Africa and Europe. Paper presented at Population Association of America (PAA) 2004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onference, 1-3 April. Boston.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04920"/>
            <a:ext cx="9144000" cy="74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Garamond"/>
              </a:rPr>
              <a:t>Рекомендаци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333399"/>
              </a:buClr>
              <a:buFont typeface="Garamond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Получите и  распределите </a:t>
            </a:r>
            <a:r>
              <a:rPr b="1" i="1" lang="ru-RU" sz="2400" spc="-1" strike="noStrike">
                <a:solidFill>
                  <a:srgbClr val="333399"/>
                </a:solidFill>
                <a:latin typeface="Garamond"/>
              </a:rPr>
              <a:t>достаточное финансирование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для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333399"/>
              </a:buClr>
              <a:buFont typeface="Garamond"/>
              <a:buChar char="-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Проектирования правильной и общей стратегии в отношении построения выборк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333399"/>
              </a:buClr>
              <a:buFont typeface="Garamond"/>
              <a:buChar char="-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Мониторинга и документирования построения выборки, поскольку  достоверность и точность выводов исследования зависят от этого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333399"/>
              </a:buClr>
              <a:buFont typeface="Garamond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В проекте с участием нескольких стран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должно быть предусмотрено предварительное  совещание (рабочая группа) по вопросам построения выборки и выполнения (проекта)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,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для того, чтобы обсудить  стратегию типовой выборки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и способы применения ее к местным условиям 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,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а также 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определить возможные проблемы при выполнении обследования и пути их преодолени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75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Garamond"/>
              </a:rPr>
              <a:t>Специальные обследования миграции</a:t>
            </a: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Для изучения детерминант и последствий миграци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Главный вопрос</a:t>
            </a:r>
            <a:r>
              <a:rPr b="0" lang="ru-RU" sz="2400" spc="-1" strike="noStrike">
                <a:solidFill>
                  <a:srgbClr val="000066"/>
                </a:solidFill>
                <a:latin typeface="Garamond"/>
              </a:rPr>
              <a:t>: какие данные необходимы для выделения подходящих для сравнения групп, </a:t>
            </a: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т.е.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1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Домохозяйства в странах происхождения, которые не 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мигрировал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buClr>
                <a:srgbClr val="000066"/>
              </a:buClr>
              <a:buFont typeface="Garamond"/>
              <a:buAutoNum type="arabicPeriod" startAt="2"/>
              <a:tabLst>
                <a:tab algn="l" pos="380880"/>
                <a:tab algn="l" pos="390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Домохозяйства в странах вселения, которые мигрировали в полном составе и прибыли из одной страны происхождени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buClr>
                <a:srgbClr val="000066"/>
              </a:buClr>
              <a:buFont typeface="Garamond"/>
              <a:buAutoNum type="arabicPeriod" startAt="2"/>
              <a:tabLst>
                <a:tab algn="l" pos="380880"/>
                <a:tab algn="l" pos="390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Индивидуальные мигранты в стране вселения, которые прибыли из одной страны происхождени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buClr>
                <a:srgbClr val="000066"/>
              </a:buClr>
              <a:buFont typeface="Garamond"/>
              <a:buAutoNum type="arabicPeriod" startAt="2"/>
              <a:tabLst>
                <a:tab algn="l" pos="380880"/>
                <a:tab algn="l" pos="390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Домохозяйства, остающиеся в стране происхождения, в которых кто-либо эмигрировал в ту же страну вселени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390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aramond"/>
              </a:rPr>
              <a:t>Условия</a:t>
            </a:r>
            <a:r>
              <a:rPr b="1" lang="en-GB" sz="2800" spc="-1" strike="noStrike">
                <a:solidFill>
                  <a:srgbClr val="000066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Garamond"/>
              </a:rPr>
              <a:t>для сбора данных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Garamond"/>
              </a:rPr>
              <a:t>Изучить страны, которые принадлежат к</a:t>
            </a:r>
            <a:r>
              <a:rPr b="1" i="1" lang="ru-RU" sz="1600" spc="-1" strike="noStrike">
                <a:solidFill>
                  <a:srgbClr val="000066"/>
                </a:solidFill>
                <a:latin typeface="Garamond"/>
              </a:rPr>
              <a:t> одной миграционной системе</a:t>
            </a:r>
            <a:r>
              <a:rPr b="1" lang="en-GB" sz="16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Garamond"/>
              </a:rPr>
              <a:t>(Kritz and Zlotnik, 1992)</a:t>
            </a:r>
            <a:r>
              <a:rPr b="0" lang="en-GB" sz="1600" spc="-1" strike="noStrike">
                <a:solidFill>
                  <a:srgbClr val="000066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lang="en-GB" sz="16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Garamond"/>
              </a:rPr>
              <a:t>Провести обследования </a:t>
            </a:r>
            <a:r>
              <a:rPr b="1" lang="en-GB" sz="1600" spc="-1" strike="noStrike">
                <a:solidFill>
                  <a:srgbClr val="000066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Garamond"/>
              </a:rPr>
              <a:t>в странах </a:t>
            </a:r>
            <a:r>
              <a:rPr b="1" i="1" lang="ru-RU" sz="1600" spc="-1" strike="noStrike">
                <a:solidFill>
                  <a:srgbClr val="000066"/>
                </a:solidFill>
                <a:latin typeface="Garamond"/>
              </a:rPr>
              <a:t>происхождения и вселения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i="1" lang="en-GB" sz="16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Garamond"/>
              </a:rPr>
              <a:t>Использовать вероятностную выборку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49360"/>
            <a:ext cx="9144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Garamond"/>
              </a:rPr>
              <a:t>Ограничения при построении выборк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Отсутствие рамок выборк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Домохозяйства с опытом международных миграций имеют тенденцию концентрироваться на определенных территориях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Мигранты и их домохозяйства имеют тенденцию быть «редкими» элементам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Присутствие нелегальных мигрантов или мигрантов без документов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Garamond"/>
              </a:rPr>
              <a:t>Альтернативы</a:t>
            </a: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Концентрируйте выборку в конкретных регионах внутри страны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Применяйте специальную стратегию выборки, которая будет гарантировать, что достаточное число «редких» элементов отобрано и опрошено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Times New Roman"/>
              </a:rPr>
              <a:t>Стратегия модельной выборк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Целенаправленно выберите в стране регионы для исследования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 каждом регионе определите степень распространенности мигрантских домохозяйств не территориях, составляющих регион.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Определите совокупность (слой) с распространенностью признака в каждом регионе и классифицируйте территории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Отберите территории из каждой категории по степени распространенности признака, проведите выборку с повышенной частотой на территориях с высоким уровнем распространенности признака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Проведите сортировку домохозяйств по миграционному статусу в каждой из выбранных территорий, сформируйте совокупности (слои) мигрантских домохозяйств и не-мигрантских домохозяйств, проведите классификацию домохозяйств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Отберите мигрантские и не-мигрантские домохозяйства, проведите выборку с повышенной частотой в совокупности мигрантских домохозяйств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Times New Roman"/>
              </a:rPr>
              <a:t>Особенно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Многошаговый отбор территорий и домохозяйств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ыборка с повышенной частотой на территориях с высоким уровнем распространенности признака и мигрантских домохозяйств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Двухфазная выборка на последнем этап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ыведение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расчетных весов выборки для использования при анализ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Times New Roman"/>
              </a:rPr>
              <a:t>Общие черт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амерение  команд исследователей по странам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формировать вероятностные выборк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Использование существующей качественной и количественной информации для определения распространенности мигрантских домохозяйств в регионах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ыборка территорий в несколько этапов с тем, чтобы территории с высоким уровнем распространенности мигрантских домохозяйств  были бы отобраны с повышенной частотой.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вухфазная выборка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а последнем этапе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: (1)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ортировка («просеивание») всех домохозяйств на отобранных территориях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; (2)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отбор и опрос домохозяйств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Times New Roman"/>
              </a:rPr>
              <a:t>Различия</a:t>
            </a:r>
            <a:r>
              <a:rPr b="1" lang="en-GB" sz="2800" spc="-1" strike="noStrike" u="sng">
                <a:solidFill>
                  <a:srgbClr val="333399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ровень статистической репрезентативности в отношении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1.  Страны происхождения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региональный уровень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2.  Страны вселения: </a:t>
            </a: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национальный уровен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Garamond"/>
              </a:rPr>
              <a:t>Оценка стратегии  выборки с повышенной частотой</a:t>
            </a:r>
            <a:r>
              <a:rPr b="1" lang="en-GB" sz="2200" spc="-1" strike="noStrike">
                <a:solidFill>
                  <a:srgbClr val="333399"/>
                </a:solidFill>
                <a:latin typeface="Garamond"/>
              </a:rPr>
              <a:t>: </a:t>
            </a:r>
            <a:r>
              <a:rPr b="1" lang="ru-RU" sz="2200" spc="-1" strike="noStrike">
                <a:solidFill>
                  <a:srgbClr val="333399"/>
                </a:solidFill>
                <a:latin typeface="Garamond"/>
              </a:rPr>
              <a:t>Египет, Турция и Марокко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716040"/>
          <a:ext cx="9144000" cy="61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16040"/>
                    <a:ext cx="9144000" cy="61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5228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Garamond"/>
              </a:rPr>
              <a:t>Выводы</a:t>
            </a: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В большинстве стран происхождения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 задача отбора была реализована таким образом, что около половины целевой выборки состояла из «редких» элементов, представляющих интерес, (то есть – недавно прибывших мигрантских домохозяйств)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333399"/>
              </a:buClr>
              <a:buFont typeface="Garamond"/>
              <a:buChar char="•"/>
              <a:tabLst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В некоторых странах цель получения статистически репрезентативных  данных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 лишь частично была достигнута из- за некоторых проблем, связанных с  выполнением проект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Различия между странами связаны с размерами «регионов» для которых данные действительно статистически репрезентативны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333399"/>
              </a:buClr>
              <a:buFont typeface="Garamond"/>
              <a:buChar char="•"/>
              <a:tabLst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Смещение при отборе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-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Домохозяйства, которые мигрировали в полном составе, не охвачены в странах происхождения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-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Возвратные мигранты и мигранты, которые умерли, не охвачены в странах вселени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9:13:07Z</dcterms:created>
  <dc:creator>George Groenewold</dc:creator>
  <dc:description/>
  <dc:language>en-US</dc:language>
  <cp:lastModifiedBy>Oyunjargal</cp:lastModifiedBy>
  <cp:lastPrinted>2004-06-17T13:41:43Z</cp:lastPrinted>
  <dcterms:modified xsi:type="dcterms:W3CDTF">2005-05-09T12:05:04Z</dcterms:modified>
  <cp:revision>97</cp:revision>
  <dc:subject/>
  <dc:title>No Slide Title</dc:title>
</cp:coreProperties>
</file>