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277-3069-4404-97EB-04CDBDFB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41B-E837-44C6-87DE-6D9CFF91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729-D25D-414C-AE52-55F072F0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CFD-0579-4E24-AEB5-16346F45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055-7D6F-457F-9269-2378D249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479-4337-4A4A-A664-2865994B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00B-D25E-4DF5-8C35-3A64D936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4FB-D82D-4370-8229-69D9B0D9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29C-D273-4A57-97E4-AF3692B2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8AB-3CDA-4DAA-ADE3-168EA216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C30-F64C-466B-8729-FE6E9A56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FD7-2520-4EA0-8BC7-B08CE495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C6FE-8035-4110-917C-1174FA0E0C88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0880"/>
            <a:ext cx="777240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29528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70160" y="2443320"/>
            <a:ext cx="18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90720"/>
            <a:ext cx="914400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Design of Samples for International Migration Surveys: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Methodological Considerations , Practical Constraint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and Lessons Learned from a Multi-Country Study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in Africa and Europ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George Groenewold (NiD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Times New Roman"/>
              </a:rPr>
              <a:t>Reference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Bilsborrow, R.E., Hugo, G., Oberai, A.S. , Zlotnik, H. 1997. International Migration </a:t>
            </a: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Statistics. International Labour Office. Geneva.</a:t>
            </a:r>
            <a:r>
              <a:rPr b="1" lang="en-GB" sz="18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Groenewold, G. and R. E.  Bilsborrow, 2004. Design of Samples for International Migration Surveys: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Methodological Considerations, Practical Constraints, and Lessons Learned from a Multi-Country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Study in Africa and Europe. Paper presented at Population Association of America (PAA) 2004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Conference, 1-3 April. Boston.</a:t>
            </a:r>
            <a:r>
              <a:rPr b="0" lang="en-GB" sz="18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920"/>
            <a:ext cx="9144000" cy="78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ecure and allocate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sufficient funds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esign of a proper and common sample design strateg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Monitor and document  the implementation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of the sampl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as the validity and precision of research findings depend on 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 multi-country projects, a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pre-project workshop on sampling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design and implementation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must be included, to discuss a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model sampling strategy and ways to adapt it to local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onditions, and identify potential sample implementation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problems and ways to deal with the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88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Specialised Migration Survey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</a:t>
            </a: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o study determinants and consequences of migr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Key issue</a:t>
            </a:r>
            <a:r>
              <a:rPr b="0" lang="en-GB" sz="2800" spc="-1" strike="noStrike">
                <a:solidFill>
                  <a:srgbClr val="000066"/>
                </a:solidFill>
                <a:latin typeface="Garamond"/>
              </a:rPr>
              <a:t>:</a:t>
            </a: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ata needed on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appropriate comparison groups, i.e.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1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in origin countries that have not migrated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2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in destination countries that migrated as entire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and come from the same origin count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3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dividual migrants in a destination country that come from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he same origin countr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4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remaining in the origin country from which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omeone emigrated to that destination count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Garamond"/>
              </a:rPr>
              <a:t>Implications for data collection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Examine countries that belong to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same migration system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Garamond"/>
              </a:rPr>
              <a:t>Kritz and Zlotnik, 1992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)</a:t>
            </a:r>
            <a:r>
              <a:rPr b="0" lang="en-GB" sz="20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Undertake surveys in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origin and destination countr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088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Use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probability samp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Sample design constrai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Lack of sampling fram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with international migration experience tend to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oncentrate in particular are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Migrants and their households tend to be ‘rare’ eleme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Presence of undocumented or illegal immigrant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Op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oncentrate sampling in particular regions within countr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Use a special sampling strategy that ensures that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ufficient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numbers of ‘rare’ elements are selected  and interview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6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Model sampling strateg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1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Purposively choose study regions in the countr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2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Within each region, determine prevalence of migrant households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 areas that constitute a region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3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reate ‘prevalence rate’ strata in each region and classify area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4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elect areas each 'prevalence rate' stratum, over-sample areas in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igh prevalence rate strat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5.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creen migration status of all households in each selected area,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create a migrant-household stratum and non-migrant household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tratum, and classify househol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6.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elect migrant and non-migrant households, over-sample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in migrant-household stratu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Characteris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ampling of areas and households in multiple stag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Over-sampling of high prevalence areas and migrant househol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wo phase sampling in last stag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66"/>
              </a:buClr>
              <a:buFont typeface="Garamond"/>
              <a:buChar char="•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erivation of sample design weights, to be used in analy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76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Garamond"/>
              </a:rPr>
              <a:t>Common featur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tention of country-teams to develop probability sampl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Use of existing qualitative and quantitative information to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etermine prevalence of migrant households in are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ampling of areas in multiple stages whereby areas with high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prevalence of migrant households were over-sampled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wo-phase sampling in the last stage: (1) screening of all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 in sampled areas; (2) sampling and interviewing of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Garamond"/>
              </a:rPr>
              <a:t>Difference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Level of statistical representativeness aimed at: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Origin countries: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Regional level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estination countries: </a:t>
            </a:r>
            <a:r>
              <a:rPr b="1" i="1" lang="en-GB" sz="2400" spc="-1" strike="noStrike">
                <a:solidFill>
                  <a:srgbClr val="000066"/>
                </a:solidFill>
                <a:latin typeface="Garamond"/>
              </a:rPr>
              <a:t>National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Evaluation of over-sampling strategy: Egypt, Turkey and Morocc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717560"/>
            <a:ext cx="914400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52280"/>
            <a:ext cx="9144000" cy="72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Garamond"/>
              </a:rPr>
              <a:t>Conclusions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 most origin countries, sampling objective was realised such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that about half of the target sample consists of the rare elements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of interest (i.e. recent migrant households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n some countries the objective to generate statistically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representative data was only partially met met due to certain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implementation proble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Differences between countries regarding the size of ‘regions’ for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which data are actually statistically representativ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Garamond"/>
              <a:buChar char="•"/>
              <a:tabLst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Sample selection bia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 whole households that migrated not covered in origin countri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- return migrants and migrants who died not covered in 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Garamond"/>
              </a:rPr>
              <a:t> destination countr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9:13:07Z</dcterms:created>
  <dc:creator>George Groenewold</dc:creator>
  <dc:description/>
  <dc:language>en-US</dc:language>
  <cp:lastModifiedBy>George Groenewold</cp:lastModifiedBy>
  <cp:lastPrinted>2004-06-17T13:41:43Z</cp:lastPrinted>
  <dcterms:modified xsi:type="dcterms:W3CDTF">2005-02-02T14:02:21Z</dcterms:modified>
  <cp:revision>81</cp:revision>
  <dc:subject/>
  <dc:title>No Slide Title</dc:title>
</cp:coreProperties>
</file>