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B276-D7E2-454E-A5F2-232F7301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7496-A509-4DEC-A211-8935CB7B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B752-A550-41D7-A39B-51C1EE404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735F-76F1-4F99-B7D0-34ED98F40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1BB5-427A-41C7-BC46-7118C47B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9D50-E10A-4944-8E84-45EC0855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193E-257F-4AE6-916A-34BA30C4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0BCE-CBB8-42EA-A4E7-A45ACA75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32BF-A512-4666-A18F-7CDEC98C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BF67-2968-4DBF-90C0-D9BD1D76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4595-50FA-4C80-B5F0-5587D4FE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B0EF-7059-4488-AB5B-9E228F24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370B-08D1-4DDE-9E54-AC147F78128D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0"/>
            <a:ext cx="815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UNFPA/UNECE/NIDI Training programme on international migration, Geneva, 24-28/01/2005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0880"/>
            <a:ext cx="777240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0"/>
          <a:ext cx="1295280" cy="97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952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2270160" y="2443320"/>
            <a:ext cx="183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"/>
          <p:cNvSpPr/>
          <p:nvPr/>
        </p:nvSpPr>
        <p:spPr>
          <a:xfrm>
            <a:off x="0" y="990720"/>
            <a:ext cx="9144000" cy="64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Garamond"/>
              </a:rPr>
              <a:t>Design of Samples for International Migration Surveys: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Garamond"/>
              </a:rPr>
              <a:t>Methodological Considerations , Practical Constraints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Garamond"/>
              </a:rPr>
              <a:t>and Lessons Learned from a Multi-Country Study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Garamond"/>
              </a:rPr>
              <a:t>in Africa and Europ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George Groenewold (NiDi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66"/>
                </a:solidFill>
                <a:uFillTx/>
                <a:latin typeface="Times New Roman"/>
              </a:rPr>
              <a:t>Reference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Garamond"/>
              </a:rPr>
              <a:t>Bilsborrow, R.E., Hugo, G., Oberai, A.S. , Zlotnik, H. 1997. International Migration </a:t>
            </a:r>
            <a:r>
              <a:rPr b="1" lang="en-GB" sz="18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18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1800" spc="-1" strike="noStrike">
                <a:solidFill>
                  <a:srgbClr val="000066"/>
                </a:solidFill>
                <a:latin typeface="Garamond"/>
              </a:rPr>
              <a:t>Statistics. International Labour Office. Geneva.</a:t>
            </a:r>
            <a:r>
              <a:rPr b="1" lang="en-GB" sz="1800" spc="-1" strike="noStrike">
                <a:solidFill>
                  <a:srgbClr val="000066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Times New Roman"/>
              </a:rPr>
              <a:t>Groenewold, G. and R. E.  Bilsborrow, 2004. Design of Samples for International Migration Surveys: </a:t>
            </a:r>
            <a:r>
              <a:rPr b="1" lang="en-GB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66"/>
                </a:solidFill>
                <a:latin typeface="Times New Roman"/>
              </a:rPr>
              <a:t>Methodological Considerations, Practical Constraints, and Lessons Learned from a Multi-Country </a:t>
            </a:r>
            <a:r>
              <a:rPr b="1" lang="en-GB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66"/>
                </a:solidFill>
                <a:latin typeface="Times New Roman"/>
              </a:rPr>
              <a:t>Study in Africa and Europe. Paper presented at Population Association of America (PAA) 2004 </a:t>
            </a:r>
            <a:r>
              <a:rPr b="1" lang="en-GB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66"/>
                </a:solidFill>
                <a:latin typeface="Times New Roman"/>
              </a:rPr>
              <a:t>Conference, 1-3 April. Boston.</a:t>
            </a:r>
            <a:r>
              <a:rPr b="0" lang="en-GB" sz="1800" spc="-1" strike="noStrike">
                <a:solidFill>
                  <a:srgbClr val="000066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04920"/>
            <a:ext cx="9144000" cy="78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66"/>
                </a:solidFill>
                <a:uFillTx/>
                <a:latin typeface="Garamond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Secure and allocate </a:t>
            </a:r>
            <a:r>
              <a:rPr b="1" i="1" lang="en-GB" sz="2400" spc="-1" strike="noStrike">
                <a:solidFill>
                  <a:srgbClr val="000066"/>
                </a:solidFill>
                <a:latin typeface="Garamond"/>
              </a:rPr>
              <a:t>sufficient funds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 for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-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Design of a proper and common sample design strateg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  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-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i="1" lang="en-GB" sz="2400" spc="-1" strike="noStrike">
                <a:solidFill>
                  <a:srgbClr val="000066"/>
                </a:solidFill>
                <a:latin typeface="Garamond"/>
              </a:rPr>
              <a:t>Monitor and document  the implementation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 of the sample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as the validity and precision of research findings depend on 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In multi-country projects, a </a:t>
            </a:r>
            <a:r>
              <a:rPr b="1" i="1" lang="en-GB" sz="2400" spc="-1" strike="noStrike">
                <a:solidFill>
                  <a:srgbClr val="000066"/>
                </a:solidFill>
                <a:latin typeface="Garamond"/>
              </a:rPr>
              <a:t>pre-project workshop on sampling </a:t>
            </a:r>
            <a:r>
              <a:rPr b="1" i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i="1" lang="en-GB" sz="2400" spc="-1" strike="noStrike">
                <a:solidFill>
                  <a:srgbClr val="000066"/>
                </a:solidFill>
                <a:latin typeface="Garamond"/>
              </a:rPr>
              <a:t>design and implementation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 must be included, to discuss a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model sampling strategy and ways to adapt it to local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conditions, and identify potential sample implementation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problems and ways to deal with the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88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66"/>
                </a:solidFill>
                <a:uFillTx/>
                <a:latin typeface="Garamond"/>
              </a:rPr>
              <a:t>Specialised Migration Surveys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T</a:t>
            </a:r>
            <a:r>
              <a:rPr b="1" lang="en-GB" sz="2800" spc="-1" strike="noStrike">
                <a:solidFill>
                  <a:srgbClr val="000066"/>
                </a:solidFill>
                <a:latin typeface="Garamond"/>
              </a:rPr>
              <a:t>o study determinants and consequences of migratio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000066"/>
                </a:solidFill>
                <a:latin typeface="Garamond"/>
              </a:rPr>
              <a:t>Key issue</a:t>
            </a:r>
            <a:r>
              <a:rPr b="0" lang="en-GB" sz="2800" spc="-1" strike="noStrike">
                <a:solidFill>
                  <a:srgbClr val="000066"/>
                </a:solidFill>
                <a:latin typeface="Garamond"/>
              </a:rPr>
              <a:t>:</a:t>
            </a:r>
            <a:r>
              <a:rPr b="0" lang="en-GB" sz="2400" spc="-1" strike="noStrike">
                <a:solidFill>
                  <a:srgbClr val="000066"/>
                </a:solidFill>
                <a:latin typeface="Garamond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data needed on </a:t>
            </a:r>
            <a:r>
              <a:rPr b="1" i="1" lang="en-GB" sz="2400" spc="-1" strike="noStrike">
                <a:solidFill>
                  <a:srgbClr val="000066"/>
                </a:solidFill>
                <a:latin typeface="Garamond"/>
              </a:rPr>
              <a:t>appropriate comparison groups, i.e.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1.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Households in origin countries that have not migrated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2.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Households in destination countries that migrated as entire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households and come from the same origin countr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3.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Individual migrants in a destination country that come from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the same origin country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4.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Households remaining in the origin country from which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someone emigrated to that destination countr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000066"/>
                </a:solidFill>
                <a:latin typeface="Garamond"/>
              </a:rPr>
              <a:t>Implications for data collection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-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Examine countries that belong to </a:t>
            </a:r>
            <a:r>
              <a:rPr b="1" i="1" lang="en-GB" sz="2400" spc="-1" strike="noStrike">
                <a:solidFill>
                  <a:srgbClr val="000066"/>
                </a:solidFill>
                <a:latin typeface="Garamond"/>
              </a:rPr>
              <a:t>same migration system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(</a:t>
            </a:r>
            <a:r>
              <a:rPr b="1" lang="en-GB" sz="2000" spc="-1" strike="noStrike">
                <a:solidFill>
                  <a:srgbClr val="000066"/>
                </a:solidFill>
                <a:latin typeface="Garamond"/>
              </a:rPr>
              <a:t>Kritz and Zlotnik, 1992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)</a:t>
            </a:r>
            <a:r>
              <a:rPr b="0" lang="en-GB" sz="2000" spc="-1" strike="noStrike">
                <a:solidFill>
                  <a:srgbClr val="000066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-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Undertake surveys in </a:t>
            </a:r>
            <a:r>
              <a:rPr b="1" i="1" lang="en-GB" sz="2400" spc="-1" strike="noStrike">
                <a:solidFill>
                  <a:srgbClr val="000066"/>
                </a:solidFill>
                <a:latin typeface="Garamond"/>
              </a:rPr>
              <a:t>origin and destination countr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Garamond"/>
              </a:rPr>
              <a:t>-</a:t>
            </a:r>
            <a:r>
              <a:rPr b="1" i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Use </a:t>
            </a:r>
            <a:r>
              <a:rPr b="1" i="1" lang="en-GB" sz="2400" spc="-1" strike="noStrike">
                <a:solidFill>
                  <a:srgbClr val="000066"/>
                </a:solidFill>
                <a:latin typeface="Garamond"/>
              </a:rPr>
              <a:t>probability sampling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62120"/>
            <a:ext cx="914400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66"/>
                </a:solidFill>
                <a:uFillTx/>
                <a:latin typeface="Garamond"/>
              </a:rPr>
              <a:t>Sample design constraint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Lack of sampling fram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Households with international migration experience tend to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concentrate in particular area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Migrants and their households tend to be ‘rare’ eleme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Presence of undocumented or illegal immigrant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66"/>
                </a:solidFill>
                <a:uFillTx/>
                <a:latin typeface="Garamond"/>
              </a:rPr>
              <a:t>Options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Concentrate sampling in particular regions within countr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Use a special sampling strategy that ensures that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sufficient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numbers of ‘rare’ elements are selected  and interview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86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66"/>
                </a:solidFill>
                <a:uFillTx/>
                <a:latin typeface="Garamond"/>
              </a:rPr>
              <a:t>Model sampling strateg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1.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Purposively choose study regions in the country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2.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Within each region, determine prevalence of migrant households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in areas that constitute a region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3.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Create ‘prevalence rate’ strata in each region and classify area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4.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Select areas each 'prevalence rate' stratum, over-sample areas in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high prevalence rate strat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5.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Screen migration status of all households in each selected area,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create a migrant-household stratum and non-migrant household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stratum, and classify household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6.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Select migrant and non-migrant households, over-sample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households in migrant-household stratu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66"/>
                </a:solidFill>
                <a:uFillTx/>
                <a:latin typeface="Garamond"/>
              </a:rPr>
              <a:t>Characterisatio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Sampling of areas and households in multiple stag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Over-sampling of high prevalence areas and migrant household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Two phase sampling in last stag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Derivation of sample design weights, to be used in analys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76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Garamond"/>
              </a:rPr>
              <a:t>Common featur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Garamond"/>
              <a:buChar char="•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Intention of country-teams to develop probability sampl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Garamond"/>
              <a:buChar char="•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Use of existing qualitative and quantitative information to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determine prevalence of migrant households in area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Garamond"/>
              <a:buChar char="•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Sampling of areas in multiple stages whereby areas with high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prevalence of migrant households were over-sampled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Garamond"/>
              <a:buChar char="•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Two-phase sampling in the last stage: (1) screening of all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households in sampled areas; (2) sampling and interviewing of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household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Garamond"/>
              </a:rPr>
              <a:t>Differences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Garamond"/>
              <a:buChar char="•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Level of statistical representativeness aimed at: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-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Origin countries: </a:t>
            </a:r>
            <a:r>
              <a:rPr b="1" i="1" lang="en-GB" sz="2400" spc="-1" strike="noStrike">
                <a:solidFill>
                  <a:srgbClr val="000066"/>
                </a:solidFill>
                <a:latin typeface="Garamond"/>
              </a:rPr>
              <a:t>Regional level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-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Destination countries: </a:t>
            </a:r>
            <a:r>
              <a:rPr b="1" i="1" lang="en-GB" sz="2400" spc="-1" strike="noStrike">
                <a:solidFill>
                  <a:srgbClr val="000066"/>
                </a:solidFill>
                <a:latin typeface="Garamond"/>
              </a:rPr>
              <a:t>National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8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Evaluation of over-sampling strategy: Egypt, Turkey and Morocc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717560"/>
            <a:ext cx="9144000" cy="468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65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1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52280"/>
            <a:ext cx="9144000" cy="72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38088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66"/>
                </a:solidFill>
                <a:uFillTx/>
                <a:latin typeface="Garamond"/>
              </a:rPr>
              <a:t>Conclusions 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Garamond"/>
              <a:buChar char="•"/>
              <a:tabLst>
                <a:tab algn="l" pos="38088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In most origin countries, sampling objective was realised such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that about half of the target sample consists of the rare elements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of interest (i.e. recent migrant households)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Garamond"/>
              <a:buChar char="•"/>
              <a:tabLst>
                <a:tab algn="l" pos="38088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In some countries the objective to generate statistically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representative data was only partially met met due to certain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implementation proble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Garamond"/>
              <a:buChar char="•"/>
              <a:tabLst>
                <a:tab algn="l" pos="38088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Differences between countries regarding the size of ‘regions’ for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which data are actually statistically representativ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Garamond"/>
              <a:buChar char="•"/>
              <a:tabLst>
                <a:tab algn="l" pos="38088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Sample selection bias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- whole households that migrated not covered in origin countri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- return migrants and migrants who died not covered in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 destination countr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09:13:07Z</dcterms:created>
  <dc:creator>George Groenewold</dc:creator>
  <dc:description/>
  <dc:language>en-US</dc:language>
  <cp:lastModifiedBy>George Groenewold</cp:lastModifiedBy>
  <cp:lastPrinted>2004-06-17T13:41:43Z</cp:lastPrinted>
  <dcterms:modified xsi:type="dcterms:W3CDTF">2005-02-02T14:02:21Z</dcterms:modified>
  <cp:revision>81</cp:revision>
  <dc:subject/>
  <dc:title>No Slide Title</dc:title>
</cp:coreProperties>
</file>