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16CB-CAA3-4734-BD1A-6C2B09C19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tables on remitta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determinants of remittances\li\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consequences of remittances (empirical rese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304920"/>
            <a:ext cx="7619760" cy="0"/>
          </a:xfrm>
          <a:prstGeom prst="line">
            <a:avLst/>
          </a:prstGeom>
          <a:ln w="25560">
            <a:solidFill>
              <a:srgbClr val="359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66680"/>
            <a:ext cx="9144000" cy="50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лучение денежных переводов и их влияние на эмиграционные намерения в Египте, Марокко и Тур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жордж Греневольд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(NI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тература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ilsborrow, R.E., Hugo, G., Oberai, A.S. , Zlotnik, H. 1997. International Migrat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stics. International Labour Office. Geneva.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hami, R., Fullekamp, C., Jahjah, S. 2003. Are Immigrant Remittances Flows a Source of Capita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Development. International Monetary Fund Working Paper, WP.03/18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oenewold, G. and Fokkema, T. (2002). Receipt of remittances and its effect 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migration intentions in Egypt, Morocco and Turkey. NiDi research report. The Ha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orld Bank, 2003. Global Development Finance Report 2003, Washing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ключительные замечания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различия между потенциальными эмигрантами с наиболее выраженными эмиграционными намерениями в трех странах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Египет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жчина, высокообразованный, с оплачиваемой работой, из зажиточного 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арокко: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жчина, уровень образования не играет роли, безработный, из бедного 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урция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: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олодежь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мужского или женского пола, из бедных домохозяйств, из сельской ме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граничения выводов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играционные намерения могут быть использованы как ориентиры для предвидения поведения, но не могут заменить  реаль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игранты производят и переводят большие суммы денег в страны происхождения. Национальные и международные организации должны изучать на макро- и микро уровне последствия эмиграции в отдающих странах, в особенности – роль денежных переводов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лее того,  они должны исследовать, в какой степени мигранты и мигрантские организации могут играть роль  в стратегиях развития стран, отдающих мигр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63440"/>
            <a:ext cx="8763120" cy="66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800000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ределение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значение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ри потока денежных средств, направляемых в страны, составляют совокупный поток перев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нежные переводы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нико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оимость денежных переводов, посылаемых домой работниками, находящимися за границей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или намеревающимися это делать)  в течение более од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нсация служащим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оимость валового заработка лиц, проживающих за рубежом в течение менее, чем одного года.)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мещение мигрантов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совокупный собственный капитал (за исключением выплат по  обязательствам), мигрант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торые переезжают из одной страны в другую, т.е. включая   стоимость его или ее собственности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2001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вокупные переводы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US$ 100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ллиардо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нимали второе место после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FDI (US$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1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45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ллиардо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развивающихся странах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Объем переводов удваивает объемы помощи, предоставляемой этим странам на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2001, 60%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токов переводов был направлены только в 10 стран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порядке убыван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Индию, Мексику, Филиппины, </a:t>
            </a: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Марокко, Египет, Турцию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иван, Бангладеш, Иорданию, Доминиканскую республику)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коло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80 %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вокупного объема переводов производится в нефтедобывающих странах Ближнего Востока, США и Западной Европе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точники данных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татистика платежного баланс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следования миграции, Обследования пере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еопределенная часть переводов направляется через «неофициальные каналы»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4572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селение мир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сло международных мигрантов и беженцев и переводы работников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Source: UN Population Division, 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6160"/>
            <a:ext cx="9144000" cy="67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дтверждение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ругие выводы исследования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бъем полученных переводов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Египет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US$ 425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арокко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US$ 1350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урция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US$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лученные переводы в основном расходуются на ежедневное потребление (продукты питания, одежду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аким образом, переводы  важны для уменьшения бедности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днако не все домохозяйства получали переводы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Египте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56%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арокко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77%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урции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58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зникающие вопросы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Q 1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чему одни домохозяйства получают переводы, а другие нет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личия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финансовой зависимости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ли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финансовом положении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мохозяйст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личия в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щущении обязательст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экономическом положени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эмигранто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Q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ходя из важности переводов: влияет ли получение переводов на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эмиграционные намерения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мигрировавших членов домохозяйств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60"/>
            <a:ext cx="9144000" cy="63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IDI/Eurostat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следование международной миграции из стран Средиземноморского региона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 Африки  в страны Европейского Союза, включая  домохозяйства, дающие мигрантов, и не дающие  мигрантов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бследовано от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500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2000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мохозяйств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центре внимания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мохозяйства, дающие мигрантов, члены домохозяйств, остающееся дома (т.е. – потенциальные эмигранты), а также члены домохозяйств, которые мигрировали, (т.е.- эмигран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етоды и стратег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Логистическая регре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RQ 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мохозяйство получало переводы в течение последних 12 месяце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/нет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истики домохозяйства и эмигр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RQ 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тенциальный эмигрант, намерен мигрировать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/нет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мохозяйство получало переводы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(=RQ 1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истики домохозяйства и эмигранта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(=RQ 1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зависим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истики потенциального эмигр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9600" y="380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62320" y="228600"/>
            <a:ext cx="914400" cy="4648320"/>
          </a:xfrm>
          <a:custGeom>
            <a:avLst/>
            <a:gdLst>
              <a:gd name="textAreaLeft" fmla="*/ 584280 w 914400"/>
              <a:gd name="textAreaRight" fmla="*/ 914760 w 914400"/>
              <a:gd name="textAreaTop" fmla="*/ 90720 h 4648320"/>
              <a:gd name="textAreaBottom" fmla="*/ 455760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5341"/>
                </a:lnTo>
                <a:cubicBezTo>
                  <a:pt x="10800" y="6016"/>
                  <a:pt x="5400" y="6691"/>
                  <a:pt x="0" y="6691"/>
                </a:cubicBezTo>
                <a:cubicBezTo>
                  <a:pt x="5400" y="6691"/>
                  <a:pt x="10800" y="7366"/>
                  <a:pt x="10800" y="8041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2133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Q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омохозяйство получает пере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да/нет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"/>
            <a:ext cx="1447920" cy="6248520"/>
          </a:xfrm>
          <a:custGeom>
            <a:avLst/>
            <a:gdLst>
              <a:gd name="textAreaLeft" fmla="*/ 925200 w 1447920"/>
              <a:gd name="textAreaRight" fmla="*/ 1448280 w 1447920"/>
              <a:gd name="textAreaTop" fmla="*/ 72720 h 6248520"/>
              <a:gd name="textAreaBottom" fmla="*/ 6175800 h 624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4"/>
                  <a:pt x="10800" y="807"/>
                </a:cubicBezTo>
                <a:lnTo>
                  <a:pt x="10800" y="9175"/>
                </a:lnTo>
                <a:cubicBezTo>
                  <a:pt x="10800" y="9579"/>
                  <a:pt x="5400" y="9982"/>
                  <a:pt x="0" y="9982"/>
                </a:cubicBezTo>
                <a:cubicBezTo>
                  <a:pt x="5400" y="9982"/>
                  <a:pt x="10800" y="10386"/>
                  <a:pt x="10800" y="10789"/>
                </a:cubicBezTo>
                <a:lnTo>
                  <a:pt x="10800" y="20793"/>
                </a:lnTo>
                <a:cubicBezTo>
                  <a:pt x="10800" y="2119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91120"/>
            <a:ext cx="2057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Q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тенциальный эмигрант, намерен мигр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да/нет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590920"/>
            <a:ext cx="0" cy="15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160" y="1676520"/>
            <a:ext cx="6858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18960" y="31240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52280"/>
            <a:ext cx="52578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охозяй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* Финансовая завис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ждивенцев моложе 18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ждивенцев старше 6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домохозяйства, исключая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э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*Финансовый стату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ная ситуация с дохо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 бедности домохозяйства (в соответствии с индексом ак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селение в городской или сельской мес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мигранты (средств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раст (= ко-вари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* Ответств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рачный 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оживания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драт продолжительности проживания за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*Социально-экономический стату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ичие оплачиваемой 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нциальный эмигр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драт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рачный 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лачиваемая рабо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3623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RQ 1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чему одни домохозяйства получают перев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 другие нет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арактеристики и домохозяйства, 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игранта являются важными факторами для объяснения получения переводов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R</a:t>
            </a:r>
            <a:r>
              <a:rPr b="1" lang="en-GB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= ±21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о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29%)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днако,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эмигрант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почти вдвое важнее.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Экономический статус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игрантов</a:t>
            </a:r>
            <a:r>
              <a:rPr b="1" i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иболее важен. В частности, вероятность того, что домохозяйства в странах происхождения получают переводы,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 четыре раз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выше, если эмигрант имеет оплачиваемую работу.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бязательства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игрантов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роятность получения перевода выше, если эмигрант – мужского пола или состоит в браке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супругом (супругой), оставшимся в домохозяйстве в стране происхождения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оме того, только после проживания эмигранта за границей в течение 20 лет и более, вероятность того, что эмигрант посылает денежные переводы, снижается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Финансовая зависимость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роятность получения переводов наиболее высока  если  главой домохозяйства в стране происхождения является  молодая замужняя женщина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Финансовый статус домохозяйства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Вероятность получения переводов более бедными домохозяйствами в странах происхождения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ше, но полученные суммы меньше, чем те, которые получают в более богатых домохозяй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38080"/>
            <a:ext cx="914400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RQ 2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лияет ли получение переводов на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эмиграционные намерения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тавшихся членов домохозяйств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лияние получения переводов на эмиграционные намерения положительное и сильное, особенно в Марокко и Турции (см. табл. на след. слайде). Переводы могут быть поняты как своего род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ослания финансового успех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мигрантов, которому стоит следовать.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мигранты как «образцы для подражания» для потенциальных эмигра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есмотря на различия между странами, характеристики домохозяйств, эмигрантов и потенциальных эмигрантов важны для объяснения эмиграционных намерений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(R</a:t>
            </a:r>
            <a:r>
              <a:rPr b="1" lang="en-GB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=±25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иболее важны характеристики потенциального эмигранта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озраст, пол, образование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,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менее важны характеристики эмигра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цент лиц с эмиграционными намерениями в домохозяйствах, получающих переводы, в  сопоставлении с долей  таких же лиц в домохозяйствах, переводов не получ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0:17:41Z</dcterms:created>
  <dc:creator>Hanna van Solinge</dc:creator>
  <dc:description/>
  <dc:language>en-US</dc:language>
  <cp:lastModifiedBy>user</cp:lastModifiedBy>
  <cp:lastPrinted>2003-08-25T15:27:04Z</cp:lastPrinted>
  <dcterms:modified xsi:type="dcterms:W3CDTF">2005-03-28T06:22:38Z</dcterms:modified>
  <cp:revision>106</cp:revision>
  <dc:subject/>
  <dc:title>Achtergrond</dc:title>
</cp:coreProperties>
</file>