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41551-145D-460F-BBC1-129F9063EE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ert tables on remittan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 determinants of remittances\li\\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 consequences of remittances (empirical resear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8153280" y="0"/>
            <a:ext cx="990720" cy="7192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304920" y="304920"/>
            <a:ext cx="7619760" cy="0"/>
          </a:xfrm>
          <a:prstGeom prst="line">
            <a:avLst/>
          </a:prstGeom>
          <a:ln w="25560">
            <a:solidFill>
              <a:srgbClr val="359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0"/>
            <a:ext cx="815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UNFPA/UNECE/NIDI Training programme on international migration, Geneva, 24-28/01/200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80880"/>
            <a:ext cx="7772400" cy="0"/>
          </a:xfrm>
          <a:prstGeom prst="line">
            <a:avLst/>
          </a:prstGeom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0" y="0"/>
          <a:ext cx="1295280" cy="97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29528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2270160" y="2443320"/>
            <a:ext cx="1839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66680"/>
            <a:ext cx="9144000" cy="50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Получение денежных переводов и их влияние на эмиграционные намерения в Египте, Марокко и Тур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Джордж Греневольд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 (NID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Литература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ilsborrow, R.E., Hugo, G., Oberai, A.S. , Zlotnik, H. 1997. International Migrat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stics. International Labour Office. Geneva.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hami, R., Fullekamp, C., Jahjah, S. 2003. Are Immigrant Remittances Flows a Source of Capita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Development. International Monetary Fund Working Paper, WP.03/189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roenewold, G. and Fokkema, T. (2002). Receipt of remittances and its effect 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migration intentions in Egypt, Morocco and Turkey. NiDi research report. The Hagu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orld Bank, 2003. Global Development Finance Report 2003, Washingt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9144000" cy="68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4308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Заключительные замечания</a:t>
            </a:r>
            <a:r>
              <a:rPr b="1" lang="en-GB" sz="2800" spc="-1" strike="noStrike">
                <a:solidFill>
                  <a:srgbClr val="8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34308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Основные различия между потенциальными эмигрантами с наиболее выраженными эмиграционными намерениями в трех странах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Египет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:  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мужчина, высокообразованный, с оплачиваемой работой, из зажиточного домохозя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Марокко: 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мужчина, уровень образования не играет роли, безработный, из бедного домохозя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Турция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: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молодежь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мужского или женского пола, из бедных домохозяйств, из сельской мест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34308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Ограничения выводов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: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миграционные намерения могут быть использованы как ориентиры для предвидения поведения, но не могут заменить  реального пове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34308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Эмигранты производят и переводят большие суммы денег в страны происхождения. Национальные и международные организации должны изучать на макро- и микро уровне последствия эмиграции в отдающих странах, в особенности – роль денежных переводов.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Б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олее того,  они должны исследовать, в какой степени мигранты и мигрантские организации могут играть роль  в стратегиях развития стран, отдающих мигран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8600" y="163440"/>
            <a:ext cx="8763120" cy="66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buClr>
                <a:srgbClr val="800000"/>
              </a:buClr>
              <a:buFont typeface="Arial"/>
              <a:buChar char="•"/>
              <a:tabLst>
                <a:tab algn="l" pos="103320"/>
                <a:tab algn="l" pos="185760"/>
                <a:tab algn="l" pos="476280"/>
                <a:tab algn="l" pos="1523880"/>
                <a:tab algn="l" pos="162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Определение</a:t>
            </a:r>
            <a:r>
              <a:rPr b="1" lang="en-GB" sz="2400" spc="-1" strike="noStrike">
                <a:solidFill>
                  <a:srgbClr val="8000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значение</a:t>
            </a:r>
            <a:r>
              <a:rPr b="1" lang="en-GB" sz="2400" spc="-1" strike="noStrike">
                <a:solidFill>
                  <a:srgbClr val="800000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изме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103320"/>
                <a:tab algn="l" pos="185760"/>
                <a:tab algn="l" pos="476280"/>
                <a:tab algn="l" pos="1523880"/>
                <a:tab algn="l" pos="162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Три потока денежных средств, направляемых в страны, составляют совокупный поток перевод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320"/>
                <a:tab algn="l" pos="185760"/>
                <a:tab algn="l" pos="476280"/>
                <a:tab algn="l" pos="1523880"/>
                <a:tab algn="l" pos="162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1.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Денежные переводы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работников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(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тоимость денежных переводов, посылаемых домой работниками, находящимися за границей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(или намеревающимися это делать)  в течение более одного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320"/>
                <a:tab algn="l" pos="185760"/>
                <a:tab algn="l" pos="476280"/>
                <a:tab algn="l" pos="1523880"/>
                <a:tab algn="l" pos="162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2.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Компенсация служащим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тоимость валового заработка лиц, проживающих за рубежом в течение менее, чем одного года.)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320"/>
                <a:tab algn="l" pos="185760"/>
                <a:tab algn="l" pos="476280"/>
                <a:tab algn="l" pos="1523880"/>
                <a:tab algn="l" pos="162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3.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еремещение мигрантов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(совокупный собственный капитал (за исключением выплат по  обязательствам), мигрантов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которые переезжают из одной страны в другую, т.е. включая   стоимость его или ее собственности 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320"/>
                <a:tab algn="l" pos="185760"/>
                <a:tab algn="l" pos="476280"/>
                <a:tab algn="l" pos="1523880"/>
                <a:tab algn="l" pos="162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103320"/>
                <a:tab algn="l" pos="185760"/>
                <a:tab algn="l" pos="476280"/>
                <a:tab algn="l" pos="1523880"/>
                <a:tab algn="l" pos="162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В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2001,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овокупные переводы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(US$ 100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миллиардов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)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занимали второе место после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FDI (US$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1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45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миллиардов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)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в развивающихся странах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Объем переводов удваивает объемы помощи, предоставляемой этим странам на развит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103320"/>
                <a:tab algn="l" pos="185760"/>
                <a:tab algn="l" pos="476280"/>
                <a:tab algn="l" pos="1523880"/>
                <a:tab algn="l" pos="162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В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2001, 60%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отоков переводов был направлены только в 10 стран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(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в порядке убывания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: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в Индию, Мексику, Филиппины, </a:t>
            </a:r>
            <a:r>
              <a:rPr b="0" i="1" lang="ru-RU" sz="1800" spc="-1" strike="noStrike" u="sng">
                <a:solidFill>
                  <a:srgbClr val="000099"/>
                </a:solidFill>
                <a:uFillTx/>
                <a:latin typeface="Arial"/>
              </a:rPr>
              <a:t>Марокко, Египет, Турцию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Ливан, Бангладеш, Иорданию, Доминиканскую республику)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Около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80 %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овокупного объема переводов производится в нефтедобывающих странах Ближнего Востока, США и Западной Европе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103320"/>
                <a:tab algn="l" pos="185760"/>
                <a:tab algn="l" pos="476280"/>
                <a:tab algn="l" pos="1523880"/>
                <a:tab algn="l" pos="162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Источники данных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: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Статистика платежного баланса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Обследования миграции, Обследования перево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103320"/>
                <a:tab algn="l" pos="185760"/>
                <a:tab algn="l" pos="476280"/>
                <a:tab algn="l" pos="1523880"/>
                <a:tab algn="l" pos="162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Неопределенная часть переводов направляется через «неофициальные каналы»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295280"/>
            <a:ext cx="457200" cy="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8458200" cy="5410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Население мира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число международных мигрантов и беженцев и переводы работников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(Source: UN Population Division, 200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46160"/>
            <a:ext cx="9144000" cy="67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800000"/>
              </a:buClr>
              <a:buFont typeface="Arial"/>
              <a:buChar char="•"/>
              <a:tabLst>
                <a:tab algn="l" pos="18576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Подтверждение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18576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Другие выводы исследования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18576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Объем полученных переводов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: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Египет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 US$ 425,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Марокко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 US$ 1350,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Турция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US$ 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18576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Полученные переводы в основном расходуются на ежедневное потребление (продукты питания, одежду)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18576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Таким образом, переводы  важны для уменьшения бедности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.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Однако не все домохозяйства получали переводы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: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в Египте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 56%,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Марокко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 77%,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Турции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58%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18576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18576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Возникающие вопросы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18576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RQ 1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.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Почему одни домохозяйства получают переводы, а другие нет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18576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       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различия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в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финансовой зависимости</a:t>
            </a:r>
            <a:r>
              <a:rPr b="1" i="1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или</a:t>
            </a:r>
            <a:r>
              <a:rPr b="1" i="1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финансовом положении</a:t>
            </a:r>
            <a:r>
              <a:rPr b="1" i="1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домохозяйств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18576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различия в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ощущении обязательств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или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экономическом положении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эмигрантов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18576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RQ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.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Исходя из важности переводов: влияет ли получение переводов на </a:t>
            </a: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эмиграционные намерения 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не мигрировавших членов домохозяйств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?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17360"/>
            <a:ext cx="9144000" cy="63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0000"/>
              </a:buClr>
              <a:buFont typeface="Arial"/>
              <a:buChar char="•"/>
              <a:tabLst>
                <a:tab algn="l" pos="18576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Да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18576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NIDI/Eurostat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исследование международной миграции из стран Средиземноморского региона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и Африки  в страны Европейского Союза, включая  домохозяйства, дающие мигрантов, и не дающие  мигрантов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обследовано от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1500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до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 2000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домохозяйств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18576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В центре внимания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: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домохозяйства, дающие мигрантов, члены домохозяйств, остающееся дома (т.е. – потенциальные эмигранты), а также члены домохозяйств, которые мигрировали, (т.е.- эмигрант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800000"/>
              </a:buClr>
              <a:buFont typeface="Arial"/>
              <a:buChar char="•"/>
              <a:tabLst>
                <a:tab algn="l" pos="18576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Методы и стратегия анали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18576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Логистическая регресс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18576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RQ 1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Зависимые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: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Домохозяйство получало переводы в течение последних 12 месяцев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 (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да/нет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18576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Независимые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: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Характеристики домохозяйства и эмигра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18576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RQ 2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Зависимые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: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отенциальный эмигрант, намерен мигрировать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 (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да/нет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18576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Независимые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: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Домохозяйство получало переводы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 (=RQ 1.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Зависимые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18576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                      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+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Характеристики домохозяйства и эмигранта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 (=RQ 1.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независим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8576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+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Характеристики потенциального эмигра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229600" y="38088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362320" y="228600"/>
            <a:ext cx="914400" cy="4648320"/>
          </a:xfrm>
          <a:custGeom>
            <a:avLst/>
            <a:gdLst>
              <a:gd name="textAreaLeft" fmla="*/ 584280 w 914400"/>
              <a:gd name="textAreaRight" fmla="*/ 914760 w 914400"/>
              <a:gd name="textAreaTop" fmla="*/ 90720 h 4648320"/>
              <a:gd name="textAreaBottom" fmla="*/ 4557600 h 464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75"/>
                  <a:pt x="10800" y="1350"/>
                </a:cubicBezTo>
                <a:lnTo>
                  <a:pt x="10800" y="5341"/>
                </a:lnTo>
                <a:cubicBezTo>
                  <a:pt x="10800" y="6016"/>
                  <a:pt x="5400" y="6691"/>
                  <a:pt x="0" y="6691"/>
                </a:cubicBezTo>
                <a:cubicBezTo>
                  <a:pt x="5400" y="6691"/>
                  <a:pt x="10800" y="7366"/>
                  <a:pt x="10800" y="8041"/>
                </a:cubicBezTo>
                <a:lnTo>
                  <a:pt x="10800" y="20250"/>
                </a:lnTo>
                <a:cubicBezTo>
                  <a:pt x="10800" y="2092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2280" y="533520"/>
            <a:ext cx="213372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0000"/>
                </a:solidFill>
                <a:latin typeface="Arial"/>
              </a:rPr>
              <a:t>RQ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Домохозяйство получает пере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(да/нет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828800" y="228600"/>
            <a:ext cx="1447920" cy="6248520"/>
          </a:xfrm>
          <a:custGeom>
            <a:avLst/>
            <a:gdLst>
              <a:gd name="textAreaLeft" fmla="*/ 925200 w 1447920"/>
              <a:gd name="textAreaRight" fmla="*/ 1448280 w 1447920"/>
              <a:gd name="textAreaTop" fmla="*/ 72720 h 6248520"/>
              <a:gd name="textAreaBottom" fmla="*/ 6175800 h 6248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4"/>
                  <a:pt x="10800" y="807"/>
                </a:cubicBezTo>
                <a:lnTo>
                  <a:pt x="10800" y="9175"/>
                </a:lnTo>
                <a:cubicBezTo>
                  <a:pt x="10800" y="9579"/>
                  <a:pt x="5400" y="9982"/>
                  <a:pt x="0" y="9982"/>
                </a:cubicBezTo>
                <a:cubicBezTo>
                  <a:pt x="5400" y="9982"/>
                  <a:pt x="10800" y="10386"/>
                  <a:pt x="10800" y="10789"/>
                </a:cubicBezTo>
                <a:lnTo>
                  <a:pt x="10800" y="20793"/>
                </a:lnTo>
                <a:cubicBezTo>
                  <a:pt x="10800" y="21197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4191120"/>
            <a:ext cx="20574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0000"/>
                </a:solidFill>
                <a:latin typeface="Arial"/>
              </a:rPr>
              <a:t>RQ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Потенциальный эмигрант, намерен мигриро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(да/нет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66680" y="2590920"/>
            <a:ext cx="0" cy="152388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1676160" y="1676520"/>
            <a:ext cx="68580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1218960" y="3124080"/>
            <a:ext cx="60948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152280"/>
            <a:ext cx="5257800" cy="67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омохозяйство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* Финансовая зависимос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 иждивенцев моложе 18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 иждивенцев старше 65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мер домохозяйства, исключая мигран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ло эмигран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*Финансовый статус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нятная ситуация с доход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ласс бедности домохозяйства (в соответствии с индексом актив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сселение в городской или сельской мест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мигранты (средства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зраст (= ко-вариац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* Ответственнос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рачный стату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должительность проживания за рубеж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вадрат продолжительности проживания за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убеж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*Социально-экономический статус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ровень образ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личие оплачиваемой  рабо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тенциальный эмигра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зра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вадрат возра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рачный стату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ровень образ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плачиваемая работа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838080" y="2362320"/>
            <a:ext cx="7772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68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800000"/>
              </a:buClr>
              <a:buFont typeface="Arial"/>
              <a:buChar char="•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Выв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00"/>
                </a:solidFill>
                <a:latin typeface="Arial"/>
              </a:rPr>
              <a:t>RQ 1.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Почему одни домохозяйства получают перевод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а другие нет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?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66"/>
              </a:buClr>
              <a:buFont typeface="Arial"/>
              <a:buChar char="•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Характеристики и домохозяйства, и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эмигранта являются важными факторами для объяснения получения переводов 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(R</a:t>
            </a:r>
            <a:r>
              <a:rPr b="1" lang="en-GB" sz="18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= ±21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до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 29%).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Однако, 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характеристики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эмигранта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почти вдвое важнее.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66"/>
              </a:buClr>
              <a:buFont typeface="Arial"/>
              <a:buChar char="•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Экономический статус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эмигрантов</a:t>
            </a:r>
            <a:r>
              <a:rPr b="1" i="1" lang="en-GB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наиболее важен. В частности, вероятность того, что домохозяйства в странах происхождения получают переводы, 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в четыре раза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выше, если эмигрант имеет оплачиваемую работу.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66"/>
              </a:buClr>
              <a:buFont typeface="Arial"/>
              <a:buChar char="•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Обязательства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эмигрантов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.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Вероятность получения перевода выше, если эмигрант – мужского пола или состоит в браке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 (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с супругом (супругой), оставшимся в домохозяйстве в стране происхождения)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.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Кроме того, только после проживания эмигранта за границей в течение 20 лет и более, вероятность того, что эмигрант посылает денежные переводы, снижается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66"/>
              </a:buClr>
              <a:buFont typeface="Arial"/>
              <a:buChar char="•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Финансовая зависимость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.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Вероятность получения переводов наиболее высока  если  главой домохозяйства в стране происхождения является  молодая замужняя женщина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66"/>
              </a:buClr>
              <a:buFont typeface="Arial"/>
              <a:buChar char="•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Финансовый статус домохозяйства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Вероятность получения переводов более бедными домохозяйствами в странах происхождения 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выше, но полученные суммы меньше, чем те, которые получают в более богатых домохозяйств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838080"/>
            <a:ext cx="9144000" cy="57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00"/>
                </a:solidFill>
                <a:latin typeface="Arial"/>
              </a:rPr>
              <a:t>RQ 2.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лияет ли получение переводов на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эмиграционные намерения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оставшихся членов домохозяйств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Влияние получения переводов на эмиграционные намерения положительное и сильное, особенно в Марокко и Турции (см. табл. на след. слайде). Переводы могут быть поняты как своего рода </a:t>
            </a: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послания финансового успеха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эмигрантов, которому стоит следовать. 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Эмигранты как «образцы для подражания» для потенциальных эмигран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Несмотря на различия между странами, характеристики домохозяйств, эмигрантов и потенциальных эмигрантов важны для объяснения эмиграционных намерений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(R</a:t>
            </a:r>
            <a:r>
              <a:rPr b="1" lang="en-GB" sz="20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=±25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до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4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Наиболее важны характеристики потенциального эмигранта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(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возраст, пол, образование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),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менее важны характеристики эмигра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3049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Процент лиц с эмиграционными намерениями в домохозяйствах, получающих переводы, в  сопоставлении с долей  таких же лиц в домохозяйствах, переводов не получающ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8305920" cy="528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1T10:17:41Z</dcterms:created>
  <dc:creator>Hanna van Solinge</dc:creator>
  <dc:description/>
  <dc:language>en-US</dc:language>
  <cp:lastModifiedBy>user</cp:lastModifiedBy>
  <cp:lastPrinted>2003-08-25T15:27:04Z</cp:lastPrinted>
  <dcterms:modified xsi:type="dcterms:W3CDTF">2005-03-28T06:22:38Z</dcterms:modified>
  <cp:revision>106</cp:revision>
  <dc:subject/>
  <dc:title>Achtergrond</dc:title>
</cp:coreProperties>
</file>