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BF88-DA8B-4FFB-8C8B-0146944B84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tables on remittan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determinants of remittances\li\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consequences of remittances (empirical resear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nidilog1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7192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04920" y="304920"/>
            <a:ext cx="7619760" cy="0"/>
          </a:xfrm>
          <a:prstGeom prst="line">
            <a:avLst/>
          </a:prstGeom>
          <a:ln w="25560">
            <a:solidFill>
              <a:srgbClr val="359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0"/>
            <a:ext cx="81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80880"/>
            <a:ext cx="777240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0"/>
          <a:ext cx="1295280" cy="97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952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270160" y="2443320"/>
            <a:ext cx="183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66680"/>
            <a:ext cx="9144000" cy="56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ceipt of Remittances and their eff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n emigration intentions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gypt, Morocco and 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George Groenewold (NID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Refer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ilsborrow, R.E., Hugo, G., Oberai, A.S. , Zlotnik, H. 1997. International Migrat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stics. International Labour Office. Geneva.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hami, R., Fullekamp, C., Jahjah, S. 2003. Are Immigrant Remittances Flows a Source of Capita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Development. International Monetary Fund Working Paper, WP.03/18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roenewold, G. and Fokkema, T. (2002). Receipt of remittances and its effect 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migration intentions in Egypt, Morocco and Turkey. NiDi research report. The Hag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orld Bank, 2003. Global Development Finance Report 2003, Washing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9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Final no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Main differences between potential emigrant with highest emigration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intentions in these three count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gypt: 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male, higher educated, with paid job, from financially better-off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house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Morocco: male, irrespective of education level, unemployed, financially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worse-off househ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urkey:    young persons, male or female, from financially worse-off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household, rur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Limitation of findings: migration intention can be used as proxy to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predict behaviour but cannot be taken as substitute for actual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migrants generate and transfer large amounts of money to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ountries of origin. National and international organisations should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xamine the macro and micro level impact of emigration in sending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ountries, especially the role of remittances. Moreover, they should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xplore to what extent migrants and migrant oganisations could play a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role in development strategies in migrant-sending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9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800000"/>
              </a:buClr>
              <a:buFont typeface="Arial"/>
              <a:buChar char="•"/>
              <a:tabLst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Definition, Relevance,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hree streams of money flowing into countries constitute total remitt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.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Worker remittances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(value of monetary transfers sent home from workers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abroad who are staying abroad (or intend to do so) for more than one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mpensation of employees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(value of gross earnings of those residing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abroad for less than one y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igrant transfers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(total net worth of migrants who move from one country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o another, thus including value of all his/her possessions, including stoc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 2001, total remittances (US$ 100 billion) rank second only to FDI (US$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45 billion) in developing economies. Remittances doubles the amount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of development-a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 2001, 60% of remittances flows to 10 countries only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Ranking: India,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Mexico, Philippines, </a:t>
            </a:r>
            <a:r>
              <a:rPr b="0" i="1" lang="en-GB" sz="1800" spc="-1" strike="noStrike" u="sng">
                <a:solidFill>
                  <a:srgbClr val="000099"/>
                </a:solidFill>
                <a:uFillTx/>
                <a:latin typeface="Arial"/>
              </a:rPr>
              <a:t>Morocco</a:t>
            </a: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"/>
              </a:rPr>
              <a:t>, </a:t>
            </a:r>
            <a:r>
              <a:rPr b="0" i="1" lang="en-GB" sz="1800" spc="-1" strike="noStrike" u="sng">
                <a:solidFill>
                  <a:srgbClr val="000099"/>
                </a:solidFill>
                <a:uFillTx/>
                <a:latin typeface="Arial"/>
              </a:rPr>
              <a:t>Egypt, Turkey</a:t>
            </a:r>
            <a:r>
              <a:rPr b="0" i="1" lang="en-GB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Lebanon, Bangladesh, Jordan,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ominican Republic). About 80 % of total remittances are generated in Middle Eastern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il producing countries, U.S.A. and Western Eur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ata sources: Balance of Payment Statistics, Migration Surveys, Remittances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known part of remittances flow through ‘unofficial channels’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295280"/>
            <a:ext cx="45720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458200" cy="541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orld Population, International Migrants Stocks and Refugees and Worker Remittances 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Source: UN Population Division, 200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80880"/>
            <a:ext cx="9144000" cy="67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Justification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Other research find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Remittances received: Egypt US$ 425, Morocco US$ 1350, Turkey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US$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Remittances mainly used to finance daily cost of living (e.g. food,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loth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Thus, remittances important to alleviate poverty. However, not all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households received remittances: Egypt 56%, Morocco 77%, Turkey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58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New questions rais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RQ 1. Why do some household receive remittances while others don’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- differences in </a:t>
            </a:r>
            <a:r>
              <a:rPr b="1" i="1" lang="en-GB" sz="1800" spc="-1" strike="noStrike">
                <a:solidFill>
                  <a:srgbClr val="000099"/>
                </a:solidFill>
                <a:latin typeface="Arial"/>
              </a:rPr>
              <a:t>financial dependency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or</a:t>
            </a:r>
            <a:r>
              <a:rPr b="1" i="1" lang="en-GB" sz="1800" spc="-1" strike="noStrike">
                <a:solidFill>
                  <a:srgbClr val="000099"/>
                </a:solidFill>
                <a:latin typeface="Arial"/>
              </a:rPr>
              <a:t> financial statu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of households?            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 - differences in </a:t>
            </a:r>
            <a:r>
              <a:rPr b="1" i="1" lang="en-GB" sz="1800" spc="-1" strike="noStrike">
                <a:solidFill>
                  <a:srgbClr val="000099"/>
                </a:solidFill>
                <a:latin typeface="Arial"/>
              </a:rPr>
              <a:t>feelings of commitment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or </a:t>
            </a:r>
            <a:r>
              <a:rPr b="1" i="1" lang="en-GB" sz="1800" spc="-1" strike="noStrike">
                <a:solidFill>
                  <a:srgbClr val="000099"/>
                </a:solidFill>
                <a:latin typeface="Arial"/>
              </a:rPr>
              <a:t>economic status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of emigra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RQ 2. Given the importance of remittances, does receipt of remittances                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affect 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emigration intentions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of household members who stayed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behind?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457200"/>
            <a:ext cx="914400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NIDI/Eurostat study on international migration from countries in the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editerranean region and Africa to countries of the European Un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vering migrant-sending and non-migrant households (n=1500 to 2000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household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Focus: migrant-sending households, members who stayed behind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(i.e. potential emigrants), and members who emigrated (i.e. emigra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Method and analysis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RQ 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pendent:   Household received remittances in past 12 months (yes/n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Independents:   Households and emigrant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RQ 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pendent:   Potential emigrant intends to emigrate (yes/n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Independents:   Household received remittances (=RQ 1. dependent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                     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+Households and emigrant characteristics (=RQ 1. indep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+Potential emigrant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29600" y="3808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362320" y="228600"/>
            <a:ext cx="914400" cy="4648320"/>
          </a:xfrm>
          <a:custGeom>
            <a:avLst/>
            <a:gdLst>
              <a:gd name="textAreaLeft" fmla="*/ 584280 w 914400"/>
              <a:gd name="textAreaRight" fmla="*/ 914760 w 914400"/>
              <a:gd name="textAreaTop" fmla="*/ 90720 h 4648320"/>
              <a:gd name="textAreaBottom" fmla="*/ 455760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5"/>
                  <a:pt x="10800" y="1350"/>
                </a:cubicBezTo>
                <a:lnTo>
                  <a:pt x="10800" y="5341"/>
                </a:lnTo>
                <a:cubicBezTo>
                  <a:pt x="10800" y="6016"/>
                  <a:pt x="5400" y="6691"/>
                  <a:pt x="0" y="6691"/>
                </a:cubicBezTo>
                <a:cubicBezTo>
                  <a:pt x="5400" y="6691"/>
                  <a:pt x="10800" y="7366"/>
                  <a:pt x="10800" y="8041"/>
                </a:cubicBezTo>
                <a:lnTo>
                  <a:pt x="10800" y="20250"/>
                </a:lnTo>
                <a:cubicBezTo>
                  <a:pt x="10800" y="2092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914400"/>
            <a:ext cx="18288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RQ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Household receives  remittances (yes/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228600"/>
            <a:ext cx="1447920" cy="6248520"/>
          </a:xfrm>
          <a:custGeom>
            <a:avLst/>
            <a:gdLst>
              <a:gd name="textAreaLeft" fmla="*/ 925200 w 1447920"/>
              <a:gd name="textAreaRight" fmla="*/ 1448280 w 1447920"/>
              <a:gd name="textAreaTop" fmla="*/ 72720 h 6248520"/>
              <a:gd name="textAreaBottom" fmla="*/ 6175800 h 624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4"/>
                  <a:pt x="10800" y="807"/>
                </a:cubicBezTo>
                <a:lnTo>
                  <a:pt x="10800" y="9175"/>
                </a:lnTo>
                <a:cubicBezTo>
                  <a:pt x="10800" y="9579"/>
                  <a:pt x="5400" y="9982"/>
                  <a:pt x="0" y="9982"/>
                </a:cubicBezTo>
                <a:cubicBezTo>
                  <a:pt x="5400" y="9982"/>
                  <a:pt x="10800" y="10386"/>
                  <a:pt x="10800" y="10789"/>
                </a:cubicBezTo>
                <a:lnTo>
                  <a:pt x="10800" y="20793"/>
                </a:lnTo>
                <a:cubicBezTo>
                  <a:pt x="10800" y="2119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191120"/>
            <a:ext cx="17524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RQ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otential emigrant intends to emigrate (yes/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2590920"/>
            <a:ext cx="0" cy="15238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160" y="1676520"/>
            <a:ext cx="68580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218960" y="312408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124080" y="304920"/>
            <a:ext cx="53341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236232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70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RQ 1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hy do some household receive remittances while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others don’t?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oth household and emigrant characteristics are important factors in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xplaining receipt of remittances (R</a:t>
            </a:r>
            <a:r>
              <a:rPr b="1" lang="en-GB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= ±21 to 29%). However, 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</a:rPr>
              <a:t>emigrant 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</a:rPr>
              <a:t>characteristics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are about twice as importa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</a:rPr>
              <a:t>Economic status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of emigrants most important. In particular, likelihood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hat households in origin countries receives remittances is 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</a:rPr>
              <a:t>four times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higher if emigrants have a paid jo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</a:rPr>
              <a:t>Commitment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of emigrants. Likelihood of receiving remittances is higher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if emigrants are male or married (with spouse in migrant-sending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household). Moreover, only after more than 20 years abroad the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likelihood that emigrants remit money dec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</a:rPr>
              <a:t>Financial dependency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. Likelihood of receiving remittances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is highest if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households in origin country are headed by young married wom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</a:rPr>
              <a:t>Financial status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of household. Poorer households in origin countries are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more likely to receive remittances but amounts received is lower than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mounts received in richer househ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838080"/>
            <a:ext cx="914400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RQ 2.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Does receipt of remittances affect 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emigration intentions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of household members who stayed behin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ffect of receipt of remittances on emigration intentions is positive and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trong, in particular in Morocco and Turkey (see table, next slide).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remittances may be interpreted as 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</a:rPr>
              <a:t>messages of financial success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of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migrants, worth following. Emigrants as ‘role-models’ for potential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migr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In spite of variation between countries, household, emigrant and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potential emigrant characteristics are important in the explanation of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migration intentions (R</a:t>
            </a:r>
            <a:r>
              <a:rPr b="1" lang="en-GB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=±25 to 4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Most important are characteristics of potential emigrant (age, sex,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ducation), least important are characteristics of emigr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ercentage of persons with emigration intentions in remittances-receiving households compared to such persons in non-receiving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30592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0:17:41Z</dcterms:created>
  <dc:creator>Hanna van Solinge</dc:creator>
  <dc:description/>
  <dc:language>en-US</dc:language>
  <cp:lastModifiedBy>George Groenewold</cp:lastModifiedBy>
  <cp:lastPrinted>2003-08-25T15:27:04Z</cp:lastPrinted>
  <dcterms:modified xsi:type="dcterms:W3CDTF">2005-02-02T14:11:56Z</dcterms:modified>
  <cp:revision>90</cp:revision>
  <dc:subject/>
  <dc:title>Achtergrond</dc:title>
</cp:coreProperties>
</file>