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56D-4AC4-4037-81DF-94463E5F4B3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0B0-EE9D-4C45-B495-3BBBC69A6B6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1D03-5174-4C1D-AECF-6DAA289C8AD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0C3B-41EF-45C4-B750-CABF0F60A6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AAF6-1886-40BB-A0DB-B30817C5A9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81E-7F2D-4031-AC16-F060317148C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DDE6-D73A-4B6C-B40E-5612BDF503C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92D-23C7-44AC-9FBE-32A3D8F3039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B9D6-4AEC-4A89-9790-F3E84ECBFB3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783-CFEC-47EC-9FF7-222781D0530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5B7-79B4-4D9F-82D7-F4FB70D6EE7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1BE-7D6C-41E5-81BB-C5FDB2F4983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685-7B52-499E-A44B-7865AEAAAFA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C6C5-1270-4A2D-9AB1-C9C898FF551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BD19-86C9-45E8-8B14-83CB8AF335D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48E6-D9DD-47D1-A0E5-C6A6E3CEA3C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073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ЕТВЕРГ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7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1-2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нализ проблем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 Скурл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Построение выборки</a:t>
            </a:r>
            <a:r>
              <a:rPr b="0" i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оступенчатая вероятностная выбор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ъем выборки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1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044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лав домохозяйств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основе  имеющейся приблизительной оценки численности населения по сельским поселениям беженцев и городской местност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ерритория выборк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116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ородских и сельских поселений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 последующим отбором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актических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спондент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371600"/>
            <a:ext cx="858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Вопросник и инструкция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нескольких языка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Полевая рабо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манд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2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рвьюера в каждой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ужчина и женщин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афганской и пакистанской национальности, владеющие несколькими языками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невная подготовка интервьюер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илотное обследовани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ая полевая работ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Обсуждение в фокус-группах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рупп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лодежь в возраст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18-25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ет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1142640"/>
            <a:ext cx="88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зультаты были представлены преимущественно в виде простых таблиц и распределений в процентах, например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52%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тят вернутьс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, 46%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тят остатьс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ем дольше проживали в Пакистане, тем меньше вероятность, что хотят вернуться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ребности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езопасность, работа, жилье, образовательные услуг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мерения вернуться не обязательно связаны с местом происхожд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прос о намерениях был трудным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от отражает настроение людей на текущий момент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следователи рекомендуют регулярно проводить последующие опросы с быстрым обследованием 500 домохозяйст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Характеристики возвратных мигрантов в Египте, Гане, Марокко и Тур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екущее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сследование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основанное на данных, полученных при изучении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ыталкивающих и притягивающих факторов международной миграции, проведенном Евростатом и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IDI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Основная цел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зучить связи между возвратной миграцией, предпринимательством и развити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арактеристи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мографические и миграционные характеристики возвратных мигрантов в сравнении с текущими мигрант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атус занятости и миграционные намерения  возвратных мигрантов в сравнении с не-мигрантами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Инструментар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обследования мигрантских и не-мигрантских домохозяйств  в выбранных странах, отдающих 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следования не были специально сфокусированы на возвратных мигрантах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и число возвратных мигрантов среди респондентов не очень велико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гипет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02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ан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33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арокко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25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урция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5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которые основные итог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звратные мигранты в Гане, Египте и Турции по-прежнему относительно молоды и экономически активны;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звратные мигранты в Марокко чаще являются пенсионера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Экономически активные возвратные мигранты в Гане и Марокко  вдвое чаще по сравнению с не -мигрантами являются работодателя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ичины возвращени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течение срока контракта или высылка из страны наблюдались часто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лишь несколько человек указали организацию собственного бизнеса в качестве причины для их возвращ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спонденты проявляли смешанные чувства по поводу  возвращени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ногие хотели мигрировать снова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сследования для миграционной политик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спешное исследование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гает государствам разрабатывать политику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гает оценить результаты проводимой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носит вклад в общественную дискуссию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о, следует реально смотреть на ситуацию и не ставить сверхзадач: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ие факторы формируют миграционную политику, и исследование - лишь один из них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лияние исследования часто бывает косвенным или растянутым во времен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чень редко случается, когда один исследовательский проект непосредственно приводит к выработке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98900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тели и лица, определяющие политику,  имеют разные цели, говорят на разных языках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меют разные временные рамки (ограничения) и разные целевые аудитор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точники противоречи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ыстрые результаты против хорошей методологии и высококачественных результат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ние редко дает готовые ответы и реш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ица, определяющие политику, используют результаты исследований избирательно, в соответствии с политическим контексто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азрыв (расхождения)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жду исследователями и </a:t>
            </a:r>
            <a:r>
              <a:rPr b="0" lang="ru-RU" sz="3000" spc="-1" strike="noStrike">
                <a:solidFill>
                  <a:srgbClr val="ffff66"/>
                </a:solidFill>
                <a:latin typeface="Arial"/>
              </a:rPr>
              <a:t>лицами, определяющими политику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которые предложения по решению проблем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ица, определяющие политику, должны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зять на себя обязательство  вырабатывать основанную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на данных (фактах) политику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 исследователи должны быть осведомлены о контексте, в котором политика вырабатывается и применятс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ранее следует согласовать, по каким вопросам требуются данные и факт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воевременност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тели должны стараться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пережать программы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ледует представлять результаты в доступном и понятном формат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сылк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: Laczko &amp; Wijkström, Enhancing the contribution of migration research to policy making: intergovernmental workshop.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International Migration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42(2), 200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ХАРАКТЕРИСТИКИ МИГРАНТА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фганские беженцы в Пакистане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следование проведено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Masood Hayat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Naghma Imdad (Dataline Services, Pakistan) and Marja Exterkate (NIDI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Основная цель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учить перечень  насущных проблем для того,  чтобы оценить возможность возвращения  и обосновать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оритетность потребности в программах обустройства в Афганистан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Достаточно точно определенные задачи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тносительно короткий </a:t>
            </a:r>
            <a:r>
              <a:rPr b="0" i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вопросник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Текущие основные демографические и социально-экономические характерис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мерения возвратной ми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ланируемое место возвращ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тенциальные потребности, связанные с возвращение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Инструментар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ыстрое обследование и фокус-групп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Целевая групп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фганские беженцы в Пакистан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Географическое распределени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кол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50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&gt;250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ревнях беженце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кол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50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городских поселениях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нцентрация в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WFP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Этническая принадлежность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ольшинство - пуштун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Временные рамки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Февраль-май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200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дготовка  обследования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4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евая рабо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6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нализ и подготовка отче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2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53:17Z</dcterms:modified>
  <cp:revision>335</cp:revision>
  <dc:subject>BuZa werkconferentie 25-02-2004</dc:subject>
  <dc:title>OS en migratie</dc:title>
</cp:coreProperties>
</file>