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F762-87C5-4B4E-9E38-0D36489B9D4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58CF-18F1-4321-B199-D51CC1F37B8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42D7-2C6F-4579-8D20-012427D23B2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6AD3-8E71-4B1D-BE76-4B540A17B60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2C8-20DD-4F9D-B7D1-13028626413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62F-13AE-43E5-A4E4-184B58C1131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0A6F-D7B1-4AB5-A5AE-A01F2A61864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387A-86C3-4D54-A34A-7E8F160ED1B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74CA-A73D-4E60-8866-99FEB8E0120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1C18-60B8-440F-9957-4573E09EE1B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2DAE-80AB-4367-8B9E-31E31541E95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22EF-60D3-4917-B4A4-DEEBE1F8ADC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F40A-2A69-4F83-9B0B-4033D7FADA3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A7E9-1EF6-48DA-BFCF-DAA3CC25F85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475F-B056-43FF-9F4E-D0BCF2A53D9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8DE4-7156-4B8D-B081-DE7B00F33C3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20732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ЧЕТВЕРГ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7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1-2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нализ проблем миграции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886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Жанет Скурл, NID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Построение выборки</a:t>
            </a:r>
            <a:r>
              <a:rPr b="0" i="1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ногоступенчатая вероятностная выборк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бъем выборки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1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044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лав домохозяйств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 основе  имеющейся приблизительной оценки численности населения по сельским поселениям беженцев и городской местности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ерритория выборки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116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ородских и сельских поселений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 последующим отбором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фактических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еспондент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371600"/>
            <a:ext cx="8583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Вопросник и инструкция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 нескольких языках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Полевая работ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8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манд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2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тервьюера в каждой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ужчина и женщина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афганской и пакистанской национальности, владеющие несколькими языками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-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невная подготовка интервьюер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илотное обследование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+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ая полевая работ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Обсуждение в фокус-группах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8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рупп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олодежь в возрасте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18-25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лет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1142640"/>
            <a:ext cx="88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езультаты были представлены преимущественно в виде простых таблиц и распределений в процентах, например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52%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хотят вернуться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, 46%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хотят остатьс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Чем дольше проживали в Пакистане, тем меньше вероятность, что хотят вернуться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требности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безопасность, работа, жилье, образовательные услуг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амерения вернуться не обязательно связаны с местом происхождени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опрос о намерениях был трудным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от отражает настроение людей на текущий момент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сследователи рекомендуют регулярно проводить последующие опросы с быстрым обследованием 500 домохозяйств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Характеристики возвратных мигрантов в Египте, Гане, Марокко и Тур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екущее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исследование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основанное на данных, полученных при изучении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ыталкивающих и притягивающих факторов международной миграции, проведенном Евростатом и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NIDI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Основная цель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изучить связи между возвратной миграцией, предпринимательством и развити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характеристик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емографические и миграционные характеристики возвратных мигрантов в сравнении с текущими мигрантам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атус занятости и миграционные намерения  возвратных мигрантов в сравнении с не-мигрантами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Инструментарий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обследования мигрантских и не-мигрантских домохозяйств  в выбранных странах, отдающих мигрант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бследования не были специально сфокусированы на возвратных мигрантах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и число возвратных мигрантов среди респондентов не очень велико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Египет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02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ана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33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арокко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25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урция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5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екоторые основные итоги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озвратные мигранты в Гане, Египте и Турции по-прежнему относительно молоды и экономически активны;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озвратные мигранты в Марокко чаще являются пенсионерам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Экономически активные возвратные мигранты в Гане и Марокко  вдвое чаще по сравнению с не -мигрантами являются работодателям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ичины возвращения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истечение срока контракта или высылка из страны наблюдались часто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лишь несколько человек указали организацию собственного бизнеса в качестве причины для их возвращени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еспонденты проявляли смешанные чувства по поводу  возвращения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ногие хотели мигрировать снова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Исследования для миграционной политик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спешное исследование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могает государствам разрабатывать политику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могает оценить результаты проводимой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носит вклад в общественную дискуссию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о, следует реально смотреть на ситуацию и не ставить сверхзадач: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ногие факторы формируют миграционную политику, и исследование - лишь один из них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лияние исследования часто бывает косвенным или растянутым во времен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чень редко случается, когда один исследовательский проект непосредственно приводит к выработке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989000"/>
            <a:ext cx="82296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следователи и лица, определяющие политику,  имеют разные цели, говорят на разных языках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имеют разные временные рамки (ограничения) и разные целевые аудитор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точники противоречий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Быстрые результаты против хорошей методологии и высококачественных результат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следование редко дает готовые ответы и реш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Лица, определяющие политику, используют результаты исследований избирательно, в соответствии с политическим контексто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Разрыв (расхождения)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между исследователями и </a:t>
            </a:r>
            <a:r>
              <a:rPr b="0" lang="ru-RU" sz="3000" spc="-1" strike="noStrike">
                <a:solidFill>
                  <a:srgbClr val="ffff66"/>
                </a:solidFill>
                <a:latin typeface="Arial"/>
              </a:rPr>
              <a:t>лицами, определяющими политику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которые предложения по решению проблемы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лица, определяющие политику, должны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зять на себя обязательство  вырабатывать основанную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на данных (фактах) политику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а исследователи должны быть осведомлены о контексте, в котором политика вырабатывается и применятс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аранее следует согласовать, по каким вопросам требуются данные и факт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воевременность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следователи должны стараться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пережать программы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ледует представлять результаты в доступном и понятном формат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сылка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: Laczko &amp; Wijkström, Enhancing the contribution of migration research to policy making: intergovernmental workshop. 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International Migration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42(2), 2004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590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ХАРАКТЕРИСТИКИ МИГРАНТА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фганские беженцы в Пакистане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сследование проведено: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Masood Hayat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Naghma Imdad (Dataline Services, Pakistan) and Marja Exterkate (NIDI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Основная цель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лучить перечень  насущных проблем для того,  чтобы оценить возможность возвращения  и обосновать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оритетность потребности в программах обустройства в Афганистан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Достаточно точно определенные задачи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--&gt;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тносительно короткий </a:t>
            </a:r>
            <a:r>
              <a:rPr b="0" i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вопросник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Текущие основные демографические и социально-экономические характеристик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мерения возвратной миграци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ланируемое место возвраще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тенциальные потребности, связанные с возвращение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Инструментарий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быстрое обследование и фокус-групп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Целевая групп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фганские беженцы в Пакистан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Географическое распределение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коло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50%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&gt;250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еревнях беженцев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коло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50%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городских поселениях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онцентрация в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WFP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Этническая принадлежность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большинство - пуштун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Временные рамки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Февраль-май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2002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дготовка  обследования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4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дел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левая работ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6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дел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нализ и подготовка отчет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: 2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дел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4-27T11:53:17Z</dcterms:modified>
  <cp:revision>335</cp:revision>
  <dc:subject>BuZa werkconferentie 25-02-2004</dc:subject>
  <dc:title>OS en migratie</dc:title>
</cp:coreProperties>
</file>