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5AD-45A9-4878-846E-1857CCB4FDE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6BA-D752-4032-A5B1-08F043D46F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4EE9-0BD3-4D17-8474-3C66F3629E1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61D-692F-4C3E-8790-76CD570593B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28F4-C39D-46EA-8F10-7237EB2FBD7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FB4-E44C-4635-BA5A-850AE598BB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4FB-0F01-45BF-AB58-1180E4DFDBB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265B-EDA4-44F8-9A9E-9FE83F30ED8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E9EB-584A-402E-9DF5-D7304CCE2FE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3D24-39FF-4D7D-BA17-128AD12C057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614-F722-49B7-8C77-930AA49F2D5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E81-78A4-43B1-8301-F1DB7BB9293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669C-CEE4-460E-B66A-ACABCD84F23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965-C382-4903-B87C-D7996F77965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4E95-51DE-4673-946C-EF0A48F8961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DED8-3017-4A59-BD37-071A967BED7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073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URSDAY January 27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1-2: analyses of migration issu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Sampling design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ulti-stage random sampl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ample size: 1,044 heads of household (from an available rough estimate of population size by refugee village and urban area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ea sampling: 116 urban and rural areas, followed by sampling of actual respon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Questionnaire &amp; manual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multi-lingu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Field work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8 teams of 2 interviewers (male, female; Afghan and Pakistan nationality; multi-lingual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2-day interviewer train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ilot + main field 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Focus group discussion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8 groups (young people 18-25 year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sults were mostly presented in the form of simple tables and percentages, e.g.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52% want to return, 46% want to stay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the longer in Pakistan, the less likely to want to return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needs: security, jobs, housing, education servi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turn intentions not necessarily to place of origi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the question on intentions was difficult: reflects people’s mood of the day; the researchers recommend a regular follow-up, with quick surveys among 500 household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rofiles of returnees in Egypt, Ghana, Morocco and Turke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urrent study, based on data from the Eurostat/NIDI study on the push and pull factors of international migration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Main aim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to study the linkages between return migration, entrepreneurship and developmen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ofiles: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mographic and migration characteristics of return migrants in comparison current migra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mployment status and migration intentions of returnees in comparison with non-migra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Instrument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surveys among migrant and non-migrant households in selected migrant-sending countr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surveys did not specifically focus on return migrants, and the number of returnees among the respondents is not very large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gypt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,02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hana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33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orocco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25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urkey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5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 basic resul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turnees in Ghana, Egypt and Turkey are still relatively young and economically active; returnees in Morocco are more likely retire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conomically active returnees in Ghana and Morocco are twice as likely as non-migrants to work as employer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Reasons for return: end of contract or expulsion appeared frequent; only a few stated setting up a business as their reason to retur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xed feelings about having returned: many want to migrate again.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Research for policy ma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uccessful policy research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elps states to develop of polic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elps assess the impact of existing polic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tributes to the public deba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ut be modest / realistic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ny factors shape migration policy and research is just one of the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search impact is often indirect or long-term: it’s rare that one research project results in policy making direct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searchers and policy makers have different objectives, speak different languages, have different time frames and target audie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urces of conflict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apid results versus sound methodology and high quality resul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earch rarely provides ready made answers and solu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makers use research results selectively, in tune with policy contex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99072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The gap between researchers and policy maker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 suggestions for solutions: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makers should be committed to evidence-based policy making, and researchers need to be aware of policy contex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gree in advance on what evidence is need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imeliness: researchers should attempt to anticipate policy agenda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9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esent results in easily accessible and comprehensible forma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Reference: Laczko &amp; Wijkström, Enhancing the contribution of migration research to policy making: intergovernmental workshop.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International Migration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42(2), 200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GRANT PROF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Afghan refugees in Pakist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udy carried out by Masood Hayat and Naghma Imdad (Dataline Services, Pakistan) and Marja Exterkate (NIDI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Main aim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obtain a list of relevant issues to assess return and to prioritise needs for rehabilitation programmes in Afghanistan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airly narrowly defined objectives --&gt; relatively short </a:t>
            </a:r>
            <a:r>
              <a:rPr b="0" i="1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questionnaire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urrent basic demographic and socio-economic character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turn inten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nded place of 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tential needs related to 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Instrument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rapid survey &amp; focus grou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Target populatio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Afghan refugees in Pakista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Geographic distributio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ca. 50% in &gt;250 refugee villages, ca. 50% in urban areas (concentration in NWFP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Ethnicity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majority Pashtu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ime schedul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ebruary-May 200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rvey preparation: 4 wee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eld work: 6 wee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alysis and reporting: 2 week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9:17Z</dcterms:modified>
  <cp:revision>325</cp:revision>
  <dc:subject>BuZa werkconferentie 25-02-2004</dc:subject>
  <dc:title>OS en migratie</dc:title>
</cp:coreProperties>
</file>